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0"/>
            <a:ext cx="3036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76560" y="0"/>
            <a:ext cx="3036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tIns="47880" bIns="47880" anchor="ctr">
            <a:noAutofit/>
          </a:bodyPr>
          <a:p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0" y="8831160"/>
            <a:ext cx="3036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3976560" y="8838720"/>
            <a:ext cx="303552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67870-51BC-472C-ACC2-0D049E3422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F7323-F80C-4B66-B36D-34C3CB8C54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DEBFFFD1-B43B-4A59-B90D-A3737E84B0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568AE-0CF8-40EE-98A2-8CFB6B66504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36E0B-2828-4A27-AF68-E61313CF81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3556E33E-19CD-4EB4-BE10-D6AF0DD0C4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5B207-D621-4179-A021-486E83DF53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1079A-CFC2-4C68-8B09-C9D548BAFD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59C2E63C-075E-45BE-A37C-AA57B1A884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CB479-7237-4936-BB99-B28688EBE5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679E8739-CD7B-4D71-A6BB-0A8CE24AAF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2"/>
          <p:cNvSpPr/>
          <p:nvPr/>
        </p:nvSpPr>
        <p:spPr>
          <a:xfrm>
            <a:off x="1170000" y="698400"/>
            <a:ext cx="46767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E0C64-02D7-4B3F-9F5A-052CF6CBEE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E0310CDB-FF75-4EEC-868C-5B4B52F1B6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4B7F8-50DC-46E8-8284-BB1A8D58BC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6AA41-82AA-4C10-A841-C1FE46AC2B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447077E8-9A85-4DB6-A499-803B8D8AF3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AA396-D395-4F01-99E5-9D3138134F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4C5B6C8C-FBFD-40CE-9DF6-DE6BC20E20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C6027-D27E-49DB-8715-A3C90A07DF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A9C3A82E-329F-4575-8C81-9A63C2E0A6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39795-CD69-4B8F-B9DA-866F5ECD66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2259D03A-332F-4F6C-8627-42DB18CE00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EEB89-3040-4189-916A-EC00AC83BB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28973C41-3D00-49B7-91D9-5B18929712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0D8DA-3B5C-4D74-950E-539428A47F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DE50A-3BFC-4E09-A5D4-3623A29643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93354F42-B0A4-45DB-A090-FB4FDD1B66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D781B-ABF6-41A1-B706-39A0BCE40F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0130FF9E-FC77-4D59-8461-297C93765E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DD115-B67E-4DA6-A03F-624A97283F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AD9B50B2-B4D0-4222-9982-C5411CFD27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B9D7D-BCD0-42E5-A65F-BA3402629F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8099B953-37B3-4EDF-A7C7-192F10E612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6A010-09FA-4517-9B34-862BBEFA66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DB3E6-2A54-4325-9118-761729C12E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6D6A3334-496D-4A34-A27F-7424880362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F901D-A260-482C-8B05-388E6FADAE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94455-71EE-4530-9EAA-DF47D7B57E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092AA-D6C5-4967-8B50-1D2D1E032F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466A3042-1D14-4B09-8941-E0D300372C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43E70-C941-49E9-B0F2-3FF88B5990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E1F677AC-400F-4DF3-94DB-B83DE4EA54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B447C-5BEF-40D6-B313-2B12B53824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EE98FE6B-D173-4E92-BB9E-9BB3D3501D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6FBCB-4F7A-4A50-AEC0-A0717D1892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80A6CB76-9EBB-464E-B90E-CDF115973E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88D0B-4BB1-4F7E-80CA-3A1390D933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540A6-3196-4A2F-9CF1-1448DFA289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3913C-B553-402E-9596-1ABD3B0D5E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198D5-E9A4-4125-AB05-4BEE2DF202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85B8B-7FE4-458E-8BB7-B42002CCE6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C35E1-D13B-4613-9B51-41BAA0FC9E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69106515-408A-42CA-811D-E57A93991E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1865-E45C-4B4F-A18E-319D4C541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38EC9-DF46-4187-8E5A-F8547D1DE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87DC-8EE3-42D2-BC8A-2F0DCB895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6D1B-51CA-4773-AAE5-EDAF50DF4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28D73-AC17-4F23-900E-70019E67DD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55460-A988-4100-A062-5AB1E480F3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F910-5F72-412C-A29F-36048331B4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8708-2F10-4347-8F09-C83E7A47BF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E35C-2801-48C6-A66D-F14EB538B4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31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B8DD-3EE9-4584-9447-DC346988CC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8774E-98B2-4787-901A-2A0BC005FD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7DCF0-D1D7-4B93-B8C9-D46F720E1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3581-C18F-4970-9023-85CBAFD220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073E-4044-42C5-A484-F845726B86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730E-1C80-4704-9EF2-77BAC1A092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406E-F59E-4B4E-A8B8-7356BBF4D9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C664-266D-4E7F-B47F-9D63DFB934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6D5F-34DF-4A15-B839-110A473BE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6025-D122-4566-A67E-2F97A6D60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0E92-D11E-4689-9F73-564F9C5D6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31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125E-6AA4-4977-8229-609916084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BB03-ADF7-469A-A1C4-4C22B1F0C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286C-31B6-4040-95AC-63FD16EBE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5538-98B4-4497-BECA-FCDC64524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3477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30960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74720" indent="-336600"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35560"/>
            <a:ext cx="2128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0600"/>
            <a:ext cx="2890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5E4C8E-FC06-46B5-988D-3A22F25F5092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1688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6235560"/>
            <a:ext cx="2128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124080" y="6235560"/>
            <a:ext cx="2890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655272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8743E7-5477-4C46-8005-224B56F63668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3477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30960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74720" indent="-336600"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42960" y="149688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6633"/>
                </a:solidFill>
                <a:latin typeface="Garamond"/>
              </a:rPr>
              <a:t>Seamless VoWLAN Handoff Management based on Estimation of AP Queue Length &amp; Frame Re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371600" y="441324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hammad Nis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duate School of Information Sc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ra Institute of Science &amp;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70577DA-17B8-4641-B585-5F1035D4842B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Decision Metric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ansmission of Request-To-Send (RTS) Fra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ric for indicating wireless link condi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 Queue Leng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ric for indicating congestion state at A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DF91C-1740-40A8-ABAA-8BDDA38537E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Request To Send (RTS) Retr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57200" y="1600200"/>
            <a:ext cx="51228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prevent collision in wireless network due to hidden no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clear out are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TS Retries can indicate condition of wireless lin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5697000" y="2295360"/>
            <a:ext cx="3364560" cy="3363840"/>
            <a:chOff x="5697000" y="2295360"/>
            <a:chExt cx="3364560" cy="3363840"/>
          </a:xfrm>
        </p:grpSpPr>
        <p:grpSp>
          <p:nvGrpSpPr>
            <p:cNvPr id="156" name="Group 4"/>
            <p:cNvGrpSpPr/>
            <p:nvPr/>
          </p:nvGrpSpPr>
          <p:grpSpPr>
            <a:xfrm>
              <a:off x="5851080" y="2655720"/>
              <a:ext cx="2887920" cy="3003480"/>
              <a:chOff x="5851080" y="2655720"/>
              <a:chExt cx="2887920" cy="3003480"/>
            </a:xfrm>
          </p:grpSpPr>
          <p:sp>
            <p:nvSpPr>
              <p:cNvPr id="157" name="Line 5"/>
              <p:cNvSpPr/>
              <p:nvPr/>
            </p:nvSpPr>
            <p:spPr>
              <a:xfrm>
                <a:off x="5858640" y="2781000"/>
                <a:ext cx="1080" cy="28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6"/>
              <p:cNvSpPr/>
              <p:nvPr/>
            </p:nvSpPr>
            <p:spPr>
              <a:xfrm>
                <a:off x="8732520" y="2781000"/>
                <a:ext cx="1440" cy="28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7"/>
              <p:cNvSpPr/>
              <p:nvPr/>
            </p:nvSpPr>
            <p:spPr>
              <a:xfrm>
                <a:off x="5929920" y="2997000"/>
                <a:ext cx="280224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8"/>
              <p:cNvSpPr/>
              <p:nvPr/>
            </p:nvSpPr>
            <p:spPr>
              <a:xfrm flipH="1">
                <a:off x="5923800" y="3355560"/>
                <a:ext cx="274176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9"/>
              <p:cNvSpPr/>
              <p:nvPr/>
            </p:nvSpPr>
            <p:spPr>
              <a:xfrm>
                <a:off x="5929920" y="3931560"/>
                <a:ext cx="2802240" cy="360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0"/>
              <p:cNvSpPr/>
              <p:nvPr/>
            </p:nvSpPr>
            <p:spPr>
              <a:xfrm flipH="1">
                <a:off x="5851080" y="4435920"/>
                <a:ext cx="288792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Text Box 11"/>
              <p:cNvSpPr/>
              <p:nvPr/>
            </p:nvSpPr>
            <p:spPr>
              <a:xfrm>
                <a:off x="6915240" y="265572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T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Text Box 12"/>
              <p:cNvSpPr/>
              <p:nvPr/>
            </p:nvSpPr>
            <p:spPr>
              <a:xfrm>
                <a:off x="6845760" y="323172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T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Text Box 13"/>
              <p:cNvSpPr/>
              <p:nvPr/>
            </p:nvSpPr>
            <p:spPr>
              <a:xfrm>
                <a:off x="7152840" y="3715560"/>
                <a:ext cx="84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14"/>
              <p:cNvSpPr/>
              <p:nvPr/>
            </p:nvSpPr>
            <p:spPr>
              <a:xfrm>
                <a:off x="6916680" y="459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15"/>
            <p:cNvSpPr/>
            <p:nvPr/>
          </p:nvSpPr>
          <p:spPr>
            <a:xfrm>
              <a:off x="5697000" y="22953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8575920" y="22953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9" name="Picture 17" descr=""/>
          <p:cNvPicPr/>
          <p:nvPr/>
        </p:nvPicPr>
        <p:blipFill>
          <a:blip r:embed="rId1"/>
          <a:stretch/>
        </p:blipFill>
        <p:spPr>
          <a:xfrm>
            <a:off x="5643720" y="1857240"/>
            <a:ext cx="509400" cy="487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" descr=""/>
          <p:cNvPicPr/>
          <p:nvPr/>
        </p:nvPicPr>
        <p:blipFill>
          <a:blip r:embed="rId2"/>
          <a:stretch/>
        </p:blipFill>
        <p:spPr>
          <a:xfrm>
            <a:off x="8273880" y="1643040"/>
            <a:ext cx="798840" cy="7318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19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B7440-48DE-4C54-A8D9-84737F2B00F0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7920"/>
            <a:ext cx="8224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Why RTS Frame Retrie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WLAN employ multi-rate fun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ally change transmission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S frame always transmitted at lowest rate (6 Mb/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N can properly detect wireless link condition in fixed transmission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6CF3E-9974-4684-AAA9-984C99B81227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AP Queue Lengt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457200" y="1600200"/>
            <a:ext cx="82296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th increase of MNs in WLAN, packets queued in AP buffer also incr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urrent widely deployed IEEE802.11(a/b/g) standard does not provide mechanism to report AP Queue Length Statu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imated from M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4E50C-4269-4FA0-9CD6-B0843B9208F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16000"/>
            <a:ext cx="822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Estimating AP Queue Length using ICMP messag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1857240" y="1357200"/>
            <a:ext cx="5427360" cy="4795560"/>
            <a:chOff x="1857240" y="1357200"/>
            <a:chExt cx="5427360" cy="4795560"/>
          </a:xfrm>
        </p:grpSpPr>
        <p:sp>
          <p:nvSpPr>
            <p:cNvPr id="180" name="Line 3"/>
            <p:cNvSpPr/>
            <p:nvPr/>
          </p:nvSpPr>
          <p:spPr>
            <a:xfrm>
              <a:off x="2701440" y="2333160"/>
              <a:ext cx="1440" cy="381960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4"/>
            <p:cNvSpPr/>
            <p:nvPr/>
          </p:nvSpPr>
          <p:spPr>
            <a:xfrm>
              <a:off x="5769000" y="2333160"/>
              <a:ext cx="1440" cy="381960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>
              <a:off x="2731680" y="26377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2731680" y="33109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>
              <a:off x="2701440" y="5357880"/>
              <a:ext cx="3035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2731680" y="569448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>
              <a:off x="2731680" y="502308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>
              <a:off x="2731680" y="29743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Picture 11" descr=""/>
            <p:cNvPicPr/>
            <p:nvPr/>
          </p:nvPicPr>
          <p:blipFill>
            <a:blip r:embed="rId1"/>
            <a:stretch/>
          </p:blipFill>
          <p:spPr>
            <a:xfrm>
              <a:off x="2447640" y="1539360"/>
              <a:ext cx="5090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2" descr=""/>
            <p:cNvPicPr/>
            <p:nvPr/>
          </p:nvPicPr>
          <p:blipFill>
            <a:blip r:embed="rId2"/>
            <a:stretch/>
          </p:blipFill>
          <p:spPr>
            <a:xfrm>
              <a:off x="5384880" y="1357200"/>
              <a:ext cx="79812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3"/>
            <p:cNvSpPr/>
            <p:nvPr/>
          </p:nvSpPr>
          <p:spPr>
            <a:xfrm>
              <a:off x="2444400" y="2026800"/>
              <a:ext cx="4741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5577120" y="2026800"/>
              <a:ext cx="43596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3884040" y="2333160"/>
              <a:ext cx="567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3884040" y="4472640"/>
              <a:ext cx="567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3884040" y="2729880"/>
              <a:ext cx="567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8"/>
            <p:cNvSpPr/>
            <p:nvPr/>
          </p:nvSpPr>
          <p:spPr>
            <a:xfrm>
              <a:off x="3884040" y="4779000"/>
              <a:ext cx="567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9"/>
            <p:cNvSpPr/>
            <p:nvPr/>
          </p:nvSpPr>
          <p:spPr>
            <a:xfrm>
              <a:off x="2731680" y="471708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3884040" y="5481720"/>
              <a:ext cx="567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3499560" y="5102280"/>
              <a:ext cx="1629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CMP (Probe Reply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3371040" y="3085560"/>
              <a:ext cx="182196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CMP (Probe Request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3"/>
            <p:cNvSpPr/>
            <p:nvPr/>
          </p:nvSpPr>
          <p:spPr>
            <a:xfrm>
              <a:off x="2731680" y="36475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3884040" y="3432960"/>
              <a:ext cx="567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5"/>
            <p:cNvSpPr/>
            <p:nvPr/>
          </p:nvSpPr>
          <p:spPr>
            <a:xfrm flipH="1">
              <a:off x="2278800" y="3310920"/>
              <a:ext cx="331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6"/>
            <p:cNvSpPr/>
            <p:nvPr/>
          </p:nvSpPr>
          <p:spPr>
            <a:xfrm flipH="1">
              <a:off x="2278800" y="5357880"/>
              <a:ext cx="33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 flipH="1">
              <a:off x="5857560" y="3647520"/>
              <a:ext cx="331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28"/>
            <p:cNvSpPr/>
            <p:nvPr/>
          </p:nvSpPr>
          <p:spPr>
            <a:xfrm flipH="1">
              <a:off x="5857560" y="4717080"/>
              <a:ext cx="331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9"/>
            <p:cNvSpPr/>
            <p:nvPr/>
          </p:nvSpPr>
          <p:spPr>
            <a:xfrm>
              <a:off x="2476080" y="3340800"/>
              <a:ext cx="1440" cy="19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30"/>
            <p:cNvSpPr/>
            <p:nvPr/>
          </p:nvSpPr>
          <p:spPr>
            <a:xfrm>
              <a:off x="1857240" y="4136040"/>
              <a:ext cx="6984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T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1"/>
            <p:cNvSpPr/>
            <p:nvPr/>
          </p:nvSpPr>
          <p:spPr>
            <a:xfrm>
              <a:off x="5992920" y="3737880"/>
              <a:ext cx="1440" cy="9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6023160" y="4075560"/>
              <a:ext cx="12614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euing Dela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Slide Number Placeholder 3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2FB0D-651C-4AEF-9BA6-72820331462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Simulation Experi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evaluate performance of proposed Handoff Decision Metrics and Handoff Strate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mulation Tool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net 4.0.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B9183-90E8-447A-A87D-22069D04BD1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Simulation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814320" y="1600200"/>
            <a:ext cx="7400520" cy="3828600"/>
            <a:chOff x="814320" y="1600200"/>
            <a:chExt cx="7400520" cy="3828600"/>
          </a:xfrm>
        </p:grpSpPr>
        <p:sp>
          <p:nvSpPr>
            <p:cNvPr id="216" name="Rectangle 3"/>
            <p:cNvSpPr/>
            <p:nvPr/>
          </p:nvSpPr>
          <p:spPr>
            <a:xfrm>
              <a:off x="814320" y="1600200"/>
              <a:ext cx="370044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oIP Code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>
              <a:off x="4514760" y="1600200"/>
              <a:ext cx="369900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.7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>
              <a:off x="814320" y="2146680"/>
              <a:ext cx="370044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LAN Stand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"/>
            <p:cNvSpPr/>
            <p:nvPr/>
          </p:nvSpPr>
          <p:spPr>
            <a:xfrm>
              <a:off x="4514760" y="2146680"/>
              <a:ext cx="369900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EEE 802.11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814320" y="2693160"/>
              <a:ext cx="3700440" cy="5479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ported Data R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4514760" y="2693160"/>
              <a:ext cx="3699000" cy="5479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, 9, 12, 18, 24, 36, 48, 54Mb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814320" y="3241080"/>
              <a:ext cx="370044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ding Mod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514760" y="3241080"/>
              <a:ext cx="369900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kagami Ricean K = 4.8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814320" y="3787920"/>
              <a:ext cx="370044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F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2"/>
            <p:cNvSpPr/>
            <p:nvPr/>
          </p:nvSpPr>
          <p:spPr>
            <a:xfrm>
              <a:off x="4514760" y="3787920"/>
              <a:ext cx="369900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 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814320" y="4334400"/>
              <a:ext cx="370044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lot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4514760" y="4334400"/>
              <a:ext cx="369900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814320" y="4880880"/>
              <a:ext cx="370044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W min, CWm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6"/>
            <p:cNvSpPr/>
            <p:nvPr/>
          </p:nvSpPr>
          <p:spPr>
            <a:xfrm>
              <a:off x="4514760" y="4880880"/>
              <a:ext cx="369900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,  102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4514760" y="1600200"/>
              <a:ext cx="1080" cy="382716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>
              <a:off x="814320" y="214668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9"/>
            <p:cNvSpPr/>
            <p:nvPr/>
          </p:nvSpPr>
          <p:spPr>
            <a:xfrm>
              <a:off x="814320" y="269316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0"/>
            <p:cNvSpPr/>
            <p:nvPr/>
          </p:nvSpPr>
          <p:spPr>
            <a:xfrm>
              <a:off x="814320" y="324108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>
              <a:off x="814320" y="378792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2"/>
            <p:cNvSpPr/>
            <p:nvPr/>
          </p:nvSpPr>
          <p:spPr>
            <a:xfrm>
              <a:off x="814320" y="433440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3"/>
            <p:cNvSpPr/>
            <p:nvPr/>
          </p:nvSpPr>
          <p:spPr>
            <a:xfrm>
              <a:off x="814320" y="488088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24"/>
            <p:cNvSpPr/>
            <p:nvPr/>
          </p:nvSpPr>
          <p:spPr>
            <a:xfrm>
              <a:off x="814320" y="1600200"/>
              <a:ext cx="1080" cy="382716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25"/>
            <p:cNvSpPr/>
            <p:nvPr/>
          </p:nvSpPr>
          <p:spPr>
            <a:xfrm>
              <a:off x="8213760" y="1600200"/>
              <a:ext cx="1080" cy="382716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26"/>
            <p:cNvSpPr/>
            <p:nvPr/>
          </p:nvSpPr>
          <p:spPr>
            <a:xfrm>
              <a:off x="814320" y="160020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27"/>
            <p:cNvSpPr/>
            <p:nvPr/>
          </p:nvSpPr>
          <p:spPr>
            <a:xfrm>
              <a:off x="814320" y="542736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lide Number Placeholder 28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B6D93-8334-4714-9BE7-EC9B5006F67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Assessment of VoIP Qual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an Opinion Score (MOS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model standardized by ITU-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ed based on R-fac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= 94.2 - I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I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 &gt; 3.6 indicates adequate VoIP call qu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4500720" y="1571760"/>
            <a:ext cx="4331880" cy="2549160"/>
            <a:chOff x="4500720" y="1571760"/>
            <a:chExt cx="4331880" cy="2549160"/>
          </a:xfrm>
        </p:grpSpPr>
        <p:sp>
          <p:nvSpPr>
            <p:cNvPr id="245" name="Rectangle 4"/>
            <p:cNvSpPr/>
            <p:nvPr/>
          </p:nvSpPr>
          <p:spPr>
            <a:xfrm>
              <a:off x="4500720" y="1571760"/>
              <a:ext cx="1443240" cy="644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-fac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5943960" y="1571760"/>
              <a:ext cx="1443600" cy="644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7387560" y="1571760"/>
              <a:ext cx="1443600" cy="644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ser Experi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4500720" y="2216520"/>
              <a:ext cx="1443240" cy="38052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5943960" y="2216520"/>
              <a:ext cx="1443600" cy="38052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7387560" y="2216520"/>
              <a:ext cx="1443600" cy="38052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cell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4500720" y="2597400"/>
              <a:ext cx="1443240" cy="38016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1"/>
            <p:cNvSpPr/>
            <p:nvPr/>
          </p:nvSpPr>
          <p:spPr>
            <a:xfrm>
              <a:off x="5943960" y="2597400"/>
              <a:ext cx="1443600" cy="38016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2"/>
            <p:cNvSpPr/>
            <p:nvPr/>
          </p:nvSpPr>
          <p:spPr>
            <a:xfrm>
              <a:off x="7387560" y="2597400"/>
              <a:ext cx="1443600" cy="38016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4500720" y="2977920"/>
              <a:ext cx="144324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4"/>
            <p:cNvSpPr/>
            <p:nvPr/>
          </p:nvSpPr>
          <p:spPr>
            <a:xfrm>
              <a:off x="5943960" y="29779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15"/>
            <p:cNvSpPr/>
            <p:nvPr/>
          </p:nvSpPr>
          <p:spPr>
            <a:xfrm>
              <a:off x="7387560" y="29779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4500720" y="3358440"/>
              <a:ext cx="1443240" cy="3805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5943960" y="3358440"/>
              <a:ext cx="1443600" cy="3805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8"/>
            <p:cNvSpPr/>
            <p:nvPr/>
          </p:nvSpPr>
          <p:spPr>
            <a:xfrm>
              <a:off x="7387560" y="3358440"/>
              <a:ext cx="1443600" cy="3805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9"/>
            <p:cNvSpPr/>
            <p:nvPr/>
          </p:nvSpPr>
          <p:spPr>
            <a:xfrm>
              <a:off x="4500720" y="3739320"/>
              <a:ext cx="144324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20"/>
            <p:cNvSpPr/>
            <p:nvPr/>
          </p:nvSpPr>
          <p:spPr>
            <a:xfrm>
              <a:off x="5943960" y="37393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7387560" y="37393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22"/>
            <p:cNvSpPr/>
            <p:nvPr/>
          </p:nvSpPr>
          <p:spPr>
            <a:xfrm>
              <a:off x="5943960" y="1571760"/>
              <a:ext cx="144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3"/>
            <p:cNvSpPr/>
            <p:nvPr/>
          </p:nvSpPr>
          <p:spPr>
            <a:xfrm>
              <a:off x="7387560" y="1571760"/>
              <a:ext cx="144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24"/>
            <p:cNvSpPr/>
            <p:nvPr/>
          </p:nvSpPr>
          <p:spPr>
            <a:xfrm>
              <a:off x="4500720" y="2216520"/>
              <a:ext cx="4330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5"/>
            <p:cNvSpPr/>
            <p:nvPr/>
          </p:nvSpPr>
          <p:spPr>
            <a:xfrm>
              <a:off x="4500720" y="259740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26"/>
            <p:cNvSpPr/>
            <p:nvPr/>
          </p:nvSpPr>
          <p:spPr>
            <a:xfrm>
              <a:off x="4500720" y="297792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27"/>
            <p:cNvSpPr/>
            <p:nvPr/>
          </p:nvSpPr>
          <p:spPr>
            <a:xfrm>
              <a:off x="4500720" y="3358440"/>
              <a:ext cx="4330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28"/>
            <p:cNvSpPr/>
            <p:nvPr/>
          </p:nvSpPr>
          <p:spPr>
            <a:xfrm>
              <a:off x="4500720" y="373932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29"/>
            <p:cNvSpPr/>
            <p:nvPr/>
          </p:nvSpPr>
          <p:spPr>
            <a:xfrm>
              <a:off x="4500720" y="1571760"/>
              <a:ext cx="108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30"/>
            <p:cNvSpPr/>
            <p:nvPr/>
          </p:nvSpPr>
          <p:spPr>
            <a:xfrm>
              <a:off x="8831160" y="1571760"/>
              <a:ext cx="144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31"/>
            <p:cNvSpPr/>
            <p:nvPr/>
          </p:nvSpPr>
          <p:spPr>
            <a:xfrm>
              <a:off x="4500720" y="157176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4500720" y="411984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Slide Number Placeholder 3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2BAF6-11C1-4461-99D9-D55E31FDDD9F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Evaluation of Proposed Handoff Metric (RTS Retries):</a:t>
            </a:r>
            <a:br>
              <a:rPr sz="2600"/>
            </a:b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Simulation Model &amp; Result for RTS Re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3929040" y="2143080"/>
            <a:ext cx="5072040" cy="3551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3"/>
          <p:cNvGrpSpPr/>
          <p:nvPr/>
        </p:nvGrpSpPr>
        <p:grpSpPr>
          <a:xfrm>
            <a:off x="142920" y="2428920"/>
            <a:ext cx="3643200" cy="3420000"/>
            <a:chOff x="142920" y="2428920"/>
            <a:chExt cx="3643200" cy="3420000"/>
          </a:xfrm>
        </p:grpSpPr>
        <p:pic>
          <p:nvPicPr>
            <p:cNvPr id="278" name="Picture 4" descr=""/>
            <p:cNvPicPr/>
            <p:nvPr/>
          </p:nvPicPr>
          <p:blipFill>
            <a:blip r:embed="rId2"/>
            <a:stretch/>
          </p:blipFill>
          <p:spPr>
            <a:xfrm>
              <a:off x="941400" y="3075120"/>
              <a:ext cx="4208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5"/>
            <p:cNvSpPr/>
            <p:nvPr/>
          </p:nvSpPr>
          <p:spPr>
            <a:xfrm>
              <a:off x="941400" y="3668760"/>
              <a:ext cx="4208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0" name="Picture 6" descr=""/>
            <p:cNvPicPr/>
            <p:nvPr/>
          </p:nvPicPr>
          <p:blipFill>
            <a:blip r:embed="rId3"/>
            <a:stretch/>
          </p:blipFill>
          <p:spPr>
            <a:xfrm>
              <a:off x="2341440" y="3159000"/>
              <a:ext cx="4255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7"/>
            <p:cNvSpPr/>
            <p:nvPr/>
          </p:nvSpPr>
          <p:spPr>
            <a:xfrm>
              <a:off x="2341440" y="3789360"/>
              <a:ext cx="425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8" descr=""/>
            <p:cNvPicPr/>
            <p:nvPr/>
          </p:nvPicPr>
          <p:blipFill>
            <a:blip r:embed="rId4"/>
            <a:stretch/>
          </p:blipFill>
          <p:spPr>
            <a:xfrm>
              <a:off x="2295360" y="3629160"/>
              <a:ext cx="55260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Line 9"/>
            <p:cNvSpPr/>
            <p:nvPr/>
          </p:nvSpPr>
          <p:spPr>
            <a:xfrm flipH="1">
              <a:off x="1386000" y="3382920"/>
              <a:ext cx="9633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1230480" y="5183280"/>
              <a:ext cx="2555640" cy="636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 flipH="1">
              <a:off x="1228680" y="4205160"/>
              <a:ext cx="1200240" cy="127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2763720" y="4135320"/>
              <a:ext cx="1022400" cy="132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13"/>
            <p:cNvSpPr/>
            <p:nvPr/>
          </p:nvSpPr>
          <p:spPr>
            <a:xfrm>
              <a:off x="2775240" y="379872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2279520" y="28465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957240" y="242892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0" name="Picture 16" descr=""/>
            <p:cNvPicPr/>
            <p:nvPr/>
          </p:nvPicPr>
          <p:blipFill>
            <a:blip r:embed="rId5"/>
            <a:stretch/>
          </p:blipFill>
          <p:spPr>
            <a:xfrm>
              <a:off x="2274840" y="5224320"/>
              <a:ext cx="4190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17"/>
            <p:cNvSpPr/>
            <p:nvPr/>
          </p:nvSpPr>
          <p:spPr>
            <a:xfrm>
              <a:off x="2695680" y="5486400"/>
              <a:ext cx="9698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8"/>
            <p:cNvSpPr/>
            <p:nvPr/>
          </p:nvSpPr>
          <p:spPr>
            <a:xfrm>
              <a:off x="2297520" y="5541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 flipH="1">
              <a:off x="2570040" y="3510000"/>
              <a:ext cx="1584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4" name="AutoShape 20"/>
            <p:cNvCxnSpPr/>
            <p:nvPr/>
          </p:nvCxnSpPr>
          <p:spPr>
            <a:xfrm flipH="1" rot="16200000">
              <a:off x="641880" y="3857400"/>
              <a:ext cx="2215440" cy="786600"/>
            </a:xfrm>
            <a:prstGeom prst="bentConnector3">
              <a:avLst>
                <a:gd name="adj1" fmla="val 845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  <p:sp>
          <p:nvSpPr>
            <p:cNvPr id="295" name="Text Box 21"/>
            <p:cNvSpPr/>
            <p:nvPr/>
          </p:nvSpPr>
          <p:spPr>
            <a:xfrm>
              <a:off x="142920" y="3648240"/>
              <a:ext cx="18572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N speed = 1 m/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TextBox 22"/>
          <p:cNvSpPr/>
          <p:nvPr/>
        </p:nvSpPr>
        <p:spPr>
          <a:xfrm>
            <a:off x="5357880" y="176364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_thr = 0.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Slide Number Placeholder 2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F2E36-A0EC-4A94-A5A5-7AD5898BA77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traight Connector 25"/>
          <p:cNvSpPr/>
          <p:nvPr/>
        </p:nvSpPr>
        <p:spPr>
          <a:xfrm>
            <a:off x="4429080" y="3500280"/>
            <a:ext cx="4071960" cy="180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26"/>
          <p:cNvSpPr/>
          <p:nvPr/>
        </p:nvSpPr>
        <p:spPr>
          <a:xfrm>
            <a:off x="7929720" y="3429000"/>
            <a:ext cx="142560" cy="1429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357120" y="277920"/>
            <a:ext cx="8686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Evaluation of Proposed Handoff Metric (AP Queue Length): </a:t>
            </a:r>
            <a:r>
              <a:rPr b="0" lang="en-GB" sz="2600" spc="-1" strike="noStrike">
                <a:solidFill>
                  <a:srgbClr val="006633"/>
                </a:solidFill>
                <a:latin typeface="Garamond"/>
              </a:rPr>
              <a:t>Simulation Result  for AP Queue Lengt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3643200" y="1785960"/>
            <a:ext cx="5500800" cy="38512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3"/>
          <p:cNvGrpSpPr/>
          <p:nvPr/>
        </p:nvGrpSpPr>
        <p:grpSpPr>
          <a:xfrm>
            <a:off x="214200" y="1928880"/>
            <a:ext cx="3357720" cy="3930120"/>
            <a:chOff x="214200" y="1928880"/>
            <a:chExt cx="3357720" cy="3930120"/>
          </a:xfrm>
        </p:grpSpPr>
        <p:pic>
          <p:nvPicPr>
            <p:cNvPr id="303" name="Picture 4" descr=""/>
            <p:cNvPicPr/>
            <p:nvPr/>
          </p:nvPicPr>
          <p:blipFill>
            <a:blip r:embed="rId2"/>
            <a:stretch/>
          </p:blipFill>
          <p:spPr>
            <a:xfrm>
              <a:off x="214200" y="308628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5"/>
            <p:cNvSpPr/>
            <p:nvPr/>
          </p:nvSpPr>
          <p:spPr>
            <a:xfrm>
              <a:off x="214200" y="308628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5" name="Picture 6" descr=""/>
            <p:cNvPicPr/>
            <p:nvPr/>
          </p:nvPicPr>
          <p:blipFill>
            <a:blip r:embed="rId3"/>
            <a:stretch/>
          </p:blipFill>
          <p:spPr>
            <a:xfrm>
              <a:off x="214200" y="4735440"/>
              <a:ext cx="4492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7"/>
            <p:cNvSpPr/>
            <p:nvPr/>
          </p:nvSpPr>
          <p:spPr>
            <a:xfrm>
              <a:off x="214200" y="4735440"/>
              <a:ext cx="4492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8" descr=""/>
            <p:cNvPicPr/>
            <p:nvPr/>
          </p:nvPicPr>
          <p:blipFill>
            <a:blip r:embed="rId4"/>
            <a:stretch/>
          </p:blipFill>
          <p:spPr>
            <a:xfrm>
              <a:off x="214200" y="369900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9"/>
            <p:cNvSpPr/>
            <p:nvPr/>
          </p:nvSpPr>
          <p:spPr>
            <a:xfrm>
              <a:off x="214200" y="369900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9" name="Picture 10" descr=""/>
            <p:cNvPicPr/>
            <p:nvPr/>
          </p:nvPicPr>
          <p:blipFill>
            <a:blip r:embed="rId5"/>
            <a:stretch/>
          </p:blipFill>
          <p:spPr>
            <a:xfrm>
              <a:off x="2033640" y="3276720"/>
              <a:ext cx="4539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1"/>
            <p:cNvSpPr/>
            <p:nvPr/>
          </p:nvSpPr>
          <p:spPr>
            <a:xfrm>
              <a:off x="2033640" y="3913200"/>
              <a:ext cx="4539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1" name="Picture 12" descr=""/>
            <p:cNvPicPr/>
            <p:nvPr/>
          </p:nvPicPr>
          <p:blipFill>
            <a:blip r:embed="rId6"/>
            <a:stretch/>
          </p:blipFill>
          <p:spPr>
            <a:xfrm>
              <a:off x="1984320" y="3770280"/>
              <a:ext cx="5875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Line 13"/>
            <p:cNvSpPr/>
            <p:nvPr/>
          </p:nvSpPr>
          <p:spPr>
            <a:xfrm flipH="1">
              <a:off x="1001880" y="3494160"/>
              <a:ext cx="1025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1022400" y="3295800"/>
              <a:ext cx="1440" cy="17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 flipH="1">
              <a:off x="661680" y="329580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 flipH="1">
              <a:off x="661680" y="3930480"/>
              <a:ext cx="368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 flipH="1">
              <a:off x="661680" y="508176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849240" y="5210280"/>
              <a:ext cx="27226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 flipH="1">
              <a:off x="849240" y="4324320"/>
              <a:ext cx="127800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2482920" y="4229280"/>
              <a:ext cx="1089000" cy="120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2508480" y="395604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1967040" y="29592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3"/>
            <p:cNvSpPr/>
            <p:nvPr/>
          </p:nvSpPr>
          <p:spPr>
            <a:xfrm>
              <a:off x="230040" y="266220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4"/>
            <p:cNvSpPr/>
            <p:nvPr/>
          </p:nvSpPr>
          <p:spPr>
            <a:xfrm>
              <a:off x="384120" y="4176720"/>
              <a:ext cx="25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 flipH="1">
              <a:off x="2243160" y="3627360"/>
              <a:ext cx="1728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6"/>
            <p:cNvSpPr/>
            <p:nvPr/>
          </p:nvSpPr>
          <p:spPr>
            <a:xfrm>
              <a:off x="2152800" y="521640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6" name="Picture 27" descr=""/>
            <p:cNvPicPr/>
            <p:nvPr/>
          </p:nvPicPr>
          <p:blipFill>
            <a:blip r:embed="rId7"/>
            <a:stretch/>
          </p:blipFill>
          <p:spPr>
            <a:xfrm>
              <a:off x="13762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28" descr=""/>
            <p:cNvPicPr/>
            <p:nvPr/>
          </p:nvPicPr>
          <p:blipFill>
            <a:blip r:embed="rId8"/>
            <a:stretch/>
          </p:blipFill>
          <p:spPr>
            <a:xfrm>
              <a:off x="1698480" y="535788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9" descr=""/>
            <p:cNvPicPr/>
            <p:nvPr/>
          </p:nvPicPr>
          <p:blipFill>
            <a:blip r:embed="rId9"/>
            <a:stretch/>
          </p:blipFill>
          <p:spPr>
            <a:xfrm>
              <a:off x="195912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0" descr=""/>
            <p:cNvPicPr/>
            <p:nvPr/>
          </p:nvPicPr>
          <p:blipFill>
            <a:blip r:embed="rId10"/>
            <a:stretch/>
          </p:blipFill>
          <p:spPr>
            <a:xfrm>
              <a:off x="2733840" y="5418000"/>
              <a:ext cx="22680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31" descr=""/>
            <p:cNvPicPr/>
            <p:nvPr/>
          </p:nvPicPr>
          <p:blipFill>
            <a:blip r:embed="rId11"/>
            <a:stretch/>
          </p:blipFill>
          <p:spPr>
            <a:xfrm>
              <a:off x="247500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32" descr=""/>
            <p:cNvPicPr/>
            <p:nvPr/>
          </p:nvPicPr>
          <p:blipFill>
            <a:blip r:embed="rId12"/>
            <a:stretch/>
          </p:blipFill>
          <p:spPr>
            <a:xfrm>
              <a:off x="29908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33"/>
            <p:cNvSpPr/>
            <p:nvPr/>
          </p:nvSpPr>
          <p:spPr>
            <a:xfrm>
              <a:off x="341280" y="1928880"/>
              <a:ext cx="187164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33" name="AutoShape 34"/>
            <p:cNvCxnSpPr/>
            <p:nvPr/>
          </p:nvCxnSpPr>
          <p:spPr>
            <a:xfrm flipH="1" rot="16200000">
              <a:off x="106920" y="3749760"/>
              <a:ext cx="2072520" cy="858240"/>
            </a:xfrm>
            <a:prstGeom prst="bentConnector3">
              <a:avLst>
                <a:gd name="adj1" fmla="val -642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  <p:cxnSp>
          <p:nvCxnSpPr>
            <p:cNvPr id="334" name="AutoShape 35"/>
            <p:cNvCxnSpPr/>
            <p:nvPr/>
          </p:nvCxnSpPr>
          <p:spPr>
            <a:xfrm flipH="1" flipV="1">
              <a:off x="713880" y="2856960"/>
              <a:ext cx="2455200" cy="2324520"/>
            </a:xfrm>
            <a:prstGeom prst="bentConnector3">
              <a:avLst>
                <a:gd name="adj1" fmla="val -689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</p:grpSp>
      <p:sp>
        <p:nvSpPr>
          <p:cNvPr id="335" name="Slide Number Placeholder 36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E8ED8-1484-41E3-8B38-AA7E8574E5A7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ed Handoff Decision Metric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ed Handoff Strategy &amp; 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E806C-FB82-4F0C-8F58-13E42995637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357120" y="277920"/>
            <a:ext cx="8686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Evaluation of Proposed Handoff Metric (AP Queue Length): 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Relationship among AP Queue Length, RTT &amp; MOS</a:t>
            </a:r>
            <a:r>
              <a:rPr b="0" lang="en-GB" sz="2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2"/>
          <p:cNvGrpSpPr/>
          <p:nvPr/>
        </p:nvGrpSpPr>
        <p:grpSpPr>
          <a:xfrm>
            <a:off x="214200" y="1928880"/>
            <a:ext cx="3357720" cy="3930120"/>
            <a:chOff x="214200" y="1928880"/>
            <a:chExt cx="3357720" cy="3930120"/>
          </a:xfrm>
        </p:grpSpPr>
        <p:pic>
          <p:nvPicPr>
            <p:cNvPr id="338" name="Picture 3" descr=""/>
            <p:cNvPicPr/>
            <p:nvPr/>
          </p:nvPicPr>
          <p:blipFill>
            <a:blip r:embed="rId1"/>
            <a:stretch/>
          </p:blipFill>
          <p:spPr>
            <a:xfrm>
              <a:off x="214200" y="308628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4"/>
            <p:cNvSpPr/>
            <p:nvPr/>
          </p:nvSpPr>
          <p:spPr>
            <a:xfrm>
              <a:off x="214200" y="308628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214200" y="4735440"/>
              <a:ext cx="4492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6"/>
            <p:cNvSpPr/>
            <p:nvPr/>
          </p:nvSpPr>
          <p:spPr>
            <a:xfrm>
              <a:off x="214200" y="4735440"/>
              <a:ext cx="4492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2" name="Picture 7" descr=""/>
            <p:cNvPicPr/>
            <p:nvPr/>
          </p:nvPicPr>
          <p:blipFill>
            <a:blip r:embed="rId3"/>
            <a:stretch/>
          </p:blipFill>
          <p:spPr>
            <a:xfrm>
              <a:off x="214200" y="369900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8"/>
            <p:cNvSpPr/>
            <p:nvPr/>
          </p:nvSpPr>
          <p:spPr>
            <a:xfrm>
              <a:off x="214200" y="369900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4" name="Picture 9" descr=""/>
            <p:cNvPicPr/>
            <p:nvPr/>
          </p:nvPicPr>
          <p:blipFill>
            <a:blip r:embed="rId4"/>
            <a:stretch/>
          </p:blipFill>
          <p:spPr>
            <a:xfrm>
              <a:off x="2033640" y="3276720"/>
              <a:ext cx="4539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0"/>
            <p:cNvSpPr/>
            <p:nvPr/>
          </p:nvSpPr>
          <p:spPr>
            <a:xfrm>
              <a:off x="2033640" y="3913200"/>
              <a:ext cx="4539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6" name="Picture 11" descr=""/>
            <p:cNvPicPr/>
            <p:nvPr/>
          </p:nvPicPr>
          <p:blipFill>
            <a:blip r:embed="rId5"/>
            <a:stretch/>
          </p:blipFill>
          <p:spPr>
            <a:xfrm>
              <a:off x="1984320" y="3770280"/>
              <a:ext cx="5875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Line 12"/>
            <p:cNvSpPr/>
            <p:nvPr/>
          </p:nvSpPr>
          <p:spPr>
            <a:xfrm flipH="1">
              <a:off x="1001880" y="3494160"/>
              <a:ext cx="1025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1022400" y="3295800"/>
              <a:ext cx="1440" cy="17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4"/>
            <p:cNvSpPr/>
            <p:nvPr/>
          </p:nvSpPr>
          <p:spPr>
            <a:xfrm flipH="1">
              <a:off x="661680" y="329580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5"/>
            <p:cNvSpPr/>
            <p:nvPr/>
          </p:nvSpPr>
          <p:spPr>
            <a:xfrm flipH="1">
              <a:off x="661680" y="3930480"/>
              <a:ext cx="368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6"/>
            <p:cNvSpPr/>
            <p:nvPr/>
          </p:nvSpPr>
          <p:spPr>
            <a:xfrm flipH="1">
              <a:off x="661680" y="508176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7"/>
            <p:cNvSpPr/>
            <p:nvPr/>
          </p:nvSpPr>
          <p:spPr>
            <a:xfrm>
              <a:off x="849240" y="5210280"/>
              <a:ext cx="27226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8"/>
            <p:cNvSpPr/>
            <p:nvPr/>
          </p:nvSpPr>
          <p:spPr>
            <a:xfrm flipH="1">
              <a:off x="849240" y="4324320"/>
              <a:ext cx="127800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"/>
            <p:cNvSpPr/>
            <p:nvPr/>
          </p:nvSpPr>
          <p:spPr>
            <a:xfrm>
              <a:off x="2482920" y="4229280"/>
              <a:ext cx="1089000" cy="120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20"/>
            <p:cNvSpPr/>
            <p:nvPr/>
          </p:nvSpPr>
          <p:spPr>
            <a:xfrm>
              <a:off x="2508480" y="395604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1"/>
            <p:cNvSpPr/>
            <p:nvPr/>
          </p:nvSpPr>
          <p:spPr>
            <a:xfrm>
              <a:off x="1967040" y="2959200"/>
              <a:ext cx="67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230040" y="266220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23"/>
            <p:cNvSpPr/>
            <p:nvPr/>
          </p:nvSpPr>
          <p:spPr>
            <a:xfrm>
              <a:off x="384120" y="4176720"/>
              <a:ext cx="25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4"/>
            <p:cNvSpPr/>
            <p:nvPr/>
          </p:nvSpPr>
          <p:spPr>
            <a:xfrm flipH="1">
              <a:off x="2243160" y="3627360"/>
              <a:ext cx="1728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2152800" y="521640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1" name="Picture 26" descr=""/>
            <p:cNvPicPr/>
            <p:nvPr/>
          </p:nvPicPr>
          <p:blipFill>
            <a:blip r:embed="rId6"/>
            <a:stretch/>
          </p:blipFill>
          <p:spPr>
            <a:xfrm>
              <a:off x="13762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7" descr=""/>
            <p:cNvPicPr/>
            <p:nvPr/>
          </p:nvPicPr>
          <p:blipFill>
            <a:blip r:embed="rId7"/>
            <a:stretch/>
          </p:blipFill>
          <p:spPr>
            <a:xfrm>
              <a:off x="1698480" y="5418000"/>
              <a:ext cx="22716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28" descr=""/>
            <p:cNvPicPr/>
            <p:nvPr/>
          </p:nvPicPr>
          <p:blipFill>
            <a:blip r:embed="rId8"/>
            <a:stretch/>
          </p:blipFill>
          <p:spPr>
            <a:xfrm>
              <a:off x="195912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29" descr=""/>
            <p:cNvPicPr/>
            <p:nvPr/>
          </p:nvPicPr>
          <p:blipFill>
            <a:blip r:embed="rId9"/>
            <a:stretch/>
          </p:blipFill>
          <p:spPr>
            <a:xfrm>
              <a:off x="2733840" y="5418000"/>
              <a:ext cx="22680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30" descr=""/>
            <p:cNvPicPr/>
            <p:nvPr/>
          </p:nvPicPr>
          <p:blipFill>
            <a:blip r:embed="rId10"/>
            <a:stretch/>
          </p:blipFill>
          <p:spPr>
            <a:xfrm>
              <a:off x="247500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31" descr=""/>
            <p:cNvPicPr/>
            <p:nvPr/>
          </p:nvPicPr>
          <p:blipFill>
            <a:blip r:embed="rId11"/>
            <a:stretch/>
          </p:blipFill>
          <p:spPr>
            <a:xfrm>
              <a:off x="29908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32"/>
            <p:cNvSpPr/>
            <p:nvPr/>
          </p:nvSpPr>
          <p:spPr>
            <a:xfrm>
              <a:off x="341280" y="1928880"/>
              <a:ext cx="187164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68" name="AutoShape 33"/>
            <p:cNvCxnSpPr/>
            <p:nvPr/>
          </p:nvCxnSpPr>
          <p:spPr>
            <a:xfrm flipH="1" rot="16200000">
              <a:off x="142920" y="3857400"/>
              <a:ext cx="2000880" cy="714960"/>
            </a:xfrm>
            <a:prstGeom prst="bentConnector3">
              <a:avLst>
                <a:gd name="adj1" fmla="val -953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  <p:cxnSp>
          <p:nvCxnSpPr>
            <p:cNvPr id="369" name="AutoShape 34"/>
            <p:cNvCxnSpPr/>
            <p:nvPr/>
          </p:nvCxnSpPr>
          <p:spPr>
            <a:xfrm flipH="1" flipV="1">
              <a:off x="785520" y="2999880"/>
              <a:ext cx="2454480" cy="2324880"/>
            </a:xfrm>
            <a:prstGeom prst="bentConnector3">
              <a:avLst>
                <a:gd name="adj1" fmla="val -689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</p:grpSp>
      <p:pic>
        <p:nvPicPr>
          <p:cNvPr id="370" name="Picture 35" descr=""/>
          <p:cNvPicPr/>
          <p:nvPr/>
        </p:nvPicPr>
        <p:blipFill>
          <a:blip r:embed="rId12"/>
          <a:stretch/>
        </p:blipFill>
        <p:spPr>
          <a:xfrm>
            <a:off x="3643200" y="2000160"/>
            <a:ext cx="5357880" cy="37497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36"/>
          <p:cNvSpPr/>
          <p:nvPr/>
        </p:nvSpPr>
        <p:spPr>
          <a:xfrm>
            <a:off x="5286240" y="1571760"/>
            <a:ext cx="21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TT_thr = 200 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lide Number Placeholder 37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83DAB-3E1F-4EA6-850D-EFA9065B8F1A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Straight Connector 40"/>
          <p:cNvSpPr/>
          <p:nvPr/>
        </p:nvSpPr>
        <p:spPr>
          <a:xfrm flipV="1">
            <a:off x="4928400" y="2142720"/>
            <a:ext cx="1800" cy="328788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Straight Connector 43"/>
          <p:cNvSpPr/>
          <p:nvPr/>
        </p:nvSpPr>
        <p:spPr>
          <a:xfrm flipH="1" flipV="1">
            <a:off x="4214880" y="2928960"/>
            <a:ext cx="4214880" cy="144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traight Connector 65"/>
          <p:cNvSpPr/>
          <p:nvPr/>
        </p:nvSpPr>
        <p:spPr>
          <a:xfrm flipH="1" flipV="1">
            <a:off x="4214880" y="4855680"/>
            <a:ext cx="4214880" cy="180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67"/>
          <p:cNvSpPr/>
          <p:nvPr/>
        </p:nvSpPr>
        <p:spPr>
          <a:xfrm>
            <a:off x="4786200" y="4643280"/>
            <a:ext cx="285840" cy="428760"/>
          </a:xfrm>
          <a:prstGeom prst="ellipse">
            <a:avLst/>
          </a:prstGeom>
          <a:noFill/>
          <a:ln w="93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eft-Right Arrow 68"/>
          <p:cNvSpPr/>
          <p:nvPr/>
        </p:nvSpPr>
        <p:spPr>
          <a:xfrm>
            <a:off x="4214880" y="392904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Evaluation of Handoff Decision Metric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Simul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atisfy adequate VoIP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S retry ratio &lt; 0.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T &lt; 200 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57D21-F223-40EA-AC19-B0ECE0AB614B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Proposed Handover Strateg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214200" y="1500120"/>
            <a:ext cx="5329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-homed M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ndoff manager (HM) on transport layer to control handoff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ploy RTS retries &amp; ICMP message to estimate of AP Queue length (RTT) as handoff decision metric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ploy Single-Path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-Path Transmission to support Soft-Handof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46"/>
          <p:cNvGrpSpPr/>
          <p:nvPr/>
        </p:nvGrpSpPr>
        <p:grpSpPr>
          <a:xfrm>
            <a:off x="5628960" y="1143000"/>
            <a:ext cx="3314880" cy="5072040"/>
            <a:chOff x="5628960" y="1143000"/>
            <a:chExt cx="3314880" cy="5072040"/>
          </a:xfrm>
        </p:grpSpPr>
        <p:pic>
          <p:nvPicPr>
            <p:cNvPr id="384" name="Picture 2" descr=""/>
            <p:cNvPicPr/>
            <p:nvPr/>
          </p:nvPicPr>
          <p:blipFill>
            <a:blip r:embed="rId1"/>
            <a:stretch/>
          </p:blipFill>
          <p:spPr>
            <a:xfrm>
              <a:off x="5901120" y="3642840"/>
              <a:ext cx="2742840" cy="25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3" descr=""/>
            <p:cNvPicPr/>
            <p:nvPr/>
          </p:nvPicPr>
          <p:blipFill>
            <a:blip r:embed="rId2"/>
            <a:stretch/>
          </p:blipFill>
          <p:spPr>
            <a:xfrm>
              <a:off x="7000920" y="130176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1" descr=""/>
            <p:cNvPicPr/>
            <p:nvPr/>
          </p:nvPicPr>
          <p:blipFill>
            <a:blip r:embed="rId3"/>
            <a:stretch/>
          </p:blipFill>
          <p:spPr>
            <a:xfrm>
              <a:off x="6286320" y="2401920"/>
              <a:ext cx="58716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1" descr=""/>
            <p:cNvPicPr/>
            <p:nvPr/>
          </p:nvPicPr>
          <p:blipFill>
            <a:blip r:embed="rId4"/>
            <a:stretch/>
          </p:blipFill>
          <p:spPr>
            <a:xfrm>
              <a:off x="7628040" y="2401920"/>
              <a:ext cx="58716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9" descr=""/>
            <p:cNvPicPr/>
            <p:nvPr/>
          </p:nvPicPr>
          <p:blipFill>
            <a:blip r:embed="rId5"/>
            <a:stretch/>
          </p:blipFill>
          <p:spPr>
            <a:xfrm>
              <a:off x="7000920" y="2087280"/>
              <a:ext cx="4539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Straight Connector 9"/>
            <p:cNvSpPr/>
            <p:nvPr/>
          </p:nvSpPr>
          <p:spPr>
            <a:xfrm>
              <a:off x="7214400" y="1714320"/>
              <a:ext cx="12600" cy="3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Straight Connector 11"/>
            <p:cNvSpPr/>
            <p:nvPr/>
          </p:nvSpPr>
          <p:spPr>
            <a:xfrm flipH="1">
              <a:off x="6643440" y="2257560"/>
              <a:ext cx="35712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3"/>
            <p:cNvSpPr/>
            <p:nvPr/>
          </p:nvSpPr>
          <p:spPr>
            <a:xfrm>
              <a:off x="7454880" y="2258280"/>
              <a:ext cx="40320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92" name="Curved Connector 23"/>
            <p:cNvCxnSpPr>
              <a:endCxn id="393" idx="2"/>
            </p:cNvCxnSpPr>
            <p:nvPr/>
          </p:nvCxnSpPr>
          <p:spPr>
            <a:xfrm flipV="1" rot="10800000">
              <a:off x="5857200" y="2736360"/>
              <a:ext cx="429120" cy="3085920"/>
            </a:xfrm>
            <a:prstGeom prst="curvedConnector5">
              <a:avLst>
                <a:gd name="adj1" fmla="val 153316"/>
                <a:gd name="adj2" fmla="val 49994"/>
                <a:gd name="adj3" fmla="val 153316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  <p:cxnSp>
          <p:nvCxnSpPr>
            <p:cNvPr id="394" name="Curved Connector 29"/>
            <p:cNvCxnSpPr>
              <a:endCxn id="395" idx="6"/>
            </p:cNvCxnSpPr>
            <p:nvPr/>
          </p:nvCxnSpPr>
          <p:spPr>
            <a:xfrm>
              <a:off x="8214840" y="2736720"/>
              <a:ext cx="500760" cy="3085920"/>
            </a:xfrm>
            <a:prstGeom prst="curvedConnector5">
              <a:avLst>
                <a:gd name="adj1" fmla="val 145683"/>
                <a:gd name="adj2" fmla="val 49994"/>
                <a:gd name="adj3" fmla="val 145683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  <p:sp>
          <p:nvSpPr>
            <p:cNvPr id="396" name="Text Box 22"/>
            <p:cNvSpPr/>
            <p:nvPr/>
          </p:nvSpPr>
          <p:spPr>
            <a:xfrm>
              <a:off x="7358040" y="114300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31"/>
            <p:cNvSpPr/>
            <p:nvPr/>
          </p:nvSpPr>
          <p:spPr>
            <a:xfrm>
              <a:off x="5857920" y="5715000"/>
              <a:ext cx="214200" cy="2142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501040" y="5715000"/>
              <a:ext cx="214200" cy="2142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20"/>
            <p:cNvSpPr/>
            <p:nvPr/>
          </p:nvSpPr>
          <p:spPr>
            <a:xfrm>
              <a:off x="6359760" y="30718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20"/>
            <p:cNvSpPr/>
            <p:nvPr/>
          </p:nvSpPr>
          <p:spPr>
            <a:xfrm>
              <a:off x="7716960" y="30718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99" name="Curved Connector 40"/>
            <p:cNvCxnSpPr/>
            <p:nvPr/>
          </p:nvCxnSpPr>
          <p:spPr>
            <a:xfrm flipV="1" rot="10800000">
              <a:off x="6285600" y="1579320"/>
              <a:ext cx="714960" cy="1157400"/>
            </a:xfrm>
            <a:prstGeom prst="curvedConnector5">
              <a:avLst>
                <a:gd name="adj1" fmla="val 38539"/>
                <a:gd name="adj2" fmla="val 50000"/>
                <a:gd name="adj3" fmla="val 38539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  <p:cxnSp>
          <p:nvCxnSpPr>
            <p:cNvPr id="400" name="Curved Connector 43"/>
            <p:cNvCxnSpPr/>
            <p:nvPr/>
          </p:nvCxnSpPr>
          <p:spPr>
            <a:xfrm>
              <a:off x="7449840" y="1579320"/>
              <a:ext cx="765720" cy="1157400"/>
            </a:xfrm>
            <a:prstGeom prst="curvedConnector5">
              <a:avLst>
                <a:gd name="adj1" fmla="val 34995"/>
                <a:gd name="adj2" fmla="val 50000"/>
                <a:gd name="adj3" fmla="val 34995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</p:grpSp>
      <p:sp>
        <p:nvSpPr>
          <p:cNvPr id="401" name="Text Box 22"/>
          <p:cNvSpPr/>
          <p:nvPr/>
        </p:nvSpPr>
        <p:spPr>
          <a:xfrm>
            <a:off x="7002720" y="333360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Slide Number Placeholder 2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96882-E76D-4B3F-8E6A-9CB43D257DC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277920"/>
            <a:ext cx="822960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Switching of Single Path/Multi-Path Trans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2"/>
          <p:cNvGrpSpPr/>
          <p:nvPr/>
        </p:nvGrpSpPr>
        <p:grpSpPr>
          <a:xfrm>
            <a:off x="318600" y="1785960"/>
            <a:ext cx="4394160" cy="4069800"/>
            <a:chOff x="318600" y="1785960"/>
            <a:chExt cx="4394160" cy="4069800"/>
          </a:xfrm>
        </p:grpSpPr>
        <p:sp>
          <p:nvSpPr>
            <p:cNvPr id="405" name="AutoShape 3"/>
            <p:cNvSpPr/>
            <p:nvPr/>
          </p:nvSpPr>
          <p:spPr>
            <a:xfrm>
              <a:off x="718560" y="1785960"/>
              <a:ext cx="1770120" cy="3535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4"/>
            <p:cNvSpPr/>
            <p:nvPr/>
          </p:nvSpPr>
          <p:spPr>
            <a:xfrm>
              <a:off x="496440" y="2280960"/>
              <a:ext cx="2134800" cy="10962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1RTT&lt;RTT_th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2RTT&lt;RTT_th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5"/>
            <p:cNvSpPr/>
            <p:nvPr/>
          </p:nvSpPr>
          <p:spPr>
            <a:xfrm>
              <a:off x="2476080" y="25318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6"/>
            <p:cNvSpPr/>
            <p:nvPr/>
          </p:nvSpPr>
          <p:spPr>
            <a:xfrm>
              <a:off x="1557720" y="334584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7"/>
            <p:cNvSpPr/>
            <p:nvPr/>
          </p:nvSpPr>
          <p:spPr>
            <a:xfrm>
              <a:off x="1572120" y="3357000"/>
              <a:ext cx="1080" cy="20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8"/>
            <p:cNvSpPr/>
            <p:nvPr/>
          </p:nvSpPr>
          <p:spPr>
            <a:xfrm>
              <a:off x="523440" y="3550320"/>
              <a:ext cx="2096640" cy="6789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gt;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9"/>
            <p:cNvSpPr/>
            <p:nvPr/>
          </p:nvSpPr>
          <p:spPr>
            <a:xfrm>
              <a:off x="586800" y="4430880"/>
              <a:ext cx="1966680" cy="6789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lt; 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0"/>
            <p:cNvSpPr/>
            <p:nvPr/>
          </p:nvSpPr>
          <p:spPr>
            <a:xfrm>
              <a:off x="1557720" y="50421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1"/>
            <p:cNvSpPr/>
            <p:nvPr/>
          </p:nvSpPr>
          <p:spPr>
            <a:xfrm>
              <a:off x="1557720" y="422820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12"/>
            <p:cNvSpPr/>
            <p:nvPr/>
          </p:nvSpPr>
          <p:spPr>
            <a:xfrm>
              <a:off x="2555640" y="3888360"/>
              <a:ext cx="2631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3"/>
            <p:cNvSpPr/>
            <p:nvPr/>
          </p:nvSpPr>
          <p:spPr>
            <a:xfrm>
              <a:off x="2555640" y="4770720"/>
              <a:ext cx="3279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4"/>
            <p:cNvSpPr/>
            <p:nvPr/>
          </p:nvSpPr>
          <p:spPr>
            <a:xfrm>
              <a:off x="326520" y="1988640"/>
              <a:ext cx="393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5"/>
            <p:cNvSpPr/>
            <p:nvPr/>
          </p:nvSpPr>
          <p:spPr>
            <a:xfrm>
              <a:off x="2476080" y="36565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6"/>
            <p:cNvSpPr/>
            <p:nvPr/>
          </p:nvSpPr>
          <p:spPr>
            <a:xfrm>
              <a:off x="2476080" y="44992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17"/>
            <p:cNvSpPr/>
            <p:nvPr/>
          </p:nvSpPr>
          <p:spPr>
            <a:xfrm>
              <a:off x="607680" y="5313240"/>
              <a:ext cx="1946160" cy="542520"/>
            </a:xfrm>
            <a:prstGeom prst="flowChartDecision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F_Retry &gt; R_Sth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8"/>
            <p:cNvSpPr/>
            <p:nvPr/>
          </p:nvSpPr>
          <p:spPr>
            <a:xfrm>
              <a:off x="2555640" y="5584680"/>
              <a:ext cx="3279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9"/>
            <p:cNvSpPr/>
            <p:nvPr/>
          </p:nvSpPr>
          <p:spPr>
            <a:xfrm>
              <a:off x="2476080" y="53528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20"/>
            <p:cNvSpPr/>
            <p:nvPr/>
          </p:nvSpPr>
          <p:spPr>
            <a:xfrm>
              <a:off x="2882160" y="5432040"/>
              <a:ext cx="1310040" cy="2872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1"/>
            <p:cNvSpPr/>
            <p:nvPr/>
          </p:nvSpPr>
          <p:spPr>
            <a:xfrm flipH="1">
              <a:off x="318600" y="5584680"/>
              <a:ext cx="3423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2"/>
            <p:cNvSpPr/>
            <p:nvPr/>
          </p:nvSpPr>
          <p:spPr>
            <a:xfrm flipV="1">
              <a:off x="326520" y="1980720"/>
              <a:ext cx="1080" cy="360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23"/>
            <p:cNvSpPr/>
            <p:nvPr/>
          </p:nvSpPr>
          <p:spPr>
            <a:xfrm>
              <a:off x="2817000" y="3753360"/>
              <a:ext cx="1442160" cy="286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24"/>
            <p:cNvSpPr/>
            <p:nvPr/>
          </p:nvSpPr>
          <p:spPr>
            <a:xfrm>
              <a:off x="2882160" y="4633920"/>
              <a:ext cx="1441800" cy="2872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25"/>
            <p:cNvSpPr/>
            <p:nvPr/>
          </p:nvSpPr>
          <p:spPr>
            <a:xfrm>
              <a:off x="2831400" y="2549160"/>
              <a:ext cx="1881360" cy="544320"/>
            </a:xfrm>
            <a:prstGeom prst="flowChartDecision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F_Retry &gt; R_S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6"/>
            <p:cNvSpPr/>
            <p:nvPr/>
          </p:nvSpPr>
          <p:spPr>
            <a:xfrm flipH="1">
              <a:off x="2499480" y="1988640"/>
              <a:ext cx="1261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27"/>
            <p:cNvSpPr/>
            <p:nvPr/>
          </p:nvSpPr>
          <p:spPr>
            <a:xfrm>
              <a:off x="3916440" y="30204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AutoShape 28"/>
            <p:cNvSpPr/>
            <p:nvPr/>
          </p:nvSpPr>
          <p:spPr>
            <a:xfrm>
              <a:off x="3145680" y="3223440"/>
              <a:ext cx="1310400" cy="286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29"/>
            <p:cNvSpPr/>
            <p:nvPr/>
          </p:nvSpPr>
          <p:spPr>
            <a:xfrm>
              <a:off x="3459600" y="22809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0"/>
            <p:cNvSpPr/>
            <p:nvPr/>
          </p:nvSpPr>
          <p:spPr>
            <a:xfrm>
              <a:off x="443880" y="531324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1"/>
            <p:cNvSpPr/>
            <p:nvPr/>
          </p:nvSpPr>
          <p:spPr>
            <a:xfrm>
              <a:off x="1572120" y="2125440"/>
              <a:ext cx="1080" cy="20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2"/>
            <p:cNvSpPr/>
            <p:nvPr/>
          </p:nvSpPr>
          <p:spPr>
            <a:xfrm>
              <a:off x="3802320" y="3088440"/>
              <a:ext cx="108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3"/>
            <p:cNvSpPr/>
            <p:nvPr/>
          </p:nvSpPr>
          <p:spPr>
            <a:xfrm>
              <a:off x="1572120" y="4228200"/>
              <a:ext cx="1080" cy="20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4"/>
            <p:cNvSpPr/>
            <p:nvPr/>
          </p:nvSpPr>
          <p:spPr>
            <a:xfrm>
              <a:off x="1572120" y="5109840"/>
              <a:ext cx="108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35"/>
            <p:cNvSpPr/>
            <p:nvPr/>
          </p:nvSpPr>
          <p:spPr>
            <a:xfrm>
              <a:off x="3759480" y="1988640"/>
              <a:ext cx="12240" cy="56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38" name="AutoShape 36"/>
            <p:cNvCxnSpPr>
              <a:stCxn id="406" idx="3"/>
              <a:endCxn id="427" idx="1"/>
            </p:cNvCxnSpPr>
            <p:nvPr/>
          </p:nvCxnSpPr>
          <p:spPr>
            <a:xfrm flipV="1">
              <a:off x="2631240" y="2820960"/>
              <a:ext cx="20052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9" name="Group 37"/>
          <p:cNvGrpSpPr/>
          <p:nvPr/>
        </p:nvGrpSpPr>
        <p:grpSpPr>
          <a:xfrm>
            <a:off x="4844880" y="1857240"/>
            <a:ext cx="4084920" cy="3643560"/>
            <a:chOff x="4844880" y="1857240"/>
            <a:chExt cx="4084920" cy="3643560"/>
          </a:xfrm>
        </p:grpSpPr>
        <p:sp>
          <p:nvSpPr>
            <p:cNvPr id="440" name="AutoShape 38"/>
            <p:cNvSpPr/>
            <p:nvPr/>
          </p:nvSpPr>
          <p:spPr>
            <a:xfrm>
              <a:off x="5126040" y="1857240"/>
              <a:ext cx="1663560" cy="3384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AutoShape 39"/>
            <p:cNvSpPr/>
            <p:nvPr/>
          </p:nvSpPr>
          <p:spPr>
            <a:xfrm>
              <a:off x="4844880" y="2394000"/>
              <a:ext cx="2138400" cy="96372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P1RTT &lt; RTT_th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P2RTT &lt; RTT_th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AutoShape 40"/>
            <p:cNvSpPr/>
            <p:nvPr/>
          </p:nvSpPr>
          <p:spPr>
            <a:xfrm>
              <a:off x="5003640" y="3543480"/>
              <a:ext cx="1846440" cy="64764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gt; 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41"/>
            <p:cNvSpPr/>
            <p:nvPr/>
          </p:nvSpPr>
          <p:spPr>
            <a:xfrm>
              <a:off x="5003640" y="4384800"/>
              <a:ext cx="1846440" cy="64764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lt; 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42"/>
            <p:cNvSpPr/>
            <p:nvPr/>
          </p:nvSpPr>
          <p:spPr>
            <a:xfrm>
              <a:off x="6850080" y="3865680"/>
              <a:ext cx="307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43"/>
            <p:cNvSpPr/>
            <p:nvPr/>
          </p:nvSpPr>
          <p:spPr>
            <a:xfrm>
              <a:off x="6850080" y="4708440"/>
              <a:ext cx="307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44"/>
            <p:cNvSpPr/>
            <p:nvPr/>
          </p:nvSpPr>
          <p:spPr>
            <a:xfrm>
              <a:off x="5964120" y="33465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45"/>
            <p:cNvSpPr/>
            <p:nvPr/>
          </p:nvSpPr>
          <p:spPr>
            <a:xfrm>
              <a:off x="6980400" y="2894040"/>
              <a:ext cx="307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46"/>
            <p:cNvSpPr/>
            <p:nvPr/>
          </p:nvSpPr>
          <p:spPr>
            <a:xfrm>
              <a:off x="6826320" y="25700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47"/>
            <p:cNvSpPr/>
            <p:nvPr/>
          </p:nvSpPr>
          <p:spPr>
            <a:xfrm>
              <a:off x="5072040" y="5226120"/>
              <a:ext cx="1643040" cy="274680"/>
            </a:xfrm>
            <a:prstGeom prst="flowChartTerminator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aring Retry Rat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48"/>
            <p:cNvSpPr/>
            <p:nvPr/>
          </p:nvSpPr>
          <p:spPr>
            <a:xfrm>
              <a:off x="5965920" y="418932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49"/>
            <p:cNvSpPr/>
            <p:nvPr/>
          </p:nvSpPr>
          <p:spPr>
            <a:xfrm>
              <a:off x="5923080" y="500544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50"/>
            <p:cNvSpPr/>
            <p:nvPr/>
          </p:nvSpPr>
          <p:spPr>
            <a:xfrm>
              <a:off x="7288200" y="2749680"/>
              <a:ext cx="1641600" cy="322200"/>
            </a:xfrm>
            <a:prstGeom prst="flowChartTerminator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aring Retry Rat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51"/>
            <p:cNvSpPr/>
            <p:nvPr/>
          </p:nvSpPr>
          <p:spPr>
            <a:xfrm>
              <a:off x="7157880" y="3720960"/>
              <a:ext cx="1414800" cy="2797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52"/>
            <p:cNvSpPr/>
            <p:nvPr/>
          </p:nvSpPr>
          <p:spPr>
            <a:xfrm>
              <a:off x="7157880" y="4578480"/>
              <a:ext cx="1414800" cy="27936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53"/>
            <p:cNvSpPr/>
            <p:nvPr/>
          </p:nvSpPr>
          <p:spPr>
            <a:xfrm>
              <a:off x="6826320" y="36068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54"/>
            <p:cNvSpPr/>
            <p:nvPr/>
          </p:nvSpPr>
          <p:spPr>
            <a:xfrm>
              <a:off x="6826320" y="43848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55"/>
            <p:cNvSpPr/>
            <p:nvPr/>
          </p:nvSpPr>
          <p:spPr>
            <a:xfrm>
              <a:off x="5927760" y="218124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56"/>
            <p:cNvSpPr/>
            <p:nvPr/>
          </p:nvSpPr>
          <p:spPr>
            <a:xfrm>
              <a:off x="5927760" y="503244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57"/>
            <p:cNvSpPr/>
            <p:nvPr/>
          </p:nvSpPr>
          <p:spPr>
            <a:xfrm>
              <a:off x="5927760" y="418932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58"/>
            <p:cNvSpPr/>
            <p:nvPr/>
          </p:nvSpPr>
          <p:spPr>
            <a:xfrm>
              <a:off x="5927760" y="334800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Slide Number Placeholder 59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C48BD-4F64-49C8-AA06-371BB50E81F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457200" y="277920"/>
            <a:ext cx="8229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Comparing Retry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2"/>
          <p:cNvGrpSpPr/>
          <p:nvPr/>
        </p:nvGrpSpPr>
        <p:grpSpPr>
          <a:xfrm>
            <a:off x="1214280" y="2000160"/>
            <a:ext cx="6329160" cy="3570120"/>
            <a:chOff x="1214280" y="2000160"/>
            <a:chExt cx="6329160" cy="3570120"/>
          </a:xfrm>
        </p:grpSpPr>
        <p:sp>
          <p:nvSpPr>
            <p:cNvPr id="464" name="AutoShape 3"/>
            <p:cNvSpPr/>
            <p:nvPr/>
          </p:nvSpPr>
          <p:spPr>
            <a:xfrm>
              <a:off x="2918520" y="2746080"/>
              <a:ext cx="2409120" cy="7473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F1_Retry :IF2_Ret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4"/>
            <p:cNvSpPr/>
            <p:nvPr/>
          </p:nvSpPr>
          <p:spPr>
            <a:xfrm>
              <a:off x="5271120" y="3120480"/>
              <a:ext cx="4885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5"/>
            <p:cNvSpPr/>
            <p:nvPr/>
          </p:nvSpPr>
          <p:spPr>
            <a:xfrm>
              <a:off x="4722840" y="3295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6"/>
            <p:cNvSpPr/>
            <p:nvPr/>
          </p:nvSpPr>
          <p:spPr>
            <a:xfrm>
              <a:off x="3232800" y="3295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7"/>
            <p:cNvSpPr/>
            <p:nvPr/>
          </p:nvSpPr>
          <p:spPr>
            <a:xfrm>
              <a:off x="5372280" y="2652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AutoShape 8"/>
            <p:cNvSpPr/>
            <p:nvPr/>
          </p:nvSpPr>
          <p:spPr>
            <a:xfrm>
              <a:off x="5758200" y="293292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AutoShape 9"/>
            <p:cNvSpPr/>
            <p:nvPr/>
          </p:nvSpPr>
          <p:spPr>
            <a:xfrm>
              <a:off x="2511000" y="3959640"/>
              <a:ext cx="1623240" cy="9345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F1_Retr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&lt; R_M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0"/>
            <p:cNvSpPr/>
            <p:nvPr/>
          </p:nvSpPr>
          <p:spPr>
            <a:xfrm>
              <a:off x="5758200" y="4428000"/>
              <a:ext cx="40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>
              <a:off x="3242520" y="2000160"/>
              <a:ext cx="1785240" cy="468000"/>
            </a:xfrm>
            <a:prstGeom prst="flowChartTerminator">
              <a:avLst/>
            </a:prstGeom>
            <a:solidFill>
              <a:srgbClr val="85f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aring Retry Rat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>
              <a:off x="3323520" y="3680640"/>
              <a:ext cx="162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>
              <a:off x="3323520" y="3680640"/>
              <a:ext cx="108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AutoShape 14"/>
            <p:cNvSpPr/>
            <p:nvPr/>
          </p:nvSpPr>
          <p:spPr>
            <a:xfrm>
              <a:off x="4136400" y="3959640"/>
              <a:ext cx="1623240" cy="9345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F2_Retr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&lt; R_M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AutoShape 15"/>
            <p:cNvSpPr/>
            <p:nvPr/>
          </p:nvSpPr>
          <p:spPr>
            <a:xfrm>
              <a:off x="5271120" y="470700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AutoShape 16"/>
            <p:cNvSpPr/>
            <p:nvPr/>
          </p:nvSpPr>
          <p:spPr>
            <a:xfrm>
              <a:off x="1214280" y="470700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>
              <a:off x="2106360" y="4428000"/>
              <a:ext cx="40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utoShape 18"/>
            <p:cNvSpPr/>
            <p:nvPr/>
          </p:nvSpPr>
          <p:spPr>
            <a:xfrm>
              <a:off x="4215600" y="517536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AutoShape 19"/>
            <p:cNvSpPr/>
            <p:nvPr/>
          </p:nvSpPr>
          <p:spPr>
            <a:xfrm>
              <a:off x="2350800" y="517536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20"/>
            <p:cNvSpPr/>
            <p:nvPr/>
          </p:nvSpPr>
          <p:spPr>
            <a:xfrm>
              <a:off x="4486680" y="48006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21"/>
            <p:cNvSpPr/>
            <p:nvPr/>
          </p:nvSpPr>
          <p:spPr>
            <a:xfrm>
              <a:off x="3350520" y="48006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2"/>
            <p:cNvSpPr/>
            <p:nvPr/>
          </p:nvSpPr>
          <p:spPr>
            <a:xfrm>
              <a:off x="2211120" y="442800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23"/>
            <p:cNvSpPr/>
            <p:nvPr/>
          </p:nvSpPr>
          <p:spPr>
            <a:xfrm>
              <a:off x="5725080" y="442800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4"/>
            <p:cNvSpPr/>
            <p:nvPr/>
          </p:nvSpPr>
          <p:spPr>
            <a:xfrm>
              <a:off x="4136400" y="2464920"/>
              <a:ext cx="1080" cy="27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4136400" y="3493440"/>
              <a:ext cx="1080" cy="18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4947120" y="3680640"/>
              <a:ext cx="144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7"/>
            <p:cNvSpPr/>
            <p:nvPr/>
          </p:nvSpPr>
          <p:spPr>
            <a:xfrm>
              <a:off x="2106360" y="4428000"/>
              <a:ext cx="108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28"/>
            <p:cNvSpPr/>
            <p:nvPr/>
          </p:nvSpPr>
          <p:spPr>
            <a:xfrm>
              <a:off x="4947120" y="4894560"/>
              <a:ext cx="144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9"/>
            <p:cNvSpPr/>
            <p:nvPr/>
          </p:nvSpPr>
          <p:spPr>
            <a:xfrm>
              <a:off x="3323520" y="4894560"/>
              <a:ext cx="108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0"/>
            <p:cNvSpPr/>
            <p:nvPr/>
          </p:nvSpPr>
          <p:spPr>
            <a:xfrm>
              <a:off x="6164280" y="4428000"/>
              <a:ext cx="144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Slide Number Placeholder 31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C5CCF-9B5C-4678-BD84-ECD17A7172B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Avoiding Ping-Pong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457200" y="1600200"/>
            <a:ext cx="8229600" cy="56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raffic load in WLAN abruptly increases, all MN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 RTT information as HO decision criter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MNs simultaneously handoff to neighbor 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ghbor AP suddenly congested and all MNs switch back to previous A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ping-pong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N with lowest transmission rate executes HO first followed by next lowest transmiss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2FC47-8CF4-4999-9B5B-CB98A1B9065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457200" y="277920"/>
            <a:ext cx="8224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 Avoiding Ping-Pong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1"/>
          <p:cNvGrpSpPr/>
          <p:nvPr/>
        </p:nvGrpSpPr>
        <p:grpSpPr>
          <a:xfrm>
            <a:off x="191880" y="1857240"/>
            <a:ext cx="5370840" cy="4030920"/>
            <a:chOff x="191880" y="1857240"/>
            <a:chExt cx="5370840" cy="4030920"/>
          </a:xfrm>
        </p:grpSpPr>
        <p:sp>
          <p:nvSpPr>
            <p:cNvPr id="498" name="AutoShape 1"/>
            <p:cNvSpPr/>
            <p:nvPr/>
          </p:nvSpPr>
          <p:spPr>
            <a:xfrm>
              <a:off x="1523880" y="1857240"/>
              <a:ext cx="1511280" cy="3585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culate 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3"/>
            <p:cNvSpPr/>
            <p:nvPr/>
          </p:nvSpPr>
          <p:spPr>
            <a:xfrm>
              <a:off x="1450800" y="2433240"/>
              <a:ext cx="1728720" cy="5760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TT &gt; RTT_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AutoShape 4"/>
            <p:cNvSpPr/>
            <p:nvPr/>
          </p:nvSpPr>
          <p:spPr>
            <a:xfrm>
              <a:off x="3837240" y="4745160"/>
              <a:ext cx="1725480" cy="500040"/>
            </a:xfrm>
            <a:prstGeom prst="flowChartProcess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andover to another A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2314800" y="30081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AutoShape 8"/>
            <p:cNvSpPr/>
            <p:nvPr/>
          </p:nvSpPr>
          <p:spPr>
            <a:xfrm>
              <a:off x="442800" y="2576160"/>
              <a:ext cx="863640" cy="28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9"/>
            <p:cNvSpPr/>
            <p:nvPr/>
          </p:nvSpPr>
          <p:spPr>
            <a:xfrm>
              <a:off x="1595520" y="5529600"/>
              <a:ext cx="1511280" cy="35856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+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10"/>
            <p:cNvSpPr/>
            <p:nvPr/>
          </p:nvSpPr>
          <p:spPr>
            <a:xfrm>
              <a:off x="1379520" y="23605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17"/>
            <p:cNvSpPr/>
            <p:nvPr/>
          </p:nvSpPr>
          <p:spPr>
            <a:xfrm>
              <a:off x="3692520" y="1999800"/>
              <a:ext cx="15843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0   6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1   9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2   12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3   18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4   24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5   36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6   48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7   54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8"/>
            <p:cNvSpPr/>
            <p:nvPr/>
          </p:nvSpPr>
          <p:spPr>
            <a:xfrm>
              <a:off x="3681720" y="1999800"/>
              <a:ext cx="16668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AutoShape 20"/>
            <p:cNvSpPr/>
            <p:nvPr/>
          </p:nvSpPr>
          <p:spPr>
            <a:xfrm>
              <a:off x="1062000" y="3238560"/>
              <a:ext cx="2500200" cy="7207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urrTime‐LastTim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me_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21"/>
            <p:cNvSpPr/>
            <p:nvPr/>
          </p:nvSpPr>
          <p:spPr>
            <a:xfrm>
              <a:off x="2350440" y="30081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AutoShape 23"/>
            <p:cNvSpPr/>
            <p:nvPr/>
          </p:nvSpPr>
          <p:spPr>
            <a:xfrm>
              <a:off x="1038240" y="4673880"/>
              <a:ext cx="2523960" cy="63504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mission Rate ≤ ARF_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26"/>
            <p:cNvSpPr/>
            <p:nvPr/>
          </p:nvSpPr>
          <p:spPr>
            <a:xfrm flipH="1">
              <a:off x="1300320" y="2719080"/>
              <a:ext cx="156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29"/>
            <p:cNvSpPr/>
            <p:nvPr/>
          </p:nvSpPr>
          <p:spPr>
            <a:xfrm>
              <a:off x="2315520" y="449100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30"/>
            <p:cNvSpPr/>
            <p:nvPr/>
          </p:nvSpPr>
          <p:spPr>
            <a:xfrm>
              <a:off x="3107880" y="473724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Text Box 31"/>
            <p:cNvSpPr/>
            <p:nvPr/>
          </p:nvSpPr>
          <p:spPr>
            <a:xfrm>
              <a:off x="949320" y="322416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32"/>
            <p:cNvSpPr/>
            <p:nvPr/>
          </p:nvSpPr>
          <p:spPr>
            <a:xfrm>
              <a:off x="2387520" y="524196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AutoShape 60"/>
            <p:cNvSpPr/>
            <p:nvPr/>
          </p:nvSpPr>
          <p:spPr>
            <a:xfrm>
              <a:off x="1450800" y="4160880"/>
              <a:ext cx="1655640" cy="3585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stTime = CurrTi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64"/>
            <p:cNvSpPr/>
            <p:nvPr/>
          </p:nvSpPr>
          <p:spPr>
            <a:xfrm>
              <a:off x="4743720" y="45547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65"/>
            <p:cNvSpPr/>
            <p:nvPr/>
          </p:nvSpPr>
          <p:spPr>
            <a:xfrm flipH="1">
              <a:off x="285840" y="2720880"/>
              <a:ext cx="156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66"/>
            <p:cNvSpPr/>
            <p:nvPr/>
          </p:nvSpPr>
          <p:spPr>
            <a:xfrm>
              <a:off x="2315520" y="392760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8"/>
            <p:cNvSpPr/>
            <p:nvPr/>
          </p:nvSpPr>
          <p:spPr>
            <a:xfrm>
              <a:off x="2314800" y="221580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9"/>
            <p:cNvSpPr/>
            <p:nvPr/>
          </p:nvSpPr>
          <p:spPr>
            <a:xfrm>
              <a:off x="2314800" y="394488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70"/>
            <p:cNvSpPr/>
            <p:nvPr/>
          </p:nvSpPr>
          <p:spPr>
            <a:xfrm>
              <a:off x="2314800" y="45212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71"/>
            <p:cNvSpPr/>
            <p:nvPr/>
          </p:nvSpPr>
          <p:spPr>
            <a:xfrm>
              <a:off x="2314800" y="531360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3" name="Straight Arrow Connector 68"/>
            <p:cNvCxnSpPr>
              <a:stCxn id="509" idx="3"/>
            </p:cNvCxnSpPr>
            <p:nvPr/>
          </p:nvCxnSpPr>
          <p:spPr>
            <a:xfrm>
              <a:off x="3562560" y="4991040"/>
              <a:ext cx="275040" cy="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4" name="Shape 72"/>
            <p:cNvCxnSpPr>
              <a:endCxn id="503" idx="3"/>
            </p:cNvCxnSpPr>
            <p:nvPr/>
          </p:nvCxnSpPr>
          <p:spPr>
            <a:xfrm rot="5400000">
              <a:off x="3670920" y="4680000"/>
              <a:ext cx="464040" cy="159372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525" name="Elbow Connector 74"/>
            <p:cNvCxnSpPr>
              <a:stCxn id="503" idx="1"/>
              <a:endCxn id="498" idx="1"/>
            </p:cNvCxnSpPr>
            <p:nvPr/>
          </p:nvCxnSpPr>
          <p:spPr>
            <a:xfrm rot="10800000">
              <a:off x="1523160" y="2035800"/>
              <a:ext cx="72000" cy="3673080"/>
            </a:xfrm>
            <a:prstGeom prst="bentConnector3">
              <a:avLst>
                <a:gd name="adj1" fmla="val 1958793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526" name="Slide Number Placeholder 3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0E911-D6B1-450F-9532-6701A5CEF1C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7" name="Straight Arrow Connector 36"/>
          <p:cNvCxnSpPr>
            <a:stCxn id="507" idx="1"/>
          </p:cNvCxnSpPr>
          <p:nvPr/>
        </p:nvCxnSpPr>
        <p:spPr>
          <a:xfrm flipH="1">
            <a:off x="204120" y="3597840"/>
            <a:ext cx="8578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Oval 33"/>
          <p:cNvSpPr/>
          <p:nvPr/>
        </p:nvSpPr>
        <p:spPr>
          <a:xfrm>
            <a:off x="7786800" y="3500280"/>
            <a:ext cx="928440" cy="642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34"/>
          <p:cNvSpPr/>
          <p:nvPr/>
        </p:nvSpPr>
        <p:spPr>
          <a:xfrm>
            <a:off x="7143840" y="3286080"/>
            <a:ext cx="1714320" cy="107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35"/>
          <p:cNvSpPr/>
          <p:nvPr/>
        </p:nvSpPr>
        <p:spPr>
          <a:xfrm>
            <a:off x="5929200" y="2786040"/>
            <a:ext cx="3000600" cy="2000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9"/>
          <p:cNvSpPr/>
          <p:nvPr/>
        </p:nvSpPr>
        <p:spPr>
          <a:xfrm>
            <a:off x="6572160" y="3071880"/>
            <a:ext cx="2357640" cy="143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41" descr=""/>
          <p:cNvPicPr/>
          <p:nvPr/>
        </p:nvPicPr>
        <p:blipFill>
          <a:blip r:embed="rId1"/>
          <a:stretch/>
        </p:blipFill>
        <p:spPr>
          <a:xfrm>
            <a:off x="6215040" y="30718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533" name="TextBox 44"/>
          <p:cNvSpPr/>
          <p:nvPr/>
        </p:nvSpPr>
        <p:spPr>
          <a:xfrm>
            <a:off x="6146280" y="335772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41" descr=""/>
          <p:cNvPicPr/>
          <p:nvPr/>
        </p:nvPicPr>
        <p:blipFill>
          <a:blip r:embed="rId2"/>
          <a:stretch/>
        </p:blipFill>
        <p:spPr>
          <a:xfrm>
            <a:off x="6072120" y="371484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6"/>
          <p:cNvSpPr/>
          <p:nvPr/>
        </p:nvSpPr>
        <p:spPr>
          <a:xfrm>
            <a:off x="6003360" y="405612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7"/>
          <p:cNvSpPr/>
          <p:nvPr/>
        </p:nvSpPr>
        <p:spPr>
          <a:xfrm>
            <a:off x="6718320" y="385776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48"/>
          <p:cNvSpPr/>
          <p:nvPr/>
        </p:nvSpPr>
        <p:spPr>
          <a:xfrm>
            <a:off x="7373160" y="38419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4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49"/>
          <p:cNvSpPr/>
          <p:nvPr/>
        </p:nvSpPr>
        <p:spPr>
          <a:xfrm>
            <a:off x="7004160" y="33577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41" descr=""/>
          <p:cNvPicPr/>
          <p:nvPr/>
        </p:nvPicPr>
        <p:blipFill>
          <a:blip r:embed="rId3"/>
          <a:stretch/>
        </p:blipFill>
        <p:spPr>
          <a:xfrm>
            <a:off x="6715080" y="3500280"/>
            <a:ext cx="285840" cy="3574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1" descr=""/>
          <p:cNvPicPr/>
          <p:nvPr/>
        </p:nvPicPr>
        <p:blipFill>
          <a:blip r:embed="rId4"/>
          <a:stretch/>
        </p:blipFill>
        <p:spPr>
          <a:xfrm>
            <a:off x="7429680" y="3500280"/>
            <a:ext cx="285480" cy="3574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1" descr=""/>
          <p:cNvPicPr/>
          <p:nvPr/>
        </p:nvPicPr>
        <p:blipFill>
          <a:blip r:embed="rId5"/>
          <a:stretch/>
        </p:blipFill>
        <p:spPr>
          <a:xfrm>
            <a:off x="7072200" y="307188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1" descr=""/>
          <p:cNvPicPr/>
          <p:nvPr/>
        </p:nvPicPr>
        <p:blipFill>
          <a:blip r:embed="rId6"/>
          <a:stretch/>
        </p:blipFill>
        <p:spPr>
          <a:xfrm>
            <a:off x="8143920" y="3544920"/>
            <a:ext cx="3999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Elimination of Redundant Probe Pa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very MN measures RTT using probe packe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ckets produce redundant traffic leading to unnecessary network overlo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olutio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MN sends probe packe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 of MNs measure RTT by capturing existing probe packets over wireless link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98288-3282-42F0-B7F6-853FE6634CD0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457200" y="277920"/>
            <a:ext cx="8224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</a:t>
            </a:r>
            <a:br>
              <a:rPr sz="3800"/>
            </a:br>
            <a:r>
              <a:rPr b="0" lang="en-GB" sz="2800" spc="-1" strike="noStrike">
                <a:solidFill>
                  <a:srgbClr val="006633"/>
                </a:solidFill>
                <a:latin typeface="Garamond"/>
              </a:rPr>
              <a:t>Elimination of Redundant Probe Pa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Slide Number Placeholder 8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DAEF8-93C8-4C86-86D0-49DF5E88D62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1"/>
          <p:cNvSpPr/>
          <p:nvPr/>
        </p:nvSpPr>
        <p:spPr>
          <a:xfrm>
            <a:off x="3786120" y="1728720"/>
            <a:ext cx="1674720" cy="324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ptured Packe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3"/>
          <p:cNvSpPr/>
          <p:nvPr/>
        </p:nvSpPr>
        <p:spPr>
          <a:xfrm>
            <a:off x="3405240" y="2252520"/>
            <a:ext cx="2436840" cy="99864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be packet size =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ptured packet s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59"/>
          <p:cNvSpPr/>
          <p:nvPr/>
        </p:nvSpPr>
        <p:spPr>
          <a:xfrm>
            <a:off x="3679920" y="3403440"/>
            <a:ext cx="1892160" cy="298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LastTime=Curr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3"/>
          <p:cNvSpPr/>
          <p:nvPr/>
        </p:nvSpPr>
        <p:spPr>
          <a:xfrm>
            <a:off x="3286080" y="3832200"/>
            <a:ext cx="2714760" cy="857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 Reply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Source MAC Addr = =AP’s Addr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42"/>
          <p:cNvSpPr/>
          <p:nvPr/>
        </p:nvSpPr>
        <p:spPr>
          <a:xfrm>
            <a:off x="2214720" y="4689360"/>
            <a:ext cx="2019240" cy="357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ply_Time=Curr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AutoShape 35"/>
          <p:cNvSpPr/>
          <p:nvPr/>
        </p:nvSpPr>
        <p:spPr>
          <a:xfrm>
            <a:off x="5072040" y="4689360"/>
            <a:ext cx="2000160" cy="357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q_Time=Curr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44"/>
          <p:cNvSpPr/>
          <p:nvPr/>
        </p:nvSpPr>
        <p:spPr>
          <a:xfrm>
            <a:off x="1969920" y="5261040"/>
            <a:ext cx="2530800" cy="5968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W-RTT=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ply_Time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q_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5" name="Straight Arrow Connector 9"/>
          <p:cNvCxnSpPr>
            <a:stCxn id="548" idx="2"/>
            <a:endCxn id="549" idx="0"/>
          </p:cNvCxnSpPr>
          <p:nvPr/>
        </p:nvCxnSpPr>
        <p:spPr>
          <a:xfrm flipH="1">
            <a:off x="4622040" y="2052360"/>
            <a:ext cx="252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Straight Arrow Connector 12"/>
          <p:cNvCxnSpPr>
            <a:stCxn id="549" idx="2"/>
            <a:endCxn id="550" idx="0"/>
          </p:cNvCxnSpPr>
          <p:nvPr/>
        </p:nvCxnSpPr>
        <p:spPr>
          <a:xfrm>
            <a:off x="4624560" y="3250800"/>
            <a:ext cx="21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14"/>
          <p:cNvCxnSpPr>
            <a:stCxn id="550" idx="2"/>
            <a:endCxn id="551" idx="0"/>
          </p:cNvCxnSpPr>
          <p:nvPr/>
        </p:nvCxnSpPr>
        <p:spPr>
          <a:xfrm>
            <a:off x="4626000" y="3701880"/>
            <a:ext cx="1800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hape 19"/>
          <p:cNvCxnSpPr>
            <a:stCxn id="551" idx="1"/>
            <a:endCxn id="552" idx="0"/>
          </p:cNvCxnSpPr>
          <p:nvPr/>
        </p:nvCxnSpPr>
        <p:spPr>
          <a:xfrm flipV="1" rot="10800000">
            <a:off x="3223440" y="4260600"/>
            <a:ext cx="62640" cy="4291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59" name="Shape 23"/>
          <p:cNvCxnSpPr>
            <a:stCxn id="551" idx="3"/>
            <a:endCxn id="553" idx="0"/>
          </p:cNvCxnSpPr>
          <p:nvPr/>
        </p:nvCxnSpPr>
        <p:spPr>
          <a:xfrm>
            <a:off x="6000840" y="4260960"/>
            <a:ext cx="72000" cy="4291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0" name="Straight Arrow Connector 25"/>
          <p:cNvCxnSpPr>
            <a:stCxn id="552" idx="2"/>
            <a:endCxn id="554" idx="0"/>
          </p:cNvCxnSpPr>
          <p:nvPr/>
        </p:nvCxnSpPr>
        <p:spPr>
          <a:xfrm>
            <a:off x="3223080" y="5046480"/>
            <a:ext cx="118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1" name="TextBox 26"/>
          <p:cNvSpPr/>
          <p:nvPr/>
        </p:nvSpPr>
        <p:spPr>
          <a:xfrm>
            <a:off x="2714760" y="4189320"/>
            <a:ext cx="50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143760" y="4213080"/>
            <a:ext cx="50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3" name="Shape 34"/>
          <p:cNvCxnSpPr>
            <a:stCxn id="553" idx="2"/>
            <a:endCxn id="548" idx="3"/>
          </p:cNvCxnSpPr>
          <p:nvPr/>
        </p:nvCxnSpPr>
        <p:spPr>
          <a:xfrm flipV="1" rot="16200000">
            <a:off x="4187880" y="3162240"/>
            <a:ext cx="3156840" cy="612000"/>
          </a:xfrm>
          <a:prstGeom prst="bentConnector4">
            <a:avLst>
              <a:gd name="adj1" fmla="val -26961"/>
              <a:gd name="adj2" fmla="val -176103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4" name="Shape 41"/>
          <p:cNvCxnSpPr>
            <a:stCxn id="554" idx="2"/>
            <a:endCxn id="548" idx="1"/>
          </p:cNvCxnSpPr>
          <p:nvPr/>
        </p:nvCxnSpPr>
        <p:spPr>
          <a:xfrm flipH="1" flipV="1" rot="5400000">
            <a:off x="1526760" y="3598560"/>
            <a:ext cx="3967920" cy="551520"/>
          </a:xfrm>
          <a:prstGeom prst="bentConnector4">
            <a:avLst>
              <a:gd name="adj1" fmla="val -2876"/>
              <a:gd name="adj2" fmla="val -250424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5" name="Elbow Connector 50"/>
          <p:cNvCxnSpPr>
            <a:stCxn id="549" idx="3"/>
            <a:endCxn id="548" idx="3"/>
          </p:cNvCxnSpPr>
          <p:nvPr/>
        </p:nvCxnSpPr>
        <p:spPr>
          <a:xfrm flipH="1" flipV="1">
            <a:off x="5460120" y="1890360"/>
            <a:ext cx="381960" cy="862560"/>
          </a:xfrm>
          <a:prstGeom prst="bentConnector3">
            <a:avLst>
              <a:gd name="adj1" fmla="val -3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66" name="TextBox 53"/>
          <p:cNvSpPr/>
          <p:nvPr/>
        </p:nvSpPr>
        <p:spPr>
          <a:xfrm>
            <a:off x="4071960" y="3141720"/>
            <a:ext cx="50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54"/>
          <p:cNvSpPr/>
          <p:nvPr/>
        </p:nvSpPr>
        <p:spPr>
          <a:xfrm>
            <a:off x="5786280" y="2498760"/>
            <a:ext cx="50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6633"/>
                </a:solidFill>
                <a:latin typeface="Garamond"/>
              </a:rPr>
              <a:t>Evaluation of Proposed Handoff Strategy</a:t>
            </a:r>
            <a:br>
              <a:rPr sz="4400"/>
            </a:b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Simulation Scenar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ed Handoff Strategy vs. Handoff Strategy based on Data Frame Re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s establish VoIP call with their C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MNs randomly move between two 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3143160" y="3143160"/>
            <a:ext cx="5568840" cy="2946600"/>
            <a:chOff x="3143160" y="3143160"/>
            <a:chExt cx="5568840" cy="2946600"/>
          </a:xfrm>
        </p:grpSpPr>
        <p:grpSp>
          <p:nvGrpSpPr>
            <p:cNvPr id="571" name="Group 4"/>
            <p:cNvGrpSpPr/>
            <p:nvPr/>
          </p:nvGrpSpPr>
          <p:grpSpPr>
            <a:xfrm>
              <a:off x="3143160" y="3510360"/>
              <a:ext cx="523440" cy="479520"/>
              <a:chOff x="3143160" y="3510360"/>
              <a:chExt cx="523440" cy="479520"/>
            </a:xfrm>
          </p:grpSpPr>
          <p:pic>
            <p:nvPicPr>
              <p:cNvPr id="572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143160" y="3510360"/>
                <a:ext cx="523440" cy="4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4"/>
              <p:cNvSpPr/>
              <p:nvPr/>
            </p:nvSpPr>
            <p:spPr>
              <a:xfrm>
                <a:off x="3143160" y="3510360"/>
                <a:ext cx="523440" cy="4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5"/>
            <p:cNvGrpSpPr/>
            <p:nvPr/>
          </p:nvGrpSpPr>
          <p:grpSpPr>
            <a:xfrm>
              <a:off x="3143160" y="4937760"/>
              <a:ext cx="523440" cy="479520"/>
              <a:chOff x="3143160" y="4937760"/>
              <a:chExt cx="523440" cy="479520"/>
            </a:xfrm>
          </p:grpSpPr>
          <p:pic>
            <p:nvPicPr>
              <p:cNvPr id="575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143160" y="4937760"/>
                <a:ext cx="523440" cy="4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7"/>
              <p:cNvSpPr/>
              <p:nvPr/>
            </p:nvSpPr>
            <p:spPr>
              <a:xfrm>
                <a:off x="3143160" y="4937760"/>
                <a:ext cx="523440" cy="4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8"/>
            <p:cNvGrpSpPr/>
            <p:nvPr/>
          </p:nvGrpSpPr>
          <p:grpSpPr>
            <a:xfrm>
              <a:off x="3143160" y="4039560"/>
              <a:ext cx="523440" cy="480600"/>
              <a:chOff x="3143160" y="4039560"/>
              <a:chExt cx="523440" cy="480600"/>
            </a:xfrm>
          </p:grpSpPr>
          <p:pic>
            <p:nvPicPr>
              <p:cNvPr id="578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143160" y="4039560"/>
                <a:ext cx="523440" cy="48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Text Box 10"/>
              <p:cNvSpPr/>
              <p:nvPr/>
            </p:nvSpPr>
            <p:spPr>
              <a:xfrm>
                <a:off x="3143160" y="4039560"/>
                <a:ext cx="52344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1"/>
            <p:cNvGrpSpPr/>
            <p:nvPr/>
          </p:nvGrpSpPr>
          <p:grpSpPr>
            <a:xfrm>
              <a:off x="5670720" y="3802320"/>
              <a:ext cx="531720" cy="376560"/>
              <a:chOff x="5670720" y="3802320"/>
              <a:chExt cx="531720" cy="376560"/>
            </a:xfrm>
          </p:grpSpPr>
          <p:pic>
            <p:nvPicPr>
              <p:cNvPr id="581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670720" y="3802320"/>
                <a:ext cx="531720" cy="29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 Box 13"/>
              <p:cNvSpPr/>
              <p:nvPr/>
            </p:nvSpPr>
            <p:spPr>
              <a:xfrm>
                <a:off x="5670720" y="3802320"/>
                <a:ext cx="531720" cy="37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83" name="Picture 14" descr=""/>
            <p:cNvPicPr/>
            <p:nvPr/>
          </p:nvPicPr>
          <p:blipFill>
            <a:blip r:embed="rId5"/>
            <a:stretch/>
          </p:blipFill>
          <p:spPr>
            <a:xfrm>
              <a:off x="4721400" y="4496040"/>
              <a:ext cx="690840" cy="5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15" descr=""/>
            <p:cNvPicPr/>
            <p:nvPr/>
          </p:nvPicPr>
          <p:blipFill>
            <a:blip r:embed="rId6"/>
            <a:stretch/>
          </p:blipFill>
          <p:spPr>
            <a:xfrm>
              <a:off x="6561360" y="4463280"/>
              <a:ext cx="690840" cy="5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16"/>
            <p:cNvSpPr/>
            <p:nvPr/>
          </p:nvSpPr>
          <p:spPr>
            <a:xfrm flipH="1">
              <a:off x="5188320" y="4097160"/>
              <a:ext cx="609840" cy="64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7"/>
            <p:cNvSpPr/>
            <p:nvPr/>
          </p:nvSpPr>
          <p:spPr>
            <a:xfrm>
              <a:off x="6087600" y="4047480"/>
              <a:ext cx="888840" cy="69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8"/>
            <p:cNvSpPr/>
            <p:nvPr/>
          </p:nvSpPr>
          <p:spPr>
            <a:xfrm flipH="1">
              <a:off x="4085640" y="3910680"/>
              <a:ext cx="15609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9"/>
            <p:cNvSpPr/>
            <p:nvPr/>
          </p:nvSpPr>
          <p:spPr>
            <a:xfrm>
              <a:off x="4093920" y="3690360"/>
              <a:ext cx="1440" cy="154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20"/>
            <p:cNvSpPr/>
            <p:nvPr/>
          </p:nvSpPr>
          <p:spPr>
            <a:xfrm flipH="1">
              <a:off x="3668400" y="3691800"/>
              <a:ext cx="4341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21"/>
            <p:cNvSpPr/>
            <p:nvPr/>
          </p:nvSpPr>
          <p:spPr>
            <a:xfrm flipH="1">
              <a:off x="3668400" y="4240440"/>
              <a:ext cx="4341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 flipH="1">
              <a:off x="3668400" y="5236200"/>
              <a:ext cx="4341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23"/>
            <p:cNvSpPr/>
            <p:nvPr/>
          </p:nvSpPr>
          <p:spPr>
            <a:xfrm>
              <a:off x="3768480" y="5565960"/>
              <a:ext cx="3025440" cy="4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24"/>
            <p:cNvSpPr/>
            <p:nvPr/>
          </p:nvSpPr>
          <p:spPr>
            <a:xfrm>
              <a:off x="5198400" y="5590800"/>
              <a:ext cx="3025440" cy="4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 flipH="1">
              <a:off x="3763080" y="4856760"/>
              <a:ext cx="1023480" cy="946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26"/>
            <p:cNvSpPr/>
            <p:nvPr/>
          </p:nvSpPr>
          <p:spPr>
            <a:xfrm>
              <a:off x="5315760" y="4894560"/>
              <a:ext cx="1541880" cy="89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 flipH="1">
              <a:off x="5188320" y="4795560"/>
              <a:ext cx="1500480" cy="99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28"/>
            <p:cNvSpPr/>
            <p:nvPr/>
          </p:nvSpPr>
          <p:spPr>
            <a:xfrm>
              <a:off x="7095600" y="4845240"/>
              <a:ext cx="1128240" cy="99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Text Box 29"/>
            <p:cNvSpPr/>
            <p:nvPr/>
          </p:nvSpPr>
          <p:spPr>
            <a:xfrm>
              <a:off x="4245120" y="4782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Text Box 30"/>
            <p:cNvSpPr/>
            <p:nvPr/>
          </p:nvSpPr>
          <p:spPr>
            <a:xfrm>
              <a:off x="7239960" y="47890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Text Box 31"/>
            <p:cNvSpPr/>
            <p:nvPr/>
          </p:nvSpPr>
          <p:spPr>
            <a:xfrm>
              <a:off x="5594760" y="35560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32"/>
            <p:cNvSpPr/>
            <p:nvPr/>
          </p:nvSpPr>
          <p:spPr>
            <a:xfrm>
              <a:off x="3206160" y="314316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33"/>
            <p:cNvSpPr/>
            <p:nvPr/>
          </p:nvSpPr>
          <p:spPr>
            <a:xfrm>
              <a:off x="3336480" y="4454280"/>
              <a:ext cx="25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34"/>
            <p:cNvSpPr/>
            <p:nvPr/>
          </p:nvSpPr>
          <p:spPr>
            <a:xfrm>
              <a:off x="5372640" y="4845240"/>
              <a:ext cx="118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Text Box 35"/>
            <p:cNvSpPr/>
            <p:nvPr/>
          </p:nvSpPr>
          <p:spPr>
            <a:xfrm>
              <a:off x="5679720" y="46443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AutoShape 36"/>
            <p:cNvSpPr/>
            <p:nvPr/>
          </p:nvSpPr>
          <p:spPr>
            <a:xfrm>
              <a:off x="4998600" y="5842440"/>
              <a:ext cx="613080" cy="2109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AutoShape 37"/>
            <p:cNvSpPr/>
            <p:nvPr/>
          </p:nvSpPr>
          <p:spPr>
            <a:xfrm>
              <a:off x="5932440" y="5655960"/>
              <a:ext cx="1104120" cy="961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AutoShape 38"/>
            <p:cNvSpPr/>
            <p:nvPr/>
          </p:nvSpPr>
          <p:spPr>
            <a:xfrm>
              <a:off x="6266880" y="5804640"/>
              <a:ext cx="763200" cy="269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AutoShape 39"/>
            <p:cNvSpPr/>
            <p:nvPr/>
          </p:nvSpPr>
          <p:spPr>
            <a:xfrm>
              <a:off x="4176720" y="5626080"/>
              <a:ext cx="1702080" cy="3164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9" name="Picture 40" descr=""/>
            <p:cNvPicPr/>
            <p:nvPr/>
          </p:nvPicPr>
          <p:blipFill>
            <a:blip r:embed="rId7"/>
            <a:stretch/>
          </p:blipFill>
          <p:spPr>
            <a:xfrm>
              <a:off x="5722200" y="561672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41" descr=""/>
            <p:cNvPicPr/>
            <p:nvPr/>
          </p:nvPicPr>
          <p:blipFill>
            <a:blip r:embed="rId8"/>
            <a:stretch/>
          </p:blipFill>
          <p:spPr>
            <a:xfrm>
              <a:off x="4785120" y="579420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42" descr=""/>
            <p:cNvPicPr/>
            <p:nvPr/>
          </p:nvPicPr>
          <p:blipFill>
            <a:blip r:embed="rId9"/>
            <a:stretch/>
          </p:blipFill>
          <p:spPr>
            <a:xfrm>
              <a:off x="6973200" y="573552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43" descr=""/>
            <p:cNvPicPr/>
            <p:nvPr/>
          </p:nvPicPr>
          <p:blipFill>
            <a:blip r:embed="rId10"/>
            <a:stretch/>
          </p:blipFill>
          <p:spPr>
            <a:xfrm>
              <a:off x="5956560" y="579420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44"/>
            <p:cNvSpPr/>
            <p:nvPr/>
          </p:nvSpPr>
          <p:spPr>
            <a:xfrm>
              <a:off x="6606360" y="3419280"/>
              <a:ext cx="210564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N speed = 1 m/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Slide Number Placeholder 47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F8AF1-B9E3-40DB-8D50-C04F52320F5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1357200"/>
            <a:ext cx="822960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uge demand for Voice over IP (VoIP) service over WL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minant WLAN today: IEEE802.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bile Node (MN) more likely to traverse several hotspots during VoIP c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ed reliable Handoff Management for real-time applications such as Vo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2999880" y="4408560"/>
            <a:ext cx="5356440" cy="1755000"/>
            <a:chOff x="2999880" y="4408560"/>
            <a:chExt cx="5356440" cy="1755000"/>
          </a:xfrm>
        </p:grpSpPr>
        <p:pic>
          <p:nvPicPr>
            <p:cNvPr id="106" name="Picture 4" descr=""/>
            <p:cNvPicPr/>
            <p:nvPr/>
          </p:nvPicPr>
          <p:blipFill>
            <a:blip r:embed="rId1"/>
            <a:stretch/>
          </p:blipFill>
          <p:spPr>
            <a:xfrm>
              <a:off x="7024680" y="5536080"/>
              <a:ext cx="347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"/>
            <p:cNvSpPr/>
            <p:nvPr/>
          </p:nvSpPr>
          <p:spPr>
            <a:xfrm>
              <a:off x="5928120" y="5321880"/>
              <a:ext cx="40464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7572600" y="4660560"/>
              <a:ext cx="4107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" name="Picture 7" descr=""/>
            <p:cNvPicPr/>
            <p:nvPr/>
          </p:nvPicPr>
          <p:blipFill>
            <a:blip r:embed="rId2"/>
            <a:stretch/>
          </p:blipFill>
          <p:spPr>
            <a:xfrm>
              <a:off x="5404680" y="4408560"/>
              <a:ext cx="531360" cy="5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Oval 8"/>
            <p:cNvSpPr/>
            <p:nvPr/>
          </p:nvSpPr>
          <p:spPr>
            <a:xfrm>
              <a:off x="4361760" y="5482080"/>
              <a:ext cx="2459880" cy="46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4303080" y="4825800"/>
              <a:ext cx="1153800" cy="924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5868000" y="4730400"/>
              <a:ext cx="983880" cy="96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1"/>
            <p:cNvSpPr/>
            <p:nvPr/>
          </p:nvSpPr>
          <p:spPr>
            <a:xfrm>
              <a:off x="5936040" y="45018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Picture 12" descr=""/>
            <p:cNvPicPr/>
            <p:nvPr/>
          </p:nvPicPr>
          <p:blipFill>
            <a:blip r:embed="rId3"/>
            <a:stretch/>
          </p:blipFill>
          <p:spPr>
            <a:xfrm>
              <a:off x="3436560" y="5749920"/>
              <a:ext cx="32976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4070160" y="4635000"/>
              <a:ext cx="4107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" name="Picture 14" descr=""/>
            <p:cNvPicPr/>
            <p:nvPr/>
          </p:nvPicPr>
          <p:blipFill>
            <a:blip r:embed="rId4"/>
            <a:stretch/>
          </p:blipFill>
          <p:spPr>
            <a:xfrm>
              <a:off x="4025520" y="4517640"/>
              <a:ext cx="531360" cy="5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Oval 15"/>
            <p:cNvSpPr/>
            <p:nvPr/>
          </p:nvSpPr>
          <p:spPr>
            <a:xfrm>
              <a:off x="3000240" y="5650560"/>
              <a:ext cx="2459880" cy="462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 flipH="1">
              <a:off x="2999880" y="4936320"/>
              <a:ext cx="1153800" cy="92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4474440" y="4887360"/>
              <a:ext cx="983880" cy="96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8"/>
            <p:cNvSpPr/>
            <p:nvPr/>
          </p:nvSpPr>
          <p:spPr>
            <a:xfrm>
              <a:off x="4469400" y="46414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Picture 19" descr=""/>
            <p:cNvPicPr/>
            <p:nvPr/>
          </p:nvPicPr>
          <p:blipFill>
            <a:blip r:embed="rId5"/>
            <a:stretch/>
          </p:blipFill>
          <p:spPr>
            <a:xfrm>
              <a:off x="4073040" y="5698080"/>
              <a:ext cx="204480" cy="2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20"/>
            <p:cNvSpPr/>
            <p:nvPr/>
          </p:nvSpPr>
          <p:spPr>
            <a:xfrm>
              <a:off x="3957120" y="585648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Picture 21" descr=""/>
            <p:cNvPicPr/>
            <p:nvPr/>
          </p:nvPicPr>
          <p:blipFill>
            <a:blip r:embed="rId6"/>
            <a:stretch/>
          </p:blipFill>
          <p:spPr>
            <a:xfrm>
              <a:off x="6909480" y="4463640"/>
              <a:ext cx="531360" cy="5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Line 22"/>
            <p:cNvSpPr/>
            <p:nvPr/>
          </p:nvSpPr>
          <p:spPr>
            <a:xfrm flipH="1">
              <a:off x="5807160" y="4939560"/>
              <a:ext cx="1153800" cy="92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7372440" y="4846320"/>
              <a:ext cx="983880" cy="96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5868000" y="5609160"/>
              <a:ext cx="2459880" cy="46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25"/>
            <p:cNvSpPr/>
            <p:nvPr/>
          </p:nvSpPr>
          <p:spPr>
            <a:xfrm>
              <a:off x="7499520" y="457164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AutoShape 26"/>
            <p:cNvSpPr/>
            <p:nvPr/>
          </p:nvSpPr>
          <p:spPr>
            <a:xfrm>
              <a:off x="4369680" y="5582160"/>
              <a:ext cx="3337560" cy="3981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9" name="Picture 27" descr=""/>
            <p:cNvPicPr/>
            <p:nvPr/>
          </p:nvPicPr>
          <p:blipFill>
            <a:blip r:embed="rId7"/>
            <a:stretch/>
          </p:blipFill>
          <p:spPr>
            <a:xfrm>
              <a:off x="7720200" y="5749920"/>
              <a:ext cx="20448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8" descr=""/>
            <p:cNvPicPr/>
            <p:nvPr/>
          </p:nvPicPr>
          <p:blipFill>
            <a:blip r:embed="rId8"/>
            <a:stretch/>
          </p:blipFill>
          <p:spPr>
            <a:xfrm>
              <a:off x="5577840" y="5268240"/>
              <a:ext cx="329760" cy="36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Slide Number Placeholder 29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39771-E297-4307-B9EA-245ACAC87CF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6633"/>
                </a:solidFill>
                <a:latin typeface="Garamond"/>
              </a:rPr>
              <a:t>Evaluation of Proposed Handoff Strategy:</a:t>
            </a:r>
            <a:br>
              <a:rPr sz="34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Simulation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4716360" y="2357280"/>
            <a:ext cx="4038840" cy="28274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395280" y="2357280"/>
            <a:ext cx="4038480" cy="28274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4"/>
          <p:cNvSpPr/>
          <p:nvPr/>
        </p:nvSpPr>
        <p:spPr>
          <a:xfrm>
            <a:off x="5410800" y="548784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Handoff Strate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1105920" y="5497560"/>
            <a:ext cx="28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ff Strategy based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ame Re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Slide Number Placeholder 6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508F2-BDE5-41E5-9590-D0066699FFD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traight Connector 12"/>
          <p:cNvSpPr/>
          <p:nvPr/>
        </p:nvSpPr>
        <p:spPr>
          <a:xfrm>
            <a:off x="7358040" y="1428840"/>
            <a:ext cx="785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Straight Connector 13"/>
          <p:cNvSpPr/>
          <p:nvPr/>
        </p:nvSpPr>
        <p:spPr>
          <a:xfrm>
            <a:off x="7358040" y="1643040"/>
            <a:ext cx="78588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Box 14"/>
          <p:cNvSpPr/>
          <p:nvPr/>
        </p:nvSpPr>
        <p:spPr>
          <a:xfrm>
            <a:off x="5885640" y="12859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Queue Leng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15"/>
          <p:cNvSpPr/>
          <p:nvPr/>
        </p:nvSpPr>
        <p:spPr>
          <a:xfrm>
            <a:off x="6755040" y="1500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16"/>
          <p:cNvSpPr/>
          <p:nvPr/>
        </p:nvSpPr>
        <p:spPr>
          <a:xfrm>
            <a:off x="1717920" y="2152800"/>
            <a:ext cx="152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MOS: 1.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Box 17"/>
          <p:cNvSpPr/>
          <p:nvPr/>
        </p:nvSpPr>
        <p:spPr>
          <a:xfrm>
            <a:off x="6075720" y="2143080"/>
            <a:ext cx="152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MOS: 3.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8"/>
          <p:cNvSpPr/>
          <p:nvPr/>
        </p:nvSpPr>
        <p:spPr>
          <a:xfrm>
            <a:off x="5857920" y="1214280"/>
            <a:ext cx="2428920" cy="571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457200" y="1357200"/>
            <a:ext cx="82296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posed Handoff Decision Metr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S Re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imation of AP Queue Length (RT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posed Handoff strategy for VoI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 Handoff based on wireless link condition &amp; congestion state at 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le to detect congested AP, not to execute Handoff to congested 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ibu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mless Handov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d-balancing between  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5C0C9-A326-4754-9708-2EBED1FFAB2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1"/>
          <p:cNvSpPr/>
          <p:nvPr/>
        </p:nvSpPr>
        <p:spPr>
          <a:xfrm>
            <a:off x="590400" y="2909880"/>
            <a:ext cx="82296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22A3C-80A6-49A7-AD4B-A56BD7B2F9D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VoIP over WLAN (VoWLAN) Challenges (1)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IP sensitive to delay and packe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EE802.11-based WLAN not originally designed to support delay &amp; packet loss sensitiv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istic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wireless much worse than wired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83A6F-37BC-4BD1-A12A-1818E0AB66DA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VoIP over WLAN (VoWLAN) Challenges (2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quality mainly degraded due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or Wireless Link 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34776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ment, radio interference and obstac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gestion at A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34776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 number of Mobile Termin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 need to detect degradation of VoIP quality &amp; handoff to another WLA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Handoff Management to maintain VoIP quality during hand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C9FFB-3A1E-4652-B922-3AECEFED39A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xisting Handoff Manage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bile 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MIPv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IPv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-TC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-UD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-SC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20C7C-6195-4B0A-9BBA-06D8E26F04DA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imitation of Existing Handoff Manage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760400"/>
            <a:ext cx="82249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off decision metric and criteria are not discussed in deta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y on only upper layer informa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E8F29-C66F-419F-9FD0-4EDDAA3C179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electing Handoff Decision Metric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1214280"/>
            <a:ext cx="822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Handoff Decision Metr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d Signal Streng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andoff Decision Metric from Layer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of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 layer has potential to be significant metric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ries inevitably occur before packet loss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an MN to detect wireless link condition quickly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932F7-4F6D-46B3-A3F3-94FA84EAAE4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 reliable Handoff Decision Metric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Mobile Terminal-based Handoff Management to maintain VoIP call quality during hando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17DEB-3378-4ECF-A40F-B165366AC29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4:41:50Z</dcterms:created>
  <dc:creator>Adminstrator</dc:creator>
  <dc:description/>
  <dc:language>en-US</dc:language>
  <cp:lastModifiedBy>niswar-m</cp:lastModifiedBy>
  <dcterms:modified xsi:type="dcterms:W3CDTF">2009-03-13T13:39:32Z</dcterms:modified>
  <cp:revision>172</cp:revision>
  <dc:subject/>
  <dc:title>Handover Decision Strategy based on estimation of AP Queue Length &amp; Frame Retries in VoWLAN</dc:title>
</cp:coreProperties>
</file>