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0"/>
            <a:ext cx="7020000" cy="9306000"/>
          </a:xfrm>
          <a:custGeom>
            <a:avLst/>
            <a:gdLst>
              <a:gd name="textAreaLeft" fmla="*/ 360 w 7020000"/>
              <a:gd name="textAreaRight" fmla="*/ 7019640 w 7020000"/>
              <a:gd name="textAreaTop" fmla="*/ 360 h 9306000"/>
              <a:gd name="textAreaBottom" fmla="*/ 9305640 h 9306000"/>
            </a:gdLst>
            <a:ahLst/>
            <a:rect l="textAreaLeft" t="textAreaTop" r="textAreaRight" b="textAreaBottom"/>
            <a:pathLst>
              <a:path w="21600" h="28633">
                <a:moveTo>
                  <a:pt x="5" y="0"/>
                </a:moveTo>
                <a:arcTo wR="5" hR="5" stAng="16200000" swAng="-5400000"/>
                <a:lnTo>
                  <a:pt x="0" y="28628"/>
                </a:lnTo>
                <a:arcTo wR="5" hR="5" stAng="10800000" swAng="-5400000"/>
                <a:lnTo>
                  <a:pt x="21595" y="286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0"/>
            <a:ext cx="3036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976560" y="0"/>
            <a:ext cx="3036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tIns="47880" bIns="47880" anchor="ctr">
            <a:noAutofit/>
          </a:bodyPr>
          <a:p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0" y="8831160"/>
            <a:ext cx="3036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3976560" y="8838720"/>
            <a:ext cx="303552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4A5B9-35AE-450B-AC79-B1889EDAFB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A702F-F979-4FA8-A61B-F543C82942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A87E016A-C7EF-4229-822B-94030F4D75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CE5BB-AEB2-436D-B349-302737B108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654F3-81E6-4080-8A96-08A7708ACE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89CD6569-63BA-4B95-BD47-F6EDCC709B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DB655-0422-4078-ACED-4B965FD548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BFD37-0643-4C97-B8B0-69D3ABDB2D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8FDE14FC-0EFA-4E5A-9949-90627D6CF3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A849A-A8BD-42BC-9091-F44906EC33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644D5758-07AC-4042-86FF-667E4D9346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1170000" y="698400"/>
            <a:ext cx="46767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B7D20-5518-46D6-9984-7FF24AB074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5B53889F-CDEC-49A0-8411-759777733E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0C4F9-20AA-4866-876D-DFBB6A3692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80002-9771-4C48-AF54-344EE0E3F2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F39BC100-15B4-4FB5-BDC3-2F3BCD06A4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ACAF8-089C-4C5F-883F-4AD3B340BC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8C3151AA-A576-4F96-A33B-59FA78BADA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0F295-9DB8-4E9B-A359-8B042AE133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31338437-142F-4D5B-B547-192D9103D6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067FF-3ABB-46BC-8374-E0E441E21E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134F24FF-26F1-49D8-93B7-042FB35AF6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7CE6E-90BC-4C90-B1F7-2061462CB0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54129552-1585-4812-8903-DC61B35684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33C16-448F-4AA5-BF3F-59282DF3D0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7A54-C1AB-455E-968E-BF7B7A9959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6084A621-3CAB-48F9-9A50-EB33CFEC24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9D207-4ABD-49D2-B0E7-91EB1A7166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8792B9AA-AD4B-4FD5-B94A-4C08980C26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4012C-8C26-4E47-9792-A791E1FE3B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7C99301F-00A0-43A8-B4A6-8AF7E30BA9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567F7-FE3A-4B0F-A090-5CC5EFD7E0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D7C8E3D2-A28F-4A07-B050-13DB553D2E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8A63E-9820-4FE6-ADE6-8BB8740327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27280-E658-437C-A94D-B3331AE54D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630A116C-FD93-4E6F-A415-2C2BEEFD18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ABEC1-58F8-4169-AE12-0FB52FE324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8FA64-44FB-4C30-AC3D-B26C1A6975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729F3-C409-4F69-BE8C-E003758ACC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13C5965C-2F00-49BF-A131-62811F8F02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A4544-34CD-4173-8663-3B4B50568F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FD7A9F2C-9A71-4E89-9E9C-5C54DF7B0A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48F30-84FF-40AE-BD71-B217BA3BAC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B6D01172-35E5-4816-92A7-1692DFCC18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DD07C-8CE5-49A6-A75D-2340F3FE66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CDBCC5ED-028A-47B2-A60B-04AAB3C15B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2786B-C495-40D1-94C0-9482F110A2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B7DF6-3846-472C-8A93-EE95236B011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CEE15-EC25-4E6A-9457-A0344247D8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AB2CE-0B08-47F1-B3E8-30ECE330A75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7A30B-19B9-47D9-8559-B6659A5B91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0"/>
          <p:cNvSpPr/>
          <p:nvPr/>
        </p:nvSpPr>
        <p:spPr>
          <a:xfrm>
            <a:off x="3976560" y="883908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38360"/>
                <a:tab algn="l" pos="1476360"/>
                <a:tab algn="l" pos="2214720"/>
                <a:tab algn="l" pos="29527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85CC1-A753-4EF2-9512-A0EFA1465F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"/>
          <p:cNvSpPr/>
          <p:nvPr/>
        </p:nvSpPr>
        <p:spPr>
          <a:xfrm>
            <a:off x="3976560" y="8839080"/>
            <a:ext cx="3036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4400"/>
                <a:tab algn="l" pos="1373040"/>
                <a:tab algn="l" pos="1830240"/>
                <a:tab algn="l" pos="2289240"/>
                <a:tab algn="l" pos="2747880"/>
                <a:tab algn="l" pos="3205080"/>
                <a:tab algn="l" pos="3664080"/>
                <a:tab algn="l" pos="4122720"/>
                <a:tab algn="l" pos="4581360"/>
                <a:tab algn="l" pos="5038560"/>
                <a:tab algn="l" pos="5497560"/>
                <a:tab algn="l" pos="5956200"/>
                <a:tab algn="l" pos="6415200"/>
                <a:tab algn="l" pos="6872400"/>
                <a:tab algn="l" pos="7331040"/>
                <a:tab algn="l" pos="7790040"/>
                <a:tab algn="l" pos="8247240"/>
                <a:tab algn="l" pos="870588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fld id="{82B6A605-1538-4AB2-8EAF-0DD8317835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2"/>
          <p:cNvSpPr/>
          <p:nvPr/>
        </p:nvSpPr>
        <p:spPr>
          <a:xfrm>
            <a:off x="1170000" y="698400"/>
            <a:ext cx="4680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16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CE9E-129E-43B2-AAAD-0E578D1FF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5D42-BFF4-450A-93C5-2B6A4F462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A7D5-6789-4B1C-AE0B-F81BB7DE6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F0D3-1BC4-4B7C-863A-089835506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9A91-225E-4CA4-BEEF-ED9413B97F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3D509-6E93-495A-9739-E58D4EFEEA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504D-AA49-4DFB-B0F2-42B4860607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AE02-76AB-48E5-829B-6628F05958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237C-E63E-432B-9DC8-F8FAF84AB0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62B89-6E74-447F-8DCD-545497FE4E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E9F5-F34D-4251-B13B-4529D5004F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AAFC-842E-4497-8AAA-3617F9C87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1B1E1-8A71-406C-B220-8C1DB8D2E8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6405-4340-42B5-9E00-092F236852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2DE3-E590-474C-8074-061A4C7B12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4677-1EE5-4EE3-A05D-B46F9185D6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48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963600"/>
            <a:ext cx="26474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1E67-66A5-4F60-808D-0738FDA6C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207C-AEC0-427F-B0D1-FD9091C41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9E7E-BFF4-4640-AD5A-B04D7E5DA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F81E-ADC1-4ADD-A742-E4CEC0671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31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5A42-38F8-408C-A584-78F766C5B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9137-95D7-4164-807F-281833D22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640" y="39636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9974-D997-4A2C-9CF0-87BF90F27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3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1868-25DC-4880-8751-E5D882B38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312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30960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4720" indent="-336600"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3556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0600"/>
            <a:ext cx="2890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222D44-B0FD-4575-A0B1-AFBECD8BBBD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1688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623556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124080" y="6235560"/>
            <a:ext cx="2890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2"/>
          </p:nvPr>
        </p:nvSpPr>
        <p:spPr>
          <a:xfrm>
            <a:off x="655272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Garamond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1EF3E9-90EB-4C88-AE7C-86CA5836A5E8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3477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30960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4720" indent="-336600"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4720" indent="-336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642960" y="149688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6633"/>
                </a:solidFill>
                <a:latin typeface="Garamond"/>
              </a:rPr>
              <a:t>Seamless VoWLAN Handoff Management based on Estimation of AP Queue Length &amp; Frame Ret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371600" y="441324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hammad Nis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duate School of Information Sc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ra Institute of Science &amp;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5AFD97-FEB0-4773-83D4-6DE67C08DAB2}" type="slidenum">
              <a:rPr b="0" lang="en-GB" sz="1200" spc="-1" strike="noStrike">
                <a:solidFill>
                  <a:srgbClr val="000000"/>
                </a:solidFill>
                <a:latin typeface="Garamond"/>
                <a:ea typeface="ＭＳ Ｐ明朝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Decision Metric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ansmission of Request-To-Send (RTS) Fra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ric for indicating wireless link condi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 Queue Leng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ric for indicating congestion state at 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DAEF5-DF57-4170-A980-E8D5A7C37702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Request To Send (RTS) Retri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57200" y="1600200"/>
            <a:ext cx="51228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prevent collision in wireless network due to hidden no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clear out are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TS Retries can indicate condition of wireless lin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5697000" y="2295360"/>
            <a:ext cx="3364560" cy="3363840"/>
            <a:chOff x="5697000" y="2295360"/>
            <a:chExt cx="3364560" cy="3363840"/>
          </a:xfrm>
        </p:grpSpPr>
        <p:grpSp>
          <p:nvGrpSpPr>
            <p:cNvPr id="156" name="Group 4"/>
            <p:cNvGrpSpPr/>
            <p:nvPr/>
          </p:nvGrpSpPr>
          <p:grpSpPr>
            <a:xfrm>
              <a:off x="5851080" y="2655720"/>
              <a:ext cx="2887920" cy="3003480"/>
              <a:chOff x="5851080" y="2655720"/>
              <a:chExt cx="2887920" cy="3003480"/>
            </a:xfrm>
          </p:grpSpPr>
          <p:sp>
            <p:nvSpPr>
              <p:cNvPr id="157" name="Line 5"/>
              <p:cNvSpPr/>
              <p:nvPr/>
            </p:nvSpPr>
            <p:spPr>
              <a:xfrm>
                <a:off x="5858640" y="2781000"/>
                <a:ext cx="1080" cy="28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6"/>
              <p:cNvSpPr/>
              <p:nvPr/>
            </p:nvSpPr>
            <p:spPr>
              <a:xfrm>
                <a:off x="8732520" y="2781000"/>
                <a:ext cx="1440" cy="28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7"/>
              <p:cNvSpPr/>
              <p:nvPr/>
            </p:nvSpPr>
            <p:spPr>
              <a:xfrm>
                <a:off x="5929920" y="2997000"/>
                <a:ext cx="28022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8"/>
              <p:cNvSpPr/>
              <p:nvPr/>
            </p:nvSpPr>
            <p:spPr>
              <a:xfrm flipH="1">
                <a:off x="5923800" y="3355560"/>
                <a:ext cx="274176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9"/>
              <p:cNvSpPr/>
              <p:nvPr/>
            </p:nvSpPr>
            <p:spPr>
              <a:xfrm>
                <a:off x="5929920" y="3931560"/>
                <a:ext cx="2802240" cy="360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10"/>
              <p:cNvSpPr/>
              <p:nvPr/>
            </p:nvSpPr>
            <p:spPr>
              <a:xfrm flipH="1">
                <a:off x="5851080" y="4435920"/>
                <a:ext cx="288792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Text Box 11"/>
              <p:cNvSpPr/>
              <p:nvPr/>
            </p:nvSpPr>
            <p:spPr>
              <a:xfrm>
                <a:off x="6915240" y="265572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Text Box 12"/>
              <p:cNvSpPr/>
              <p:nvPr/>
            </p:nvSpPr>
            <p:spPr>
              <a:xfrm>
                <a:off x="6845760" y="323172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T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Text Box 13"/>
              <p:cNvSpPr/>
              <p:nvPr/>
            </p:nvSpPr>
            <p:spPr>
              <a:xfrm>
                <a:off x="7152840" y="3715560"/>
                <a:ext cx="84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Fram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Text Box 14"/>
              <p:cNvSpPr/>
              <p:nvPr/>
            </p:nvSpPr>
            <p:spPr>
              <a:xfrm>
                <a:off x="6916680" y="459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15"/>
            <p:cNvSpPr/>
            <p:nvPr/>
          </p:nvSpPr>
          <p:spPr>
            <a:xfrm>
              <a:off x="5697000" y="22953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8575920" y="22953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9" name="Picture 17" descr=""/>
          <p:cNvPicPr/>
          <p:nvPr/>
        </p:nvPicPr>
        <p:blipFill>
          <a:blip r:embed="rId1"/>
          <a:stretch/>
        </p:blipFill>
        <p:spPr>
          <a:xfrm>
            <a:off x="5643720" y="1857240"/>
            <a:ext cx="509400" cy="487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8" descr=""/>
          <p:cNvPicPr/>
          <p:nvPr/>
        </p:nvPicPr>
        <p:blipFill>
          <a:blip r:embed="rId2"/>
          <a:stretch/>
        </p:blipFill>
        <p:spPr>
          <a:xfrm>
            <a:off x="8273880" y="1643040"/>
            <a:ext cx="798840" cy="7318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19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CCAC8-500A-4B41-8C71-F0D0202D77D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7920"/>
            <a:ext cx="822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Why RTS Frame Retrie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WLANs employ multi-rate fun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namically change transmission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TS frame always transmitted at lowest rate (6 Mb/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N can properly detect wireless link condition in fixed transmission 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EC3B3-98B8-42C9-B2EC-5A743512C9B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GB" sz="3400" spc="-1" strike="noStrike">
                <a:solidFill>
                  <a:srgbClr val="006633"/>
                </a:solidFill>
                <a:latin typeface="Garamond"/>
              </a:rPr>
              <a:t>AP Queue Lengt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457200" y="1600200"/>
            <a:ext cx="82296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th increase of MNs in WLAN, packets queued in AP buffer also incr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urrent widely deployed IEEE802.11(a/b/g) standard does not provide mechanism to report AP Queue Length Statu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ed from M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BC781-3CB1-4536-A70A-450108B6ED6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16000"/>
            <a:ext cx="822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33"/>
                </a:solidFill>
                <a:latin typeface="Garamond"/>
              </a:rPr>
              <a:t>Proposed Handoff Decision Metrics: </a:t>
            </a:r>
            <a:br>
              <a:rPr sz="3600"/>
            </a:b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Estimating AP Queue Length using ICMP messag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1857240" y="1357200"/>
            <a:ext cx="5427360" cy="4795560"/>
            <a:chOff x="1857240" y="1357200"/>
            <a:chExt cx="5427360" cy="4795560"/>
          </a:xfrm>
        </p:grpSpPr>
        <p:sp>
          <p:nvSpPr>
            <p:cNvPr id="180" name="Line 3"/>
            <p:cNvSpPr/>
            <p:nvPr/>
          </p:nvSpPr>
          <p:spPr>
            <a:xfrm>
              <a:off x="2701440" y="2333160"/>
              <a:ext cx="1440" cy="381960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4"/>
            <p:cNvSpPr/>
            <p:nvPr/>
          </p:nvSpPr>
          <p:spPr>
            <a:xfrm>
              <a:off x="5769000" y="2333160"/>
              <a:ext cx="1440" cy="381960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>
              <a:off x="2731680" y="26377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6"/>
            <p:cNvSpPr/>
            <p:nvPr/>
          </p:nvSpPr>
          <p:spPr>
            <a:xfrm>
              <a:off x="2731680" y="33109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>
              <a:off x="2701440" y="5357880"/>
              <a:ext cx="303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2731680" y="569448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>
              <a:off x="2731680" y="502308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2731680" y="29743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Picture 11" descr=""/>
            <p:cNvPicPr/>
            <p:nvPr/>
          </p:nvPicPr>
          <p:blipFill>
            <a:blip r:embed="rId1"/>
            <a:stretch/>
          </p:blipFill>
          <p:spPr>
            <a:xfrm>
              <a:off x="2447640" y="1539360"/>
              <a:ext cx="5090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2" descr=""/>
            <p:cNvPicPr/>
            <p:nvPr/>
          </p:nvPicPr>
          <p:blipFill>
            <a:blip r:embed="rId2"/>
            <a:stretch/>
          </p:blipFill>
          <p:spPr>
            <a:xfrm>
              <a:off x="5384880" y="1357200"/>
              <a:ext cx="79812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13"/>
            <p:cNvSpPr/>
            <p:nvPr/>
          </p:nvSpPr>
          <p:spPr>
            <a:xfrm>
              <a:off x="2444400" y="2026800"/>
              <a:ext cx="4741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5577120" y="2026800"/>
              <a:ext cx="43596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3884040" y="2333160"/>
              <a:ext cx="567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3884040" y="4472640"/>
              <a:ext cx="567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3884040" y="2729880"/>
              <a:ext cx="567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3884040" y="4779000"/>
              <a:ext cx="567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9"/>
            <p:cNvSpPr/>
            <p:nvPr/>
          </p:nvSpPr>
          <p:spPr>
            <a:xfrm>
              <a:off x="2731680" y="471708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884040" y="5481720"/>
              <a:ext cx="567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3499560" y="5102280"/>
              <a:ext cx="1629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CMP (Probe Reply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3371040" y="3085560"/>
              <a:ext cx="182196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CMP (Probe Request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>
              <a:off x="2731680" y="3647520"/>
              <a:ext cx="3035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3884040" y="3432960"/>
              <a:ext cx="567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5"/>
            <p:cNvSpPr/>
            <p:nvPr/>
          </p:nvSpPr>
          <p:spPr>
            <a:xfrm flipH="1">
              <a:off x="2278800" y="3310920"/>
              <a:ext cx="331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 flipH="1">
              <a:off x="2278800" y="5357880"/>
              <a:ext cx="33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 flipH="1">
              <a:off x="5857560" y="3647520"/>
              <a:ext cx="331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28"/>
            <p:cNvSpPr/>
            <p:nvPr/>
          </p:nvSpPr>
          <p:spPr>
            <a:xfrm flipH="1">
              <a:off x="5857560" y="4717080"/>
              <a:ext cx="331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>
              <a:off x="2476080" y="3340800"/>
              <a:ext cx="1440" cy="19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30"/>
            <p:cNvSpPr/>
            <p:nvPr/>
          </p:nvSpPr>
          <p:spPr>
            <a:xfrm>
              <a:off x="1857240" y="4136040"/>
              <a:ext cx="69840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T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>
              <a:off x="5992920" y="3737880"/>
              <a:ext cx="1440" cy="9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6023160" y="4075560"/>
              <a:ext cx="12614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euing Dela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Slide Number Placeholder 3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EC6A3-214B-4EE7-A84E-EC2CEBF9C42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Simulation Experi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evaluate performance of proposed Handoff Decision Metrics and Handoff Strate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mulation Tool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net 4.0.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15D88-1DCD-4F2C-8121-838323A99174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Simulation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814320" y="1600200"/>
            <a:ext cx="7400520" cy="3828600"/>
            <a:chOff x="814320" y="1600200"/>
            <a:chExt cx="7400520" cy="3828600"/>
          </a:xfrm>
        </p:grpSpPr>
        <p:sp>
          <p:nvSpPr>
            <p:cNvPr id="216" name="Rectangle 3"/>
            <p:cNvSpPr/>
            <p:nvPr/>
          </p:nvSpPr>
          <p:spPr>
            <a:xfrm>
              <a:off x="814320" y="1600200"/>
              <a:ext cx="370044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oIP Code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4514760" y="1600200"/>
              <a:ext cx="369900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.7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814320" y="2146680"/>
              <a:ext cx="370044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LAN Stand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"/>
            <p:cNvSpPr/>
            <p:nvPr/>
          </p:nvSpPr>
          <p:spPr>
            <a:xfrm>
              <a:off x="4514760" y="2146680"/>
              <a:ext cx="369900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EEE 802.11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814320" y="2693160"/>
              <a:ext cx="3700440" cy="5479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ported Data R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4514760" y="2693160"/>
              <a:ext cx="3699000" cy="5479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, 9, 12, 18, 24, 36, 48, 54Mb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814320" y="3241080"/>
              <a:ext cx="370044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ding Mod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514760" y="3241080"/>
              <a:ext cx="369900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kagami Ricean K = 4.8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814320" y="3787920"/>
              <a:ext cx="370044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F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2"/>
            <p:cNvSpPr/>
            <p:nvPr/>
          </p:nvSpPr>
          <p:spPr>
            <a:xfrm>
              <a:off x="4514760" y="3787920"/>
              <a:ext cx="369900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814320" y="4334400"/>
              <a:ext cx="370044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lot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4514760" y="4334400"/>
              <a:ext cx="3699000" cy="54648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814320" y="4880880"/>
              <a:ext cx="370044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W min, CWma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4514760" y="4880880"/>
              <a:ext cx="3699000" cy="54648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,  102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4514760" y="1600200"/>
              <a:ext cx="1080" cy="38271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>
              <a:off x="814320" y="214668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9"/>
            <p:cNvSpPr/>
            <p:nvPr/>
          </p:nvSpPr>
          <p:spPr>
            <a:xfrm>
              <a:off x="814320" y="269316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0"/>
            <p:cNvSpPr/>
            <p:nvPr/>
          </p:nvSpPr>
          <p:spPr>
            <a:xfrm>
              <a:off x="814320" y="324108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>
              <a:off x="814320" y="378792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22"/>
            <p:cNvSpPr/>
            <p:nvPr/>
          </p:nvSpPr>
          <p:spPr>
            <a:xfrm>
              <a:off x="814320" y="433440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23"/>
            <p:cNvSpPr/>
            <p:nvPr/>
          </p:nvSpPr>
          <p:spPr>
            <a:xfrm>
              <a:off x="814320" y="488088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24"/>
            <p:cNvSpPr/>
            <p:nvPr/>
          </p:nvSpPr>
          <p:spPr>
            <a:xfrm>
              <a:off x="814320" y="1600200"/>
              <a:ext cx="1080" cy="38271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25"/>
            <p:cNvSpPr/>
            <p:nvPr/>
          </p:nvSpPr>
          <p:spPr>
            <a:xfrm>
              <a:off x="8213760" y="1600200"/>
              <a:ext cx="1080" cy="382716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26"/>
            <p:cNvSpPr/>
            <p:nvPr/>
          </p:nvSpPr>
          <p:spPr>
            <a:xfrm>
              <a:off x="814320" y="1600200"/>
              <a:ext cx="7399440" cy="108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27"/>
            <p:cNvSpPr/>
            <p:nvPr/>
          </p:nvSpPr>
          <p:spPr>
            <a:xfrm>
              <a:off x="814320" y="5427360"/>
              <a:ext cx="7399440" cy="144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lide Number Placeholder 28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061BC-1BBE-4853-90DC-25F923FCB5A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Assessment of VoIP Qua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an Opinion Score (MOS)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-model standardized by ITU-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ed based on R-fac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= 94.2 - I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I</a:t>
            </a:r>
            <a:r>
              <a:rPr b="0" i="1" lang="en-GB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 &gt; 3.6 indicates adequate VoIP call qu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4500720" y="1571760"/>
            <a:ext cx="4331880" cy="2549160"/>
            <a:chOff x="4500720" y="1571760"/>
            <a:chExt cx="4331880" cy="2549160"/>
          </a:xfrm>
        </p:grpSpPr>
        <p:sp>
          <p:nvSpPr>
            <p:cNvPr id="245" name="Rectangle 4"/>
            <p:cNvSpPr/>
            <p:nvPr/>
          </p:nvSpPr>
          <p:spPr>
            <a:xfrm>
              <a:off x="4500720" y="1571760"/>
              <a:ext cx="1443240" cy="644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-fa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5943960" y="1571760"/>
              <a:ext cx="1443600" cy="644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7387560" y="1571760"/>
              <a:ext cx="1443600" cy="644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ser Experi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4500720" y="2216520"/>
              <a:ext cx="1443240" cy="38052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5943960" y="2216520"/>
              <a:ext cx="1443600" cy="38052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7387560" y="2216520"/>
              <a:ext cx="1443600" cy="38052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cell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4500720" y="2597400"/>
              <a:ext cx="1443240" cy="38016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5943960" y="2597400"/>
              <a:ext cx="1443600" cy="38016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2"/>
            <p:cNvSpPr/>
            <p:nvPr/>
          </p:nvSpPr>
          <p:spPr>
            <a:xfrm>
              <a:off x="7387560" y="2597400"/>
              <a:ext cx="1443600" cy="38016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4500720" y="2977920"/>
              <a:ext cx="144324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4"/>
            <p:cNvSpPr/>
            <p:nvPr/>
          </p:nvSpPr>
          <p:spPr>
            <a:xfrm>
              <a:off x="5943960" y="29779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15"/>
            <p:cNvSpPr/>
            <p:nvPr/>
          </p:nvSpPr>
          <p:spPr>
            <a:xfrm>
              <a:off x="7387560" y="29779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500720" y="3358440"/>
              <a:ext cx="1443240" cy="3805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5943960" y="3358440"/>
              <a:ext cx="1443600" cy="3805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8"/>
            <p:cNvSpPr/>
            <p:nvPr/>
          </p:nvSpPr>
          <p:spPr>
            <a:xfrm>
              <a:off x="7387560" y="3358440"/>
              <a:ext cx="1443600" cy="380520"/>
            </a:xfrm>
            <a:prstGeom prst="rect">
              <a:avLst/>
            </a:prstGeom>
            <a:solidFill>
              <a:srgbClr val="e7f6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4500720" y="3739320"/>
              <a:ext cx="144324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20"/>
            <p:cNvSpPr/>
            <p:nvPr/>
          </p:nvSpPr>
          <p:spPr>
            <a:xfrm>
              <a:off x="5943960" y="37393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387560" y="3739320"/>
              <a:ext cx="1443600" cy="380160"/>
            </a:xfrm>
            <a:prstGeom prst="rect">
              <a:avLst/>
            </a:prstGeom>
            <a:solidFill>
              <a:srgbClr val="cb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22"/>
            <p:cNvSpPr/>
            <p:nvPr/>
          </p:nvSpPr>
          <p:spPr>
            <a:xfrm>
              <a:off x="5943960" y="1571760"/>
              <a:ext cx="144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3"/>
            <p:cNvSpPr/>
            <p:nvPr/>
          </p:nvSpPr>
          <p:spPr>
            <a:xfrm>
              <a:off x="7387560" y="1571760"/>
              <a:ext cx="144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24"/>
            <p:cNvSpPr/>
            <p:nvPr/>
          </p:nvSpPr>
          <p:spPr>
            <a:xfrm>
              <a:off x="4500720" y="2216520"/>
              <a:ext cx="43304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5"/>
            <p:cNvSpPr/>
            <p:nvPr/>
          </p:nvSpPr>
          <p:spPr>
            <a:xfrm>
              <a:off x="4500720" y="259740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26"/>
            <p:cNvSpPr/>
            <p:nvPr/>
          </p:nvSpPr>
          <p:spPr>
            <a:xfrm>
              <a:off x="4500720" y="297792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27"/>
            <p:cNvSpPr/>
            <p:nvPr/>
          </p:nvSpPr>
          <p:spPr>
            <a:xfrm>
              <a:off x="4500720" y="3358440"/>
              <a:ext cx="4330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28"/>
            <p:cNvSpPr/>
            <p:nvPr/>
          </p:nvSpPr>
          <p:spPr>
            <a:xfrm>
              <a:off x="4500720" y="373932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29"/>
            <p:cNvSpPr/>
            <p:nvPr/>
          </p:nvSpPr>
          <p:spPr>
            <a:xfrm>
              <a:off x="4500720" y="1571760"/>
              <a:ext cx="108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>
              <a:off x="8831160" y="1571760"/>
              <a:ext cx="1440" cy="25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>
              <a:off x="4500720" y="157176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4500720" y="4119840"/>
              <a:ext cx="433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Slide Number Placeholder 3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7F96B-6883-4079-B42A-94AC6B5FE8B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Evaluation of Proposed Handoff Metric (RTS Retries):</a:t>
            </a:r>
            <a:br>
              <a:rPr sz="2600"/>
            </a:b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Simulation Model &amp; Result for RTS Re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3929040" y="2143080"/>
            <a:ext cx="5072040" cy="35514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3"/>
          <p:cNvGrpSpPr/>
          <p:nvPr/>
        </p:nvGrpSpPr>
        <p:grpSpPr>
          <a:xfrm>
            <a:off x="142920" y="2428920"/>
            <a:ext cx="3643200" cy="3420000"/>
            <a:chOff x="142920" y="2428920"/>
            <a:chExt cx="3643200" cy="3420000"/>
          </a:xfrm>
        </p:grpSpPr>
        <p:pic>
          <p:nvPicPr>
            <p:cNvPr id="278" name="Picture 4" descr=""/>
            <p:cNvPicPr/>
            <p:nvPr/>
          </p:nvPicPr>
          <p:blipFill>
            <a:blip r:embed="rId2"/>
            <a:stretch/>
          </p:blipFill>
          <p:spPr>
            <a:xfrm>
              <a:off x="941400" y="3075120"/>
              <a:ext cx="4208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5"/>
            <p:cNvSpPr/>
            <p:nvPr/>
          </p:nvSpPr>
          <p:spPr>
            <a:xfrm>
              <a:off x="941400" y="3668760"/>
              <a:ext cx="420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0" name="Picture 6" descr=""/>
            <p:cNvPicPr/>
            <p:nvPr/>
          </p:nvPicPr>
          <p:blipFill>
            <a:blip r:embed="rId3"/>
            <a:stretch/>
          </p:blipFill>
          <p:spPr>
            <a:xfrm>
              <a:off x="2341440" y="3159000"/>
              <a:ext cx="4255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7"/>
            <p:cNvSpPr/>
            <p:nvPr/>
          </p:nvSpPr>
          <p:spPr>
            <a:xfrm>
              <a:off x="2341440" y="3789360"/>
              <a:ext cx="425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8" descr=""/>
            <p:cNvPicPr/>
            <p:nvPr/>
          </p:nvPicPr>
          <p:blipFill>
            <a:blip r:embed="rId4"/>
            <a:stretch/>
          </p:blipFill>
          <p:spPr>
            <a:xfrm>
              <a:off x="2295360" y="3629160"/>
              <a:ext cx="55260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Line 9"/>
            <p:cNvSpPr/>
            <p:nvPr/>
          </p:nvSpPr>
          <p:spPr>
            <a:xfrm flipH="1">
              <a:off x="1386000" y="3382920"/>
              <a:ext cx="9633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1230480" y="5183280"/>
              <a:ext cx="2555640" cy="636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 flipH="1">
              <a:off x="1228680" y="4205160"/>
              <a:ext cx="1200240" cy="127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2763720" y="4135320"/>
              <a:ext cx="1022400" cy="132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Text Box 13"/>
            <p:cNvSpPr/>
            <p:nvPr/>
          </p:nvSpPr>
          <p:spPr>
            <a:xfrm>
              <a:off x="2775240" y="379872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2279520" y="2846520"/>
              <a:ext cx="7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957240" y="242892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0" name="Picture 16" descr=""/>
            <p:cNvPicPr/>
            <p:nvPr/>
          </p:nvPicPr>
          <p:blipFill>
            <a:blip r:embed="rId5"/>
            <a:stretch/>
          </p:blipFill>
          <p:spPr>
            <a:xfrm>
              <a:off x="2274840" y="5224320"/>
              <a:ext cx="41904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Line 17"/>
            <p:cNvSpPr/>
            <p:nvPr/>
          </p:nvSpPr>
          <p:spPr>
            <a:xfrm>
              <a:off x="2695680" y="5486400"/>
              <a:ext cx="9698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8"/>
            <p:cNvSpPr/>
            <p:nvPr/>
          </p:nvSpPr>
          <p:spPr>
            <a:xfrm>
              <a:off x="2297520" y="5541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 flipH="1">
              <a:off x="2570040" y="3510000"/>
              <a:ext cx="1584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4" name="AutoShape 20"/>
            <p:cNvCxnSpPr/>
            <p:nvPr/>
          </p:nvCxnSpPr>
          <p:spPr>
            <a:xfrm flipH="1" rot="16200000">
              <a:off x="641880" y="3857400"/>
              <a:ext cx="2215440" cy="786600"/>
            </a:xfrm>
            <a:prstGeom prst="bentConnector3">
              <a:avLst>
                <a:gd name="adj1" fmla="val 845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  <p:sp>
          <p:nvSpPr>
            <p:cNvPr id="295" name="Text Box 21"/>
            <p:cNvSpPr/>
            <p:nvPr/>
          </p:nvSpPr>
          <p:spPr>
            <a:xfrm>
              <a:off x="142920" y="3648240"/>
              <a:ext cx="18572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N speed = 1 m/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TextBox 22"/>
          <p:cNvSpPr/>
          <p:nvPr/>
        </p:nvSpPr>
        <p:spPr>
          <a:xfrm>
            <a:off x="5357880" y="1763640"/>
            <a:ext cx="21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_thr = 0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Slide Number Placeholder 2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60188-38A2-42EF-BF39-BFCB41D191A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traight Connector 25"/>
          <p:cNvSpPr/>
          <p:nvPr/>
        </p:nvSpPr>
        <p:spPr>
          <a:xfrm>
            <a:off x="4429080" y="3500280"/>
            <a:ext cx="4071960" cy="180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26"/>
          <p:cNvSpPr/>
          <p:nvPr/>
        </p:nvSpPr>
        <p:spPr>
          <a:xfrm>
            <a:off x="7929720" y="3429000"/>
            <a:ext cx="142560" cy="1429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357120" y="277920"/>
            <a:ext cx="8686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Evaluation of Proposed Handoff Metric (AP Queue Length): </a:t>
            </a: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Simulation Result  for AP Queue Length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3643200" y="1785960"/>
            <a:ext cx="5500800" cy="38512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3"/>
          <p:cNvGrpSpPr/>
          <p:nvPr/>
        </p:nvGrpSpPr>
        <p:grpSpPr>
          <a:xfrm>
            <a:off x="214200" y="1928880"/>
            <a:ext cx="3357720" cy="3930120"/>
            <a:chOff x="214200" y="1928880"/>
            <a:chExt cx="3357720" cy="3930120"/>
          </a:xfrm>
        </p:grpSpPr>
        <p:pic>
          <p:nvPicPr>
            <p:cNvPr id="303" name="Picture 4" descr=""/>
            <p:cNvPicPr/>
            <p:nvPr/>
          </p:nvPicPr>
          <p:blipFill>
            <a:blip r:embed="rId2"/>
            <a:stretch/>
          </p:blipFill>
          <p:spPr>
            <a:xfrm>
              <a:off x="214200" y="308628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5"/>
            <p:cNvSpPr/>
            <p:nvPr/>
          </p:nvSpPr>
          <p:spPr>
            <a:xfrm>
              <a:off x="214200" y="308628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5" name="Picture 6" descr=""/>
            <p:cNvPicPr/>
            <p:nvPr/>
          </p:nvPicPr>
          <p:blipFill>
            <a:blip r:embed="rId3"/>
            <a:stretch/>
          </p:blipFill>
          <p:spPr>
            <a:xfrm>
              <a:off x="214200" y="4735440"/>
              <a:ext cx="4492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7"/>
            <p:cNvSpPr/>
            <p:nvPr/>
          </p:nvSpPr>
          <p:spPr>
            <a:xfrm>
              <a:off x="214200" y="4735440"/>
              <a:ext cx="4492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8" descr=""/>
            <p:cNvPicPr/>
            <p:nvPr/>
          </p:nvPicPr>
          <p:blipFill>
            <a:blip r:embed="rId4"/>
            <a:stretch/>
          </p:blipFill>
          <p:spPr>
            <a:xfrm>
              <a:off x="214200" y="369900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9"/>
            <p:cNvSpPr/>
            <p:nvPr/>
          </p:nvSpPr>
          <p:spPr>
            <a:xfrm>
              <a:off x="214200" y="369900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9" name="Picture 10" descr=""/>
            <p:cNvPicPr/>
            <p:nvPr/>
          </p:nvPicPr>
          <p:blipFill>
            <a:blip r:embed="rId5"/>
            <a:stretch/>
          </p:blipFill>
          <p:spPr>
            <a:xfrm>
              <a:off x="2033640" y="3276720"/>
              <a:ext cx="45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1"/>
            <p:cNvSpPr/>
            <p:nvPr/>
          </p:nvSpPr>
          <p:spPr>
            <a:xfrm>
              <a:off x="2033640" y="3913200"/>
              <a:ext cx="4539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1" name="Picture 12" descr=""/>
            <p:cNvPicPr/>
            <p:nvPr/>
          </p:nvPicPr>
          <p:blipFill>
            <a:blip r:embed="rId6"/>
            <a:stretch/>
          </p:blipFill>
          <p:spPr>
            <a:xfrm>
              <a:off x="1984320" y="3770280"/>
              <a:ext cx="587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Line 13"/>
            <p:cNvSpPr/>
            <p:nvPr/>
          </p:nvSpPr>
          <p:spPr>
            <a:xfrm flipH="1">
              <a:off x="1001880" y="3494160"/>
              <a:ext cx="1025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1022400" y="3295800"/>
              <a:ext cx="1440" cy="17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 flipH="1">
              <a:off x="661680" y="329580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 flipH="1">
              <a:off x="661680" y="3930480"/>
              <a:ext cx="368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 flipH="1">
              <a:off x="661680" y="508176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849240" y="5210280"/>
              <a:ext cx="27226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 flipH="1">
              <a:off x="849240" y="4324320"/>
              <a:ext cx="127800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>
              <a:off x="2482920" y="4229280"/>
              <a:ext cx="1089000" cy="120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21"/>
            <p:cNvSpPr/>
            <p:nvPr/>
          </p:nvSpPr>
          <p:spPr>
            <a:xfrm>
              <a:off x="2508480" y="395604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1967040" y="295920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3"/>
            <p:cNvSpPr/>
            <p:nvPr/>
          </p:nvSpPr>
          <p:spPr>
            <a:xfrm>
              <a:off x="230040" y="266220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4"/>
            <p:cNvSpPr/>
            <p:nvPr/>
          </p:nvSpPr>
          <p:spPr>
            <a:xfrm>
              <a:off x="384120" y="4176720"/>
              <a:ext cx="2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5"/>
            <p:cNvSpPr/>
            <p:nvPr/>
          </p:nvSpPr>
          <p:spPr>
            <a:xfrm flipH="1">
              <a:off x="2243160" y="3627360"/>
              <a:ext cx="1728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6"/>
            <p:cNvSpPr/>
            <p:nvPr/>
          </p:nvSpPr>
          <p:spPr>
            <a:xfrm>
              <a:off x="2152800" y="521640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6" name="Picture 27" descr=""/>
            <p:cNvPicPr/>
            <p:nvPr/>
          </p:nvPicPr>
          <p:blipFill>
            <a:blip r:embed="rId7"/>
            <a:stretch/>
          </p:blipFill>
          <p:spPr>
            <a:xfrm>
              <a:off x="13762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8" descr=""/>
            <p:cNvPicPr/>
            <p:nvPr/>
          </p:nvPicPr>
          <p:blipFill>
            <a:blip r:embed="rId8"/>
            <a:stretch/>
          </p:blipFill>
          <p:spPr>
            <a:xfrm>
              <a:off x="1698480" y="535788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9" descr=""/>
            <p:cNvPicPr/>
            <p:nvPr/>
          </p:nvPicPr>
          <p:blipFill>
            <a:blip r:embed="rId9"/>
            <a:stretch/>
          </p:blipFill>
          <p:spPr>
            <a:xfrm>
              <a:off x="195912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30" descr=""/>
            <p:cNvPicPr/>
            <p:nvPr/>
          </p:nvPicPr>
          <p:blipFill>
            <a:blip r:embed="rId10"/>
            <a:stretch/>
          </p:blipFill>
          <p:spPr>
            <a:xfrm>
              <a:off x="2733840" y="5418000"/>
              <a:ext cx="2268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31" descr=""/>
            <p:cNvPicPr/>
            <p:nvPr/>
          </p:nvPicPr>
          <p:blipFill>
            <a:blip r:embed="rId11"/>
            <a:stretch/>
          </p:blipFill>
          <p:spPr>
            <a:xfrm>
              <a:off x="247500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32" descr=""/>
            <p:cNvPicPr/>
            <p:nvPr/>
          </p:nvPicPr>
          <p:blipFill>
            <a:blip r:embed="rId12"/>
            <a:stretch/>
          </p:blipFill>
          <p:spPr>
            <a:xfrm>
              <a:off x="29908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33"/>
            <p:cNvSpPr/>
            <p:nvPr/>
          </p:nvSpPr>
          <p:spPr>
            <a:xfrm>
              <a:off x="341280" y="1928880"/>
              <a:ext cx="18716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33" name="AutoShape 34"/>
            <p:cNvCxnSpPr/>
            <p:nvPr/>
          </p:nvCxnSpPr>
          <p:spPr>
            <a:xfrm flipH="1" rot="16200000">
              <a:off x="106920" y="3749760"/>
              <a:ext cx="2072520" cy="858240"/>
            </a:xfrm>
            <a:prstGeom prst="bentConnector3">
              <a:avLst>
                <a:gd name="adj1" fmla="val -642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  <p:cxnSp>
          <p:nvCxnSpPr>
            <p:cNvPr id="334" name="AutoShape 35"/>
            <p:cNvCxnSpPr/>
            <p:nvPr/>
          </p:nvCxnSpPr>
          <p:spPr>
            <a:xfrm flipH="1" flipV="1">
              <a:off x="713880" y="2856960"/>
              <a:ext cx="2455200" cy="2324520"/>
            </a:xfrm>
            <a:prstGeom prst="bentConnector3">
              <a:avLst>
                <a:gd name="adj1" fmla="val -689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</p:grpSp>
      <p:sp>
        <p:nvSpPr>
          <p:cNvPr id="335" name="Slide Number Placeholder 36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41D0D-EC55-47FB-92DE-54D869A170E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WLAN Challe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ing Handoff Sche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Handoff Decision 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Proposed Handoff Decision 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ed Handoff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Proposed Handoff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7A778-91C8-4C60-B53C-627F99181890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357120" y="277920"/>
            <a:ext cx="8686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Evaluation of Proposed Handoff Metric (AP Queue Length): </a:t>
            </a:r>
            <a:r>
              <a:rPr b="0" lang="en-GB" sz="2400" spc="-1" strike="noStrike">
                <a:solidFill>
                  <a:srgbClr val="006633"/>
                </a:solidFill>
                <a:latin typeface="Garamond"/>
              </a:rPr>
              <a:t>Relationship among AP Queue Length, RTT &amp; MOS</a:t>
            </a:r>
            <a:r>
              <a:rPr b="0" lang="en-GB" sz="2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2"/>
          <p:cNvGrpSpPr/>
          <p:nvPr/>
        </p:nvGrpSpPr>
        <p:grpSpPr>
          <a:xfrm>
            <a:off x="214200" y="1928880"/>
            <a:ext cx="3357720" cy="3930120"/>
            <a:chOff x="214200" y="1928880"/>
            <a:chExt cx="3357720" cy="3930120"/>
          </a:xfrm>
        </p:grpSpPr>
        <p:pic>
          <p:nvPicPr>
            <p:cNvPr id="338" name="Picture 3" descr=""/>
            <p:cNvPicPr/>
            <p:nvPr/>
          </p:nvPicPr>
          <p:blipFill>
            <a:blip r:embed="rId1"/>
            <a:stretch/>
          </p:blipFill>
          <p:spPr>
            <a:xfrm>
              <a:off x="214200" y="308628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4"/>
            <p:cNvSpPr/>
            <p:nvPr/>
          </p:nvSpPr>
          <p:spPr>
            <a:xfrm>
              <a:off x="214200" y="308628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214200" y="4735440"/>
              <a:ext cx="4492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6"/>
            <p:cNvSpPr/>
            <p:nvPr/>
          </p:nvSpPr>
          <p:spPr>
            <a:xfrm>
              <a:off x="214200" y="4735440"/>
              <a:ext cx="4492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2" name="Picture 7" descr=""/>
            <p:cNvPicPr/>
            <p:nvPr/>
          </p:nvPicPr>
          <p:blipFill>
            <a:blip r:embed="rId3"/>
            <a:stretch/>
          </p:blipFill>
          <p:spPr>
            <a:xfrm>
              <a:off x="214200" y="369900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8"/>
            <p:cNvSpPr/>
            <p:nvPr/>
          </p:nvSpPr>
          <p:spPr>
            <a:xfrm>
              <a:off x="214200" y="3699000"/>
              <a:ext cx="4492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4" name="Picture 9" descr=""/>
            <p:cNvPicPr/>
            <p:nvPr/>
          </p:nvPicPr>
          <p:blipFill>
            <a:blip r:embed="rId4"/>
            <a:stretch/>
          </p:blipFill>
          <p:spPr>
            <a:xfrm>
              <a:off x="2033640" y="3276720"/>
              <a:ext cx="45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10"/>
            <p:cNvSpPr/>
            <p:nvPr/>
          </p:nvSpPr>
          <p:spPr>
            <a:xfrm>
              <a:off x="2033640" y="3913200"/>
              <a:ext cx="4539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6" name="Picture 11" descr=""/>
            <p:cNvPicPr/>
            <p:nvPr/>
          </p:nvPicPr>
          <p:blipFill>
            <a:blip r:embed="rId5"/>
            <a:stretch/>
          </p:blipFill>
          <p:spPr>
            <a:xfrm>
              <a:off x="1984320" y="3770280"/>
              <a:ext cx="587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12"/>
            <p:cNvSpPr/>
            <p:nvPr/>
          </p:nvSpPr>
          <p:spPr>
            <a:xfrm flipH="1">
              <a:off x="1001880" y="3494160"/>
              <a:ext cx="1025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22400" y="3295800"/>
              <a:ext cx="1440" cy="17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4"/>
            <p:cNvSpPr/>
            <p:nvPr/>
          </p:nvSpPr>
          <p:spPr>
            <a:xfrm flipH="1">
              <a:off x="661680" y="329580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5"/>
            <p:cNvSpPr/>
            <p:nvPr/>
          </p:nvSpPr>
          <p:spPr>
            <a:xfrm flipH="1">
              <a:off x="661680" y="3930480"/>
              <a:ext cx="3682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6"/>
            <p:cNvSpPr/>
            <p:nvPr/>
          </p:nvSpPr>
          <p:spPr>
            <a:xfrm flipH="1">
              <a:off x="661680" y="5081760"/>
              <a:ext cx="368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7"/>
            <p:cNvSpPr/>
            <p:nvPr/>
          </p:nvSpPr>
          <p:spPr>
            <a:xfrm>
              <a:off x="849240" y="5210280"/>
              <a:ext cx="2722680" cy="57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8"/>
            <p:cNvSpPr/>
            <p:nvPr/>
          </p:nvSpPr>
          <p:spPr>
            <a:xfrm flipH="1">
              <a:off x="849240" y="4324320"/>
              <a:ext cx="127800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"/>
            <p:cNvSpPr/>
            <p:nvPr/>
          </p:nvSpPr>
          <p:spPr>
            <a:xfrm>
              <a:off x="2482920" y="4229280"/>
              <a:ext cx="1089000" cy="120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20"/>
            <p:cNvSpPr/>
            <p:nvPr/>
          </p:nvSpPr>
          <p:spPr>
            <a:xfrm>
              <a:off x="2508480" y="395604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21"/>
            <p:cNvSpPr/>
            <p:nvPr/>
          </p:nvSpPr>
          <p:spPr>
            <a:xfrm>
              <a:off x="1967040" y="2959200"/>
              <a:ext cx="67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230040" y="266220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23"/>
            <p:cNvSpPr/>
            <p:nvPr/>
          </p:nvSpPr>
          <p:spPr>
            <a:xfrm>
              <a:off x="384120" y="4176720"/>
              <a:ext cx="2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4"/>
            <p:cNvSpPr/>
            <p:nvPr/>
          </p:nvSpPr>
          <p:spPr>
            <a:xfrm flipH="1">
              <a:off x="2243160" y="3627360"/>
              <a:ext cx="17280" cy="47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2152800" y="521640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1" name="Picture 26" descr=""/>
            <p:cNvPicPr/>
            <p:nvPr/>
          </p:nvPicPr>
          <p:blipFill>
            <a:blip r:embed="rId6"/>
            <a:stretch/>
          </p:blipFill>
          <p:spPr>
            <a:xfrm>
              <a:off x="13762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7" descr=""/>
            <p:cNvPicPr/>
            <p:nvPr/>
          </p:nvPicPr>
          <p:blipFill>
            <a:blip r:embed="rId7"/>
            <a:stretch/>
          </p:blipFill>
          <p:spPr>
            <a:xfrm>
              <a:off x="1698480" y="5418000"/>
              <a:ext cx="22716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28" descr=""/>
            <p:cNvPicPr/>
            <p:nvPr/>
          </p:nvPicPr>
          <p:blipFill>
            <a:blip r:embed="rId8"/>
            <a:stretch/>
          </p:blipFill>
          <p:spPr>
            <a:xfrm>
              <a:off x="195912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9" descr=""/>
            <p:cNvPicPr/>
            <p:nvPr/>
          </p:nvPicPr>
          <p:blipFill>
            <a:blip r:embed="rId9"/>
            <a:stretch/>
          </p:blipFill>
          <p:spPr>
            <a:xfrm>
              <a:off x="2733840" y="5418000"/>
              <a:ext cx="22680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30" descr=""/>
            <p:cNvPicPr/>
            <p:nvPr/>
          </p:nvPicPr>
          <p:blipFill>
            <a:blip r:embed="rId10"/>
            <a:stretch/>
          </p:blipFill>
          <p:spPr>
            <a:xfrm>
              <a:off x="2475000" y="5284800"/>
              <a:ext cx="22680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31" descr=""/>
            <p:cNvPicPr/>
            <p:nvPr/>
          </p:nvPicPr>
          <p:blipFill>
            <a:blip r:embed="rId11"/>
            <a:stretch/>
          </p:blipFill>
          <p:spPr>
            <a:xfrm>
              <a:off x="2990880" y="5284800"/>
              <a:ext cx="22716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32"/>
            <p:cNvSpPr/>
            <p:nvPr/>
          </p:nvSpPr>
          <p:spPr>
            <a:xfrm>
              <a:off x="341280" y="1928880"/>
              <a:ext cx="187164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8" name="AutoShape 33"/>
            <p:cNvCxnSpPr/>
            <p:nvPr/>
          </p:nvCxnSpPr>
          <p:spPr>
            <a:xfrm flipH="1" rot="16200000">
              <a:off x="142920" y="3857400"/>
              <a:ext cx="2000880" cy="714960"/>
            </a:xfrm>
            <a:prstGeom prst="bentConnector3">
              <a:avLst>
                <a:gd name="adj1" fmla="val -953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  <p:cxnSp>
          <p:nvCxnSpPr>
            <p:cNvPr id="369" name="AutoShape 34"/>
            <p:cNvCxnSpPr/>
            <p:nvPr/>
          </p:nvCxnSpPr>
          <p:spPr>
            <a:xfrm flipH="1" flipV="1">
              <a:off x="785520" y="2999880"/>
              <a:ext cx="2454480" cy="2324880"/>
            </a:xfrm>
            <a:prstGeom prst="bentConnector3">
              <a:avLst>
                <a:gd name="adj1" fmla="val -689"/>
              </a:avLst>
            </a:prstGeom>
            <a:ln w="38160">
              <a:solidFill>
                <a:srgbClr val="00b0f0"/>
              </a:solidFill>
              <a:prstDash val="dashDot"/>
              <a:round/>
              <a:headEnd len="med" type="triangle" w="med"/>
              <a:tailEnd len="med" type="triangle" w="med"/>
            </a:ln>
          </p:spPr>
        </p:cxnSp>
      </p:grpSp>
      <p:pic>
        <p:nvPicPr>
          <p:cNvPr id="370" name="Picture 35" descr=""/>
          <p:cNvPicPr/>
          <p:nvPr/>
        </p:nvPicPr>
        <p:blipFill>
          <a:blip r:embed="rId12"/>
          <a:stretch/>
        </p:blipFill>
        <p:spPr>
          <a:xfrm>
            <a:off x="3643200" y="2000160"/>
            <a:ext cx="5357880" cy="37497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36"/>
          <p:cNvSpPr/>
          <p:nvPr/>
        </p:nvSpPr>
        <p:spPr>
          <a:xfrm>
            <a:off x="5286240" y="1571760"/>
            <a:ext cx="21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TT_thr = 200 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lide Number Placeholder 37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705F3-3139-47C3-AD91-9346ECCA549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Straight Connector 40"/>
          <p:cNvSpPr/>
          <p:nvPr/>
        </p:nvSpPr>
        <p:spPr>
          <a:xfrm flipV="1">
            <a:off x="4928400" y="2142720"/>
            <a:ext cx="1800" cy="328788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Straight Connector 43"/>
          <p:cNvSpPr/>
          <p:nvPr/>
        </p:nvSpPr>
        <p:spPr>
          <a:xfrm flipH="1" flipV="1">
            <a:off x="4214880" y="2928960"/>
            <a:ext cx="4214880" cy="144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traight Connector 65"/>
          <p:cNvSpPr/>
          <p:nvPr/>
        </p:nvSpPr>
        <p:spPr>
          <a:xfrm flipH="1" flipV="1">
            <a:off x="4214880" y="4855680"/>
            <a:ext cx="4214880" cy="1800"/>
          </a:xfrm>
          <a:prstGeom prst="line">
            <a:avLst/>
          </a:prstGeom>
          <a:ln w="936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67"/>
          <p:cNvSpPr/>
          <p:nvPr/>
        </p:nvSpPr>
        <p:spPr>
          <a:xfrm>
            <a:off x="4786200" y="4643280"/>
            <a:ext cx="285840" cy="428760"/>
          </a:xfrm>
          <a:prstGeom prst="ellipse">
            <a:avLst/>
          </a:prstGeom>
          <a:noFill/>
          <a:ln w="936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eft-Right Arrow 68"/>
          <p:cNvSpPr/>
          <p:nvPr/>
        </p:nvSpPr>
        <p:spPr>
          <a:xfrm>
            <a:off x="4214880" y="392904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Evaluation of Handoff Decision Metric</a:t>
            </a:r>
            <a:br>
              <a:rPr sz="3800"/>
            </a:b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Simul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satisfy adequate VoIP cal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S retry ratio &lt; 0.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T &lt; 200 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3C503-A080-427B-BD5F-ACFC1F5E99F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Proposed Handover Strateg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214200" y="1500120"/>
            <a:ext cx="5329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homed M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ndoff manager (HM) on transport layer to control handoff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ploy RTS retries &amp; ICMP message to estimate of AP Queue length (RTT) as handoff decision metric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ploy Single-Path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Path Transmission to support Soft-Handof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46"/>
          <p:cNvGrpSpPr/>
          <p:nvPr/>
        </p:nvGrpSpPr>
        <p:grpSpPr>
          <a:xfrm>
            <a:off x="5628960" y="1143000"/>
            <a:ext cx="3314880" cy="5072040"/>
            <a:chOff x="5628960" y="1143000"/>
            <a:chExt cx="3314880" cy="5072040"/>
          </a:xfrm>
        </p:grpSpPr>
        <p:pic>
          <p:nvPicPr>
            <p:cNvPr id="384" name="Picture 2" descr=""/>
            <p:cNvPicPr/>
            <p:nvPr/>
          </p:nvPicPr>
          <p:blipFill>
            <a:blip r:embed="rId1"/>
            <a:stretch/>
          </p:blipFill>
          <p:spPr>
            <a:xfrm>
              <a:off x="5901120" y="3642840"/>
              <a:ext cx="2742840" cy="257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3" descr=""/>
            <p:cNvPicPr/>
            <p:nvPr/>
          </p:nvPicPr>
          <p:blipFill>
            <a:blip r:embed="rId2"/>
            <a:stretch/>
          </p:blipFill>
          <p:spPr>
            <a:xfrm>
              <a:off x="7000920" y="1301760"/>
              <a:ext cx="44928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1" descr=""/>
            <p:cNvPicPr/>
            <p:nvPr/>
          </p:nvPicPr>
          <p:blipFill>
            <a:blip r:embed="rId3"/>
            <a:stretch/>
          </p:blipFill>
          <p:spPr>
            <a:xfrm>
              <a:off x="6286320" y="2401920"/>
              <a:ext cx="5871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1" descr=""/>
            <p:cNvPicPr/>
            <p:nvPr/>
          </p:nvPicPr>
          <p:blipFill>
            <a:blip r:embed="rId4"/>
            <a:stretch/>
          </p:blipFill>
          <p:spPr>
            <a:xfrm>
              <a:off x="7628040" y="2401920"/>
              <a:ext cx="5871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9" descr=""/>
            <p:cNvPicPr/>
            <p:nvPr/>
          </p:nvPicPr>
          <p:blipFill>
            <a:blip r:embed="rId5"/>
            <a:stretch/>
          </p:blipFill>
          <p:spPr>
            <a:xfrm>
              <a:off x="7000920" y="2087280"/>
              <a:ext cx="4539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Straight Connector 9"/>
            <p:cNvSpPr/>
            <p:nvPr/>
          </p:nvSpPr>
          <p:spPr>
            <a:xfrm>
              <a:off x="7214400" y="1714320"/>
              <a:ext cx="12600" cy="37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Straight Connector 11"/>
            <p:cNvSpPr/>
            <p:nvPr/>
          </p:nvSpPr>
          <p:spPr>
            <a:xfrm flipH="1">
              <a:off x="6643440" y="2257560"/>
              <a:ext cx="35712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3"/>
            <p:cNvSpPr/>
            <p:nvPr/>
          </p:nvSpPr>
          <p:spPr>
            <a:xfrm>
              <a:off x="7454880" y="2258280"/>
              <a:ext cx="40320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2" name="Curved Connector 23"/>
            <p:cNvCxnSpPr>
              <a:endCxn id="393" idx="2"/>
            </p:cNvCxnSpPr>
            <p:nvPr/>
          </p:nvCxnSpPr>
          <p:spPr>
            <a:xfrm flipV="1" rot="10800000">
              <a:off x="5857200" y="2736360"/>
              <a:ext cx="429120" cy="3085920"/>
            </a:xfrm>
            <a:prstGeom prst="curvedConnector5">
              <a:avLst>
                <a:gd name="adj1" fmla="val 153316"/>
                <a:gd name="adj2" fmla="val 49994"/>
                <a:gd name="adj3" fmla="val 153316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  <p:cxnSp>
          <p:nvCxnSpPr>
            <p:cNvPr id="394" name="Curved Connector 29"/>
            <p:cNvCxnSpPr>
              <a:endCxn id="395" idx="6"/>
            </p:cNvCxnSpPr>
            <p:nvPr/>
          </p:nvCxnSpPr>
          <p:spPr>
            <a:xfrm>
              <a:off x="8214840" y="2736720"/>
              <a:ext cx="500760" cy="3085920"/>
            </a:xfrm>
            <a:prstGeom prst="curvedConnector5">
              <a:avLst>
                <a:gd name="adj1" fmla="val 145683"/>
                <a:gd name="adj2" fmla="val 49994"/>
                <a:gd name="adj3" fmla="val 145683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  <p:sp>
          <p:nvSpPr>
            <p:cNvPr id="396" name="Text Box 22"/>
            <p:cNvSpPr/>
            <p:nvPr/>
          </p:nvSpPr>
          <p:spPr>
            <a:xfrm>
              <a:off x="7358040" y="114300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31"/>
            <p:cNvSpPr/>
            <p:nvPr/>
          </p:nvSpPr>
          <p:spPr>
            <a:xfrm>
              <a:off x="5857920" y="5715000"/>
              <a:ext cx="214200" cy="2142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501040" y="5715000"/>
              <a:ext cx="214200" cy="2142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20"/>
            <p:cNvSpPr/>
            <p:nvPr/>
          </p:nvSpPr>
          <p:spPr>
            <a:xfrm>
              <a:off x="6359760" y="30718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20"/>
            <p:cNvSpPr/>
            <p:nvPr/>
          </p:nvSpPr>
          <p:spPr>
            <a:xfrm>
              <a:off x="7716960" y="30718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99" name="Curved Connector 40"/>
            <p:cNvCxnSpPr/>
            <p:nvPr/>
          </p:nvCxnSpPr>
          <p:spPr>
            <a:xfrm flipV="1" rot="10800000">
              <a:off x="6285600" y="1579320"/>
              <a:ext cx="714960" cy="1157400"/>
            </a:xfrm>
            <a:prstGeom prst="curvedConnector5">
              <a:avLst>
                <a:gd name="adj1" fmla="val 38539"/>
                <a:gd name="adj2" fmla="val 50000"/>
                <a:gd name="adj3" fmla="val 38539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  <p:cxnSp>
          <p:nvCxnSpPr>
            <p:cNvPr id="400" name="Curved Connector 43"/>
            <p:cNvCxnSpPr/>
            <p:nvPr/>
          </p:nvCxnSpPr>
          <p:spPr>
            <a:xfrm>
              <a:off x="7449840" y="1579320"/>
              <a:ext cx="765720" cy="1157400"/>
            </a:xfrm>
            <a:prstGeom prst="curvedConnector5">
              <a:avLst>
                <a:gd name="adj1" fmla="val 34995"/>
                <a:gd name="adj2" fmla="val 50000"/>
                <a:gd name="adj3" fmla="val 34995"/>
              </a:avLst>
            </a:prstGeom>
            <a:ln w="38160">
              <a:solidFill>
                <a:srgbClr val="00b0f0"/>
              </a:solidFill>
              <a:prstDash val="lgDashDot"/>
              <a:miter/>
              <a:headEnd len="med" type="arrow" w="med"/>
              <a:tailEnd len="med" type="arrow" w="med"/>
            </a:ln>
          </p:spPr>
        </p:cxnSp>
      </p:grpSp>
      <p:sp>
        <p:nvSpPr>
          <p:cNvPr id="401" name="Text Box 22"/>
          <p:cNvSpPr/>
          <p:nvPr/>
        </p:nvSpPr>
        <p:spPr>
          <a:xfrm>
            <a:off x="7002720" y="333360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Slide Number Placeholder 2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0A1B1-5453-4351-9583-B1C31F82EDA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7920"/>
            <a:ext cx="822960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Switching of Single Path/Multi-Path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2"/>
          <p:cNvGrpSpPr/>
          <p:nvPr/>
        </p:nvGrpSpPr>
        <p:grpSpPr>
          <a:xfrm>
            <a:off x="318600" y="1785960"/>
            <a:ext cx="4394160" cy="4069800"/>
            <a:chOff x="318600" y="1785960"/>
            <a:chExt cx="4394160" cy="4069800"/>
          </a:xfrm>
        </p:grpSpPr>
        <p:sp>
          <p:nvSpPr>
            <p:cNvPr id="405" name="AutoShape 3"/>
            <p:cNvSpPr/>
            <p:nvPr/>
          </p:nvSpPr>
          <p:spPr>
            <a:xfrm>
              <a:off x="718560" y="1785960"/>
              <a:ext cx="1770120" cy="3535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4"/>
            <p:cNvSpPr/>
            <p:nvPr/>
          </p:nvSpPr>
          <p:spPr>
            <a:xfrm>
              <a:off x="496440" y="2280960"/>
              <a:ext cx="2134800" cy="10962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1RTT&lt;RTT_th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AP2RTT&lt;RTT_th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5"/>
            <p:cNvSpPr/>
            <p:nvPr/>
          </p:nvSpPr>
          <p:spPr>
            <a:xfrm>
              <a:off x="2476080" y="25318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6"/>
            <p:cNvSpPr/>
            <p:nvPr/>
          </p:nvSpPr>
          <p:spPr>
            <a:xfrm>
              <a:off x="1557720" y="334584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7"/>
            <p:cNvSpPr/>
            <p:nvPr/>
          </p:nvSpPr>
          <p:spPr>
            <a:xfrm>
              <a:off x="1572120" y="3357000"/>
              <a:ext cx="1080" cy="20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AutoShape 8"/>
            <p:cNvSpPr/>
            <p:nvPr/>
          </p:nvSpPr>
          <p:spPr>
            <a:xfrm>
              <a:off x="523440" y="3550320"/>
              <a:ext cx="2096640" cy="6789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gt;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AutoShape 9"/>
            <p:cNvSpPr/>
            <p:nvPr/>
          </p:nvSpPr>
          <p:spPr>
            <a:xfrm>
              <a:off x="586800" y="4430880"/>
              <a:ext cx="1966680" cy="6789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lt; 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0"/>
            <p:cNvSpPr/>
            <p:nvPr/>
          </p:nvSpPr>
          <p:spPr>
            <a:xfrm>
              <a:off x="1557720" y="50421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1"/>
            <p:cNvSpPr/>
            <p:nvPr/>
          </p:nvSpPr>
          <p:spPr>
            <a:xfrm>
              <a:off x="1557720" y="42282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12"/>
            <p:cNvSpPr/>
            <p:nvPr/>
          </p:nvSpPr>
          <p:spPr>
            <a:xfrm>
              <a:off x="2555640" y="3888360"/>
              <a:ext cx="2631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3"/>
            <p:cNvSpPr/>
            <p:nvPr/>
          </p:nvSpPr>
          <p:spPr>
            <a:xfrm>
              <a:off x="2555640" y="4770720"/>
              <a:ext cx="3279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4"/>
            <p:cNvSpPr/>
            <p:nvPr/>
          </p:nvSpPr>
          <p:spPr>
            <a:xfrm>
              <a:off x="326520" y="1988640"/>
              <a:ext cx="393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5"/>
            <p:cNvSpPr/>
            <p:nvPr/>
          </p:nvSpPr>
          <p:spPr>
            <a:xfrm>
              <a:off x="2476080" y="36565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6"/>
            <p:cNvSpPr/>
            <p:nvPr/>
          </p:nvSpPr>
          <p:spPr>
            <a:xfrm>
              <a:off x="2476080" y="44992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17"/>
            <p:cNvSpPr/>
            <p:nvPr/>
          </p:nvSpPr>
          <p:spPr>
            <a:xfrm>
              <a:off x="607680" y="5313240"/>
              <a:ext cx="1946160" cy="542520"/>
            </a:xfrm>
            <a:prstGeom prst="flowChartDecision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F_Retry &gt; R_Sth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18"/>
            <p:cNvSpPr/>
            <p:nvPr/>
          </p:nvSpPr>
          <p:spPr>
            <a:xfrm>
              <a:off x="2555640" y="5584680"/>
              <a:ext cx="3279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19"/>
            <p:cNvSpPr/>
            <p:nvPr/>
          </p:nvSpPr>
          <p:spPr>
            <a:xfrm>
              <a:off x="2476080" y="53528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20"/>
            <p:cNvSpPr/>
            <p:nvPr/>
          </p:nvSpPr>
          <p:spPr>
            <a:xfrm>
              <a:off x="2882160" y="5432040"/>
              <a:ext cx="1310040" cy="2872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1"/>
            <p:cNvSpPr/>
            <p:nvPr/>
          </p:nvSpPr>
          <p:spPr>
            <a:xfrm flipH="1">
              <a:off x="318600" y="5584680"/>
              <a:ext cx="3423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2"/>
            <p:cNvSpPr/>
            <p:nvPr/>
          </p:nvSpPr>
          <p:spPr>
            <a:xfrm flipV="1">
              <a:off x="326520" y="1980720"/>
              <a:ext cx="1080" cy="360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AutoShape 23"/>
            <p:cNvSpPr/>
            <p:nvPr/>
          </p:nvSpPr>
          <p:spPr>
            <a:xfrm>
              <a:off x="2817000" y="3753360"/>
              <a:ext cx="1442160" cy="286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24"/>
            <p:cNvSpPr/>
            <p:nvPr/>
          </p:nvSpPr>
          <p:spPr>
            <a:xfrm>
              <a:off x="2882160" y="4633920"/>
              <a:ext cx="1441800" cy="2872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25"/>
            <p:cNvSpPr/>
            <p:nvPr/>
          </p:nvSpPr>
          <p:spPr>
            <a:xfrm>
              <a:off x="2831400" y="2549160"/>
              <a:ext cx="1881360" cy="544320"/>
            </a:xfrm>
            <a:prstGeom prst="flowChartDecision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F_Retry &gt; R_S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6"/>
            <p:cNvSpPr/>
            <p:nvPr/>
          </p:nvSpPr>
          <p:spPr>
            <a:xfrm flipH="1">
              <a:off x="2499480" y="1988640"/>
              <a:ext cx="1261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27"/>
            <p:cNvSpPr/>
            <p:nvPr/>
          </p:nvSpPr>
          <p:spPr>
            <a:xfrm>
              <a:off x="3916440" y="30204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AutoShape 28"/>
            <p:cNvSpPr/>
            <p:nvPr/>
          </p:nvSpPr>
          <p:spPr>
            <a:xfrm>
              <a:off x="3145680" y="3223440"/>
              <a:ext cx="1310400" cy="286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29"/>
            <p:cNvSpPr/>
            <p:nvPr/>
          </p:nvSpPr>
          <p:spPr>
            <a:xfrm>
              <a:off x="3459600" y="22809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0"/>
            <p:cNvSpPr/>
            <p:nvPr/>
          </p:nvSpPr>
          <p:spPr>
            <a:xfrm>
              <a:off x="443880" y="531324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1"/>
            <p:cNvSpPr/>
            <p:nvPr/>
          </p:nvSpPr>
          <p:spPr>
            <a:xfrm>
              <a:off x="1572120" y="2125440"/>
              <a:ext cx="1080" cy="20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2"/>
            <p:cNvSpPr/>
            <p:nvPr/>
          </p:nvSpPr>
          <p:spPr>
            <a:xfrm>
              <a:off x="3802320" y="3088440"/>
              <a:ext cx="108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33"/>
            <p:cNvSpPr/>
            <p:nvPr/>
          </p:nvSpPr>
          <p:spPr>
            <a:xfrm>
              <a:off x="1572120" y="4228200"/>
              <a:ext cx="1080" cy="20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4"/>
            <p:cNvSpPr/>
            <p:nvPr/>
          </p:nvSpPr>
          <p:spPr>
            <a:xfrm>
              <a:off x="1572120" y="5109840"/>
              <a:ext cx="108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35"/>
            <p:cNvSpPr/>
            <p:nvPr/>
          </p:nvSpPr>
          <p:spPr>
            <a:xfrm>
              <a:off x="3759480" y="1988640"/>
              <a:ext cx="12240" cy="56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38" name="AutoShape 36"/>
            <p:cNvCxnSpPr>
              <a:stCxn id="406" idx="3"/>
              <a:endCxn id="427" idx="1"/>
            </p:cNvCxnSpPr>
            <p:nvPr/>
          </p:nvCxnSpPr>
          <p:spPr>
            <a:xfrm flipV="1">
              <a:off x="2631240" y="2820960"/>
              <a:ext cx="20052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9" name="Group 37"/>
          <p:cNvGrpSpPr/>
          <p:nvPr/>
        </p:nvGrpSpPr>
        <p:grpSpPr>
          <a:xfrm>
            <a:off x="4844880" y="1857240"/>
            <a:ext cx="4084920" cy="3643560"/>
            <a:chOff x="4844880" y="1857240"/>
            <a:chExt cx="4084920" cy="3643560"/>
          </a:xfrm>
        </p:grpSpPr>
        <p:sp>
          <p:nvSpPr>
            <p:cNvPr id="440" name="AutoShape 38"/>
            <p:cNvSpPr/>
            <p:nvPr/>
          </p:nvSpPr>
          <p:spPr>
            <a:xfrm>
              <a:off x="5126040" y="1857240"/>
              <a:ext cx="1663560" cy="3384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AutoShape 39"/>
            <p:cNvSpPr/>
            <p:nvPr/>
          </p:nvSpPr>
          <p:spPr>
            <a:xfrm>
              <a:off x="4844880" y="2394000"/>
              <a:ext cx="2138400" cy="96372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P1RTT &lt; RTT_th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P2RTT &lt; RTT_th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AutoShape 40"/>
            <p:cNvSpPr/>
            <p:nvPr/>
          </p:nvSpPr>
          <p:spPr>
            <a:xfrm>
              <a:off x="5003640" y="3543480"/>
              <a:ext cx="1846440" cy="64764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gt; 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41"/>
            <p:cNvSpPr/>
            <p:nvPr/>
          </p:nvSpPr>
          <p:spPr>
            <a:xfrm>
              <a:off x="5003640" y="4384800"/>
              <a:ext cx="1846440" cy="64764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1RTT &lt; AP2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42"/>
            <p:cNvSpPr/>
            <p:nvPr/>
          </p:nvSpPr>
          <p:spPr>
            <a:xfrm>
              <a:off x="6850080" y="3865680"/>
              <a:ext cx="307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43"/>
            <p:cNvSpPr/>
            <p:nvPr/>
          </p:nvSpPr>
          <p:spPr>
            <a:xfrm>
              <a:off x="6850080" y="4708440"/>
              <a:ext cx="307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44"/>
            <p:cNvSpPr/>
            <p:nvPr/>
          </p:nvSpPr>
          <p:spPr>
            <a:xfrm>
              <a:off x="5964120" y="334656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45"/>
            <p:cNvSpPr/>
            <p:nvPr/>
          </p:nvSpPr>
          <p:spPr>
            <a:xfrm>
              <a:off x="6980400" y="2894040"/>
              <a:ext cx="307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46"/>
            <p:cNvSpPr/>
            <p:nvPr/>
          </p:nvSpPr>
          <p:spPr>
            <a:xfrm>
              <a:off x="6826320" y="25700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AutoShape 47"/>
            <p:cNvSpPr/>
            <p:nvPr/>
          </p:nvSpPr>
          <p:spPr>
            <a:xfrm>
              <a:off x="5072040" y="5226120"/>
              <a:ext cx="1643040" cy="274680"/>
            </a:xfrm>
            <a:prstGeom prst="flowChartTerminator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ng Retry Rat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48"/>
            <p:cNvSpPr/>
            <p:nvPr/>
          </p:nvSpPr>
          <p:spPr>
            <a:xfrm>
              <a:off x="5965920" y="418932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49"/>
            <p:cNvSpPr/>
            <p:nvPr/>
          </p:nvSpPr>
          <p:spPr>
            <a:xfrm>
              <a:off x="5923080" y="500544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50"/>
            <p:cNvSpPr/>
            <p:nvPr/>
          </p:nvSpPr>
          <p:spPr>
            <a:xfrm>
              <a:off x="7288200" y="2749680"/>
              <a:ext cx="1641600" cy="322200"/>
            </a:xfrm>
            <a:prstGeom prst="flowChartTerminator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ng Retry Rat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51"/>
            <p:cNvSpPr/>
            <p:nvPr/>
          </p:nvSpPr>
          <p:spPr>
            <a:xfrm>
              <a:off x="7157880" y="3720960"/>
              <a:ext cx="1414800" cy="2797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52"/>
            <p:cNvSpPr/>
            <p:nvPr/>
          </p:nvSpPr>
          <p:spPr>
            <a:xfrm>
              <a:off x="7157880" y="4578480"/>
              <a:ext cx="1414800" cy="27936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53"/>
            <p:cNvSpPr/>
            <p:nvPr/>
          </p:nvSpPr>
          <p:spPr>
            <a:xfrm>
              <a:off x="6826320" y="36068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54"/>
            <p:cNvSpPr/>
            <p:nvPr/>
          </p:nvSpPr>
          <p:spPr>
            <a:xfrm>
              <a:off x="6826320" y="43848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55"/>
            <p:cNvSpPr/>
            <p:nvPr/>
          </p:nvSpPr>
          <p:spPr>
            <a:xfrm>
              <a:off x="5927760" y="218124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56"/>
            <p:cNvSpPr/>
            <p:nvPr/>
          </p:nvSpPr>
          <p:spPr>
            <a:xfrm>
              <a:off x="5927760" y="503244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57"/>
            <p:cNvSpPr/>
            <p:nvPr/>
          </p:nvSpPr>
          <p:spPr>
            <a:xfrm>
              <a:off x="5927760" y="418932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58"/>
            <p:cNvSpPr/>
            <p:nvPr/>
          </p:nvSpPr>
          <p:spPr>
            <a:xfrm>
              <a:off x="5927760" y="3348000"/>
              <a:ext cx="1440" cy="1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Slide Number Placeholder 59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FE51F-C29B-4A84-A064-D5E75C5E712C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457200" y="277920"/>
            <a:ext cx="8229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Comparing Retry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2"/>
          <p:cNvGrpSpPr/>
          <p:nvPr/>
        </p:nvGrpSpPr>
        <p:grpSpPr>
          <a:xfrm>
            <a:off x="1214280" y="2000160"/>
            <a:ext cx="6329160" cy="3570120"/>
            <a:chOff x="1214280" y="2000160"/>
            <a:chExt cx="6329160" cy="3570120"/>
          </a:xfrm>
        </p:grpSpPr>
        <p:sp>
          <p:nvSpPr>
            <p:cNvPr id="464" name="AutoShape 3"/>
            <p:cNvSpPr/>
            <p:nvPr/>
          </p:nvSpPr>
          <p:spPr>
            <a:xfrm>
              <a:off x="2918520" y="2746080"/>
              <a:ext cx="2409120" cy="7473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F1_Retry :IF2_Ret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4"/>
            <p:cNvSpPr/>
            <p:nvPr/>
          </p:nvSpPr>
          <p:spPr>
            <a:xfrm>
              <a:off x="5271120" y="3120480"/>
              <a:ext cx="48852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5"/>
            <p:cNvSpPr/>
            <p:nvPr/>
          </p:nvSpPr>
          <p:spPr>
            <a:xfrm>
              <a:off x="4722840" y="3295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6"/>
            <p:cNvSpPr/>
            <p:nvPr/>
          </p:nvSpPr>
          <p:spPr>
            <a:xfrm>
              <a:off x="3232800" y="3295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7"/>
            <p:cNvSpPr/>
            <p:nvPr/>
          </p:nvSpPr>
          <p:spPr>
            <a:xfrm>
              <a:off x="5372280" y="2652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AutoShape 8"/>
            <p:cNvSpPr/>
            <p:nvPr/>
          </p:nvSpPr>
          <p:spPr>
            <a:xfrm>
              <a:off x="5758200" y="293292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AutoShape 9"/>
            <p:cNvSpPr/>
            <p:nvPr/>
          </p:nvSpPr>
          <p:spPr>
            <a:xfrm>
              <a:off x="2511000" y="3959640"/>
              <a:ext cx="1623240" cy="9345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F1_Retr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&lt; R_M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0"/>
            <p:cNvSpPr/>
            <p:nvPr/>
          </p:nvSpPr>
          <p:spPr>
            <a:xfrm>
              <a:off x="5758200" y="4428000"/>
              <a:ext cx="40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>
              <a:off x="3242520" y="2000160"/>
              <a:ext cx="1785240" cy="468000"/>
            </a:xfrm>
            <a:prstGeom prst="flowChartTerminator">
              <a:avLst/>
            </a:prstGeom>
            <a:solidFill>
              <a:srgbClr val="85ff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aring Retry Rati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>
              <a:off x="3323520" y="3680640"/>
              <a:ext cx="1623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>
              <a:off x="3323520" y="3680640"/>
              <a:ext cx="108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AutoShape 14"/>
            <p:cNvSpPr/>
            <p:nvPr/>
          </p:nvSpPr>
          <p:spPr>
            <a:xfrm>
              <a:off x="4136400" y="3959640"/>
              <a:ext cx="1623240" cy="93456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F2_Retry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&lt; R_M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AutoShape 15"/>
            <p:cNvSpPr/>
            <p:nvPr/>
          </p:nvSpPr>
          <p:spPr>
            <a:xfrm>
              <a:off x="5271120" y="470700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AutoShape 16"/>
            <p:cNvSpPr/>
            <p:nvPr/>
          </p:nvSpPr>
          <p:spPr>
            <a:xfrm>
              <a:off x="1214280" y="470700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lti Pat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>
              <a:off x="2106360" y="4428000"/>
              <a:ext cx="40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18"/>
            <p:cNvSpPr/>
            <p:nvPr/>
          </p:nvSpPr>
          <p:spPr>
            <a:xfrm>
              <a:off x="4215600" y="517536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AutoShape 19"/>
            <p:cNvSpPr/>
            <p:nvPr/>
          </p:nvSpPr>
          <p:spPr>
            <a:xfrm>
              <a:off x="2350800" y="5175360"/>
              <a:ext cx="1785240" cy="3949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ingle Path to IF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20"/>
            <p:cNvSpPr/>
            <p:nvPr/>
          </p:nvSpPr>
          <p:spPr>
            <a:xfrm>
              <a:off x="4486680" y="48006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21"/>
            <p:cNvSpPr/>
            <p:nvPr/>
          </p:nvSpPr>
          <p:spPr>
            <a:xfrm>
              <a:off x="3350520" y="48006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22"/>
            <p:cNvSpPr/>
            <p:nvPr/>
          </p:nvSpPr>
          <p:spPr>
            <a:xfrm>
              <a:off x="2211120" y="44280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23"/>
            <p:cNvSpPr/>
            <p:nvPr/>
          </p:nvSpPr>
          <p:spPr>
            <a:xfrm>
              <a:off x="5725080" y="4428000"/>
              <a:ext cx="33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4"/>
            <p:cNvSpPr/>
            <p:nvPr/>
          </p:nvSpPr>
          <p:spPr>
            <a:xfrm>
              <a:off x="4136400" y="2464920"/>
              <a:ext cx="1080" cy="27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4136400" y="3493440"/>
              <a:ext cx="1080" cy="18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4947120" y="3680640"/>
              <a:ext cx="144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2106360" y="4428000"/>
              <a:ext cx="108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4947120" y="4894560"/>
              <a:ext cx="144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9"/>
            <p:cNvSpPr/>
            <p:nvPr/>
          </p:nvSpPr>
          <p:spPr>
            <a:xfrm>
              <a:off x="3323520" y="4894560"/>
              <a:ext cx="108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0"/>
            <p:cNvSpPr/>
            <p:nvPr/>
          </p:nvSpPr>
          <p:spPr>
            <a:xfrm>
              <a:off x="6164280" y="4428000"/>
              <a:ext cx="144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Slide Number Placeholder 31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57ACE-C63F-424B-93CC-5ED9ADB4EC80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Avoiding Ping-Pong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457200" y="1600200"/>
            <a:ext cx="8229600" cy="56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raffic load in WLAN abruptly increases, all MN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 RTT information as HO decision criter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MNs simultaneously handoff to neighbor 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ghbor AP suddenly congested and all MNs switch back to previous 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ds to ping-pong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N with lowest transmission rate executes HO first followed by next lowest transmission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7EDA0-DC02-4C85-9D8C-C5D7190DCBDE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457200" y="277920"/>
            <a:ext cx="822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 Avoiding Ping-Pong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1"/>
          <p:cNvGrpSpPr/>
          <p:nvPr/>
        </p:nvGrpSpPr>
        <p:grpSpPr>
          <a:xfrm>
            <a:off x="191880" y="1857240"/>
            <a:ext cx="5370840" cy="4030920"/>
            <a:chOff x="191880" y="1857240"/>
            <a:chExt cx="5370840" cy="4030920"/>
          </a:xfrm>
        </p:grpSpPr>
        <p:sp>
          <p:nvSpPr>
            <p:cNvPr id="498" name="AutoShape 1"/>
            <p:cNvSpPr/>
            <p:nvPr/>
          </p:nvSpPr>
          <p:spPr>
            <a:xfrm>
              <a:off x="1523880" y="1857240"/>
              <a:ext cx="1511280" cy="358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culate RT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3"/>
            <p:cNvSpPr/>
            <p:nvPr/>
          </p:nvSpPr>
          <p:spPr>
            <a:xfrm>
              <a:off x="1450800" y="2433240"/>
              <a:ext cx="1728720" cy="57600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TT &gt; RTT_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AutoShape 4"/>
            <p:cNvSpPr/>
            <p:nvPr/>
          </p:nvSpPr>
          <p:spPr>
            <a:xfrm>
              <a:off x="3837240" y="4745160"/>
              <a:ext cx="1725480" cy="500040"/>
            </a:xfrm>
            <a:prstGeom prst="flowChartProcess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andover to another A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2314800" y="30081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8"/>
            <p:cNvSpPr/>
            <p:nvPr/>
          </p:nvSpPr>
          <p:spPr>
            <a:xfrm>
              <a:off x="442800" y="2576160"/>
              <a:ext cx="863640" cy="28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9"/>
            <p:cNvSpPr/>
            <p:nvPr/>
          </p:nvSpPr>
          <p:spPr>
            <a:xfrm>
              <a:off x="1595520" y="5529600"/>
              <a:ext cx="1511280" cy="35856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+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10"/>
            <p:cNvSpPr/>
            <p:nvPr/>
          </p:nvSpPr>
          <p:spPr>
            <a:xfrm>
              <a:off x="1379520" y="2360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17"/>
            <p:cNvSpPr/>
            <p:nvPr/>
          </p:nvSpPr>
          <p:spPr>
            <a:xfrm>
              <a:off x="3692520" y="1999800"/>
              <a:ext cx="158436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0   6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1   9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2   12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3   18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4   24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5   36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6   48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F_thr=7   54Mb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8"/>
            <p:cNvSpPr/>
            <p:nvPr/>
          </p:nvSpPr>
          <p:spPr>
            <a:xfrm>
              <a:off x="3681720" y="1999800"/>
              <a:ext cx="16668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AutoShape 20"/>
            <p:cNvSpPr/>
            <p:nvPr/>
          </p:nvSpPr>
          <p:spPr>
            <a:xfrm>
              <a:off x="1062000" y="3238560"/>
              <a:ext cx="2500200" cy="7207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urrTime‐Last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me_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21"/>
            <p:cNvSpPr/>
            <p:nvPr/>
          </p:nvSpPr>
          <p:spPr>
            <a:xfrm>
              <a:off x="2350440" y="30081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AutoShape 23"/>
            <p:cNvSpPr/>
            <p:nvPr/>
          </p:nvSpPr>
          <p:spPr>
            <a:xfrm>
              <a:off x="1038240" y="4673880"/>
              <a:ext cx="2523960" cy="635040"/>
            </a:xfrm>
            <a:prstGeom prst="flowChartDecis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mission Rate ≤ ARF_th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26"/>
            <p:cNvSpPr/>
            <p:nvPr/>
          </p:nvSpPr>
          <p:spPr>
            <a:xfrm flipH="1">
              <a:off x="1300320" y="2719080"/>
              <a:ext cx="156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29"/>
            <p:cNvSpPr/>
            <p:nvPr/>
          </p:nvSpPr>
          <p:spPr>
            <a:xfrm>
              <a:off x="2315520" y="449100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30"/>
            <p:cNvSpPr/>
            <p:nvPr/>
          </p:nvSpPr>
          <p:spPr>
            <a:xfrm>
              <a:off x="3107880" y="473724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Text Box 31"/>
            <p:cNvSpPr/>
            <p:nvPr/>
          </p:nvSpPr>
          <p:spPr>
            <a:xfrm>
              <a:off x="949320" y="322416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32"/>
            <p:cNvSpPr/>
            <p:nvPr/>
          </p:nvSpPr>
          <p:spPr>
            <a:xfrm>
              <a:off x="2387520" y="524196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60"/>
            <p:cNvSpPr/>
            <p:nvPr/>
          </p:nvSpPr>
          <p:spPr>
            <a:xfrm>
              <a:off x="1450800" y="4160880"/>
              <a:ext cx="1655640" cy="3585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stTime = CurrTi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64"/>
            <p:cNvSpPr/>
            <p:nvPr/>
          </p:nvSpPr>
          <p:spPr>
            <a:xfrm>
              <a:off x="4743720" y="45547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65"/>
            <p:cNvSpPr/>
            <p:nvPr/>
          </p:nvSpPr>
          <p:spPr>
            <a:xfrm flipH="1">
              <a:off x="285840" y="2720880"/>
              <a:ext cx="1569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66"/>
            <p:cNvSpPr/>
            <p:nvPr/>
          </p:nvSpPr>
          <p:spPr>
            <a:xfrm>
              <a:off x="2315520" y="392760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8"/>
            <p:cNvSpPr/>
            <p:nvPr/>
          </p:nvSpPr>
          <p:spPr>
            <a:xfrm>
              <a:off x="2314800" y="221580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9"/>
            <p:cNvSpPr/>
            <p:nvPr/>
          </p:nvSpPr>
          <p:spPr>
            <a:xfrm>
              <a:off x="2314800" y="394488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70"/>
            <p:cNvSpPr/>
            <p:nvPr/>
          </p:nvSpPr>
          <p:spPr>
            <a:xfrm>
              <a:off x="2314800" y="45212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71"/>
            <p:cNvSpPr/>
            <p:nvPr/>
          </p:nvSpPr>
          <p:spPr>
            <a:xfrm>
              <a:off x="2314800" y="531360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3" name="Straight Arrow Connector 68"/>
            <p:cNvCxnSpPr>
              <a:stCxn id="509" idx="3"/>
            </p:cNvCxnSpPr>
            <p:nvPr/>
          </p:nvCxnSpPr>
          <p:spPr>
            <a:xfrm>
              <a:off x="3562560" y="4991040"/>
              <a:ext cx="275040" cy="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Shape 72"/>
            <p:cNvCxnSpPr>
              <a:endCxn id="503" idx="3"/>
            </p:cNvCxnSpPr>
            <p:nvPr/>
          </p:nvCxnSpPr>
          <p:spPr>
            <a:xfrm rot="5400000">
              <a:off x="3670920" y="4680000"/>
              <a:ext cx="464040" cy="159372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525" name="Elbow Connector 74"/>
            <p:cNvCxnSpPr>
              <a:stCxn id="503" idx="1"/>
              <a:endCxn id="498" idx="1"/>
            </p:cNvCxnSpPr>
            <p:nvPr/>
          </p:nvCxnSpPr>
          <p:spPr>
            <a:xfrm rot="10800000">
              <a:off x="1523160" y="2035800"/>
              <a:ext cx="72000" cy="3673080"/>
            </a:xfrm>
            <a:prstGeom prst="bentConnector3">
              <a:avLst>
                <a:gd name="adj1" fmla="val 1958793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526" name="Slide Number Placeholder 3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6FEE2-08F8-461A-8CB5-AED988A23FE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7" name="Straight Arrow Connector 36"/>
          <p:cNvCxnSpPr>
            <a:stCxn id="507" idx="1"/>
          </p:cNvCxnSpPr>
          <p:nvPr/>
        </p:nvCxnSpPr>
        <p:spPr>
          <a:xfrm flipH="1">
            <a:off x="204120" y="3597840"/>
            <a:ext cx="8578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Oval 33"/>
          <p:cNvSpPr/>
          <p:nvPr/>
        </p:nvSpPr>
        <p:spPr>
          <a:xfrm>
            <a:off x="7786800" y="3500280"/>
            <a:ext cx="928440" cy="642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34"/>
          <p:cNvSpPr/>
          <p:nvPr/>
        </p:nvSpPr>
        <p:spPr>
          <a:xfrm>
            <a:off x="7143840" y="3286080"/>
            <a:ext cx="1714320" cy="107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5"/>
          <p:cNvSpPr/>
          <p:nvPr/>
        </p:nvSpPr>
        <p:spPr>
          <a:xfrm>
            <a:off x="5929200" y="2786040"/>
            <a:ext cx="3000600" cy="2000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9"/>
          <p:cNvSpPr/>
          <p:nvPr/>
        </p:nvSpPr>
        <p:spPr>
          <a:xfrm>
            <a:off x="6572160" y="3071880"/>
            <a:ext cx="2357640" cy="143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41" descr=""/>
          <p:cNvPicPr/>
          <p:nvPr/>
        </p:nvPicPr>
        <p:blipFill>
          <a:blip r:embed="rId1"/>
          <a:stretch/>
        </p:blipFill>
        <p:spPr>
          <a:xfrm>
            <a:off x="6215040" y="30718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533" name="TextBox 44"/>
          <p:cNvSpPr/>
          <p:nvPr/>
        </p:nvSpPr>
        <p:spPr>
          <a:xfrm>
            <a:off x="6146280" y="335772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41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6"/>
          <p:cNvSpPr/>
          <p:nvPr/>
        </p:nvSpPr>
        <p:spPr>
          <a:xfrm>
            <a:off x="6003360" y="405612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7"/>
          <p:cNvSpPr/>
          <p:nvPr/>
        </p:nvSpPr>
        <p:spPr>
          <a:xfrm>
            <a:off x="6718320" y="385776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48"/>
          <p:cNvSpPr/>
          <p:nvPr/>
        </p:nvSpPr>
        <p:spPr>
          <a:xfrm>
            <a:off x="7373160" y="38419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4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49"/>
          <p:cNvSpPr/>
          <p:nvPr/>
        </p:nvSpPr>
        <p:spPr>
          <a:xfrm>
            <a:off x="7004160" y="3357720"/>
            <a:ext cx="40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41" descr=""/>
          <p:cNvPicPr/>
          <p:nvPr/>
        </p:nvPicPr>
        <p:blipFill>
          <a:blip r:embed="rId3"/>
          <a:stretch/>
        </p:blipFill>
        <p:spPr>
          <a:xfrm>
            <a:off x="6715080" y="3500280"/>
            <a:ext cx="285840" cy="3574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1" descr=""/>
          <p:cNvPicPr/>
          <p:nvPr/>
        </p:nvPicPr>
        <p:blipFill>
          <a:blip r:embed="rId4"/>
          <a:stretch/>
        </p:blipFill>
        <p:spPr>
          <a:xfrm>
            <a:off x="7429680" y="3500280"/>
            <a:ext cx="285480" cy="3574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1" descr=""/>
          <p:cNvPicPr/>
          <p:nvPr/>
        </p:nvPicPr>
        <p:blipFill>
          <a:blip r:embed="rId5"/>
          <a:stretch/>
        </p:blipFill>
        <p:spPr>
          <a:xfrm>
            <a:off x="7072200" y="3071880"/>
            <a:ext cx="285840" cy="357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1" descr=""/>
          <p:cNvPicPr/>
          <p:nvPr/>
        </p:nvPicPr>
        <p:blipFill>
          <a:blip r:embed="rId6"/>
          <a:stretch/>
        </p:blipFill>
        <p:spPr>
          <a:xfrm>
            <a:off x="8143920" y="3544920"/>
            <a:ext cx="399960" cy="4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roposed Handoff Strategy: </a:t>
            </a:r>
            <a:br>
              <a:rPr sz="38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Elimination of Redundant Probe Pa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very MN measures RTT using probe packe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ckets produce redundant traffic leading to unnecessary network overlo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olutio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MN sends probe packe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t of MNs measure RTT by capturing existing probe packets over wireless link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A0DD1-AA10-49A8-AEAA-2AFFD85B5F9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457200" y="277920"/>
            <a:ext cx="822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posed Handoff Strategy:</a:t>
            </a:r>
            <a:br>
              <a:rPr sz="3800"/>
            </a:br>
            <a:r>
              <a:rPr b="0" lang="en-GB" sz="2800" spc="-1" strike="noStrike">
                <a:solidFill>
                  <a:srgbClr val="006633"/>
                </a:solidFill>
                <a:latin typeface="Garamond"/>
              </a:rPr>
              <a:t>Elimination of Redundant Probe Pa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Slide Number Placeholder 8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F0C15-95E1-4FAC-A6B9-5EDC84D8CFD7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1"/>
          <p:cNvSpPr/>
          <p:nvPr/>
        </p:nvSpPr>
        <p:spPr>
          <a:xfrm>
            <a:off x="3786120" y="1728720"/>
            <a:ext cx="1674720" cy="324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ptured Packe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3"/>
          <p:cNvSpPr/>
          <p:nvPr/>
        </p:nvSpPr>
        <p:spPr>
          <a:xfrm>
            <a:off x="3405240" y="2252520"/>
            <a:ext cx="2436840" cy="99864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e packet size ==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ptured packet s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59"/>
          <p:cNvSpPr/>
          <p:nvPr/>
        </p:nvSpPr>
        <p:spPr>
          <a:xfrm>
            <a:off x="3679920" y="3403440"/>
            <a:ext cx="1892160" cy="298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LastTime=Curr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33"/>
          <p:cNvSpPr/>
          <p:nvPr/>
        </p:nvSpPr>
        <p:spPr>
          <a:xfrm>
            <a:off x="3286080" y="3832200"/>
            <a:ext cx="2714760" cy="857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 Reply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Source MAC Addr = =AP’s Addr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42"/>
          <p:cNvSpPr/>
          <p:nvPr/>
        </p:nvSpPr>
        <p:spPr>
          <a:xfrm>
            <a:off x="2214720" y="4689360"/>
            <a:ext cx="2019240" cy="357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ply_Time=Curr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AutoShape 35"/>
          <p:cNvSpPr/>
          <p:nvPr/>
        </p:nvSpPr>
        <p:spPr>
          <a:xfrm>
            <a:off x="5072040" y="4689360"/>
            <a:ext cx="2000160" cy="357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q_Time=Curr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AutoShape 44"/>
          <p:cNvSpPr/>
          <p:nvPr/>
        </p:nvSpPr>
        <p:spPr>
          <a:xfrm>
            <a:off x="1969920" y="5261040"/>
            <a:ext cx="2530800" cy="5968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W-RTT=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ply_Time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beReq_Ti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5" name="Straight Arrow Connector 9"/>
          <p:cNvCxnSpPr>
            <a:stCxn id="548" idx="2"/>
            <a:endCxn id="549" idx="0"/>
          </p:cNvCxnSpPr>
          <p:nvPr/>
        </p:nvCxnSpPr>
        <p:spPr>
          <a:xfrm flipH="1">
            <a:off x="4622040" y="2052360"/>
            <a:ext cx="252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6" name="Straight Arrow Connector 12"/>
          <p:cNvCxnSpPr>
            <a:stCxn id="549" idx="2"/>
            <a:endCxn id="550" idx="0"/>
          </p:cNvCxnSpPr>
          <p:nvPr/>
        </p:nvCxnSpPr>
        <p:spPr>
          <a:xfrm>
            <a:off x="4624560" y="3250800"/>
            <a:ext cx="216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14"/>
          <p:cNvCxnSpPr>
            <a:stCxn id="550" idx="2"/>
            <a:endCxn id="551" idx="0"/>
          </p:cNvCxnSpPr>
          <p:nvPr/>
        </p:nvCxnSpPr>
        <p:spPr>
          <a:xfrm>
            <a:off x="4626000" y="3701880"/>
            <a:ext cx="18000" cy="13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hape 19"/>
          <p:cNvCxnSpPr>
            <a:stCxn id="551" idx="1"/>
            <a:endCxn id="552" idx="0"/>
          </p:cNvCxnSpPr>
          <p:nvPr/>
        </p:nvCxnSpPr>
        <p:spPr>
          <a:xfrm flipV="1" rot="10800000">
            <a:off x="3223440" y="4260600"/>
            <a:ext cx="62640" cy="4291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59" name="Shape 23"/>
          <p:cNvCxnSpPr>
            <a:stCxn id="551" idx="3"/>
            <a:endCxn id="553" idx="0"/>
          </p:cNvCxnSpPr>
          <p:nvPr/>
        </p:nvCxnSpPr>
        <p:spPr>
          <a:xfrm>
            <a:off x="6000840" y="4260960"/>
            <a:ext cx="72000" cy="4291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0" name="Straight Arrow Connector 25"/>
          <p:cNvCxnSpPr>
            <a:stCxn id="552" idx="2"/>
            <a:endCxn id="554" idx="0"/>
          </p:cNvCxnSpPr>
          <p:nvPr/>
        </p:nvCxnSpPr>
        <p:spPr>
          <a:xfrm>
            <a:off x="3223080" y="5046480"/>
            <a:ext cx="118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1" name="TextBox 26"/>
          <p:cNvSpPr/>
          <p:nvPr/>
        </p:nvSpPr>
        <p:spPr>
          <a:xfrm>
            <a:off x="2714760" y="418932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143760" y="421308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3" name="Shape 34"/>
          <p:cNvCxnSpPr>
            <a:stCxn id="553" idx="2"/>
            <a:endCxn id="548" idx="3"/>
          </p:cNvCxnSpPr>
          <p:nvPr/>
        </p:nvCxnSpPr>
        <p:spPr>
          <a:xfrm flipV="1" rot="16200000">
            <a:off x="4187880" y="3162240"/>
            <a:ext cx="3156840" cy="612000"/>
          </a:xfrm>
          <a:prstGeom prst="bentConnector4">
            <a:avLst>
              <a:gd name="adj1" fmla="val -26961"/>
              <a:gd name="adj2" fmla="val -176103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4" name="Shape 41"/>
          <p:cNvCxnSpPr>
            <a:stCxn id="554" idx="2"/>
            <a:endCxn id="548" idx="1"/>
          </p:cNvCxnSpPr>
          <p:nvPr/>
        </p:nvCxnSpPr>
        <p:spPr>
          <a:xfrm flipH="1" flipV="1" rot="5400000">
            <a:off x="1526760" y="3598560"/>
            <a:ext cx="3967920" cy="551520"/>
          </a:xfrm>
          <a:prstGeom prst="bentConnector4">
            <a:avLst>
              <a:gd name="adj1" fmla="val -2876"/>
              <a:gd name="adj2" fmla="val -250424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65" name="Elbow Connector 50"/>
          <p:cNvCxnSpPr>
            <a:stCxn id="549" idx="3"/>
            <a:endCxn id="548" idx="3"/>
          </p:cNvCxnSpPr>
          <p:nvPr/>
        </p:nvCxnSpPr>
        <p:spPr>
          <a:xfrm flipH="1" flipV="1">
            <a:off x="5460120" y="1890360"/>
            <a:ext cx="381960" cy="862560"/>
          </a:xfrm>
          <a:prstGeom prst="bentConnector3">
            <a:avLst>
              <a:gd name="adj1" fmla="val -3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66" name="TextBox 53"/>
          <p:cNvSpPr/>
          <p:nvPr/>
        </p:nvSpPr>
        <p:spPr>
          <a:xfrm>
            <a:off x="4071960" y="3141720"/>
            <a:ext cx="500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54"/>
          <p:cNvSpPr/>
          <p:nvPr/>
        </p:nvSpPr>
        <p:spPr>
          <a:xfrm>
            <a:off x="5786280" y="2498760"/>
            <a:ext cx="500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6633"/>
                </a:solidFill>
                <a:latin typeface="Garamond"/>
              </a:rPr>
              <a:t>Evaluation of Proposed Handoff Strategy</a:t>
            </a:r>
            <a:br>
              <a:rPr sz="4400"/>
            </a:br>
            <a:r>
              <a:rPr b="0" lang="en-GB" sz="3600" spc="-1" strike="noStrike">
                <a:solidFill>
                  <a:srgbClr val="006633"/>
                </a:solidFill>
                <a:latin typeface="Garamond"/>
              </a:rPr>
              <a:t>Simulation Scena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ed Handoff Strategy vs. Handoff Strategy based on Data Frame Re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s establish VoIP call with their C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MNs randomly move between two 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Group 3"/>
          <p:cNvGrpSpPr/>
          <p:nvPr/>
        </p:nvGrpSpPr>
        <p:grpSpPr>
          <a:xfrm>
            <a:off x="3143160" y="3143160"/>
            <a:ext cx="5568840" cy="2946600"/>
            <a:chOff x="3143160" y="3143160"/>
            <a:chExt cx="5568840" cy="2946600"/>
          </a:xfrm>
        </p:grpSpPr>
        <p:grpSp>
          <p:nvGrpSpPr>
            <p:cNvPr id="571" name="Group 4"/>
            <p:cNvGrpSpPr/>
            <p:nvPr/>
          </p:nvGrpSpPr>
          <p:grpSpPr>
            <a:xfrm>
              <a:off x="3143160" y="3510360"/>
              <a:ext cx="523440" cy="479520"/>
              <a:chOff x="3143160" y="3510360"/>
              <a:chExt cx="523440" cy="479520"/>
            </a:xfrm>
          </p:grpSpPr>
          <p:pic>
            <p:nvPicPr>
              <p:cNvPr id="57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43160" y="3510360"/>
                <a:ext cx="523440" cy="4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4"/>
              <p:cNvSpPr/>
              <p:nvPr/>
            </p:nvSpPr>
            <p:spPr>
              <a:xfrm>
                <a:off x="3143160" y="3510360"/>
                <a:ext cx="523440" cy="4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5"/>
            <p:cNvGrpSpPr/>
            <p:nvPr/>
          </p:nvGrpSpPr>
          <p:grpSpPr>
            <a:xfrm>
              <a:off x="3143160" y="4937760"/>
              <a:ext cx="523440" cy="479520"/>
              <a:chOff x="3143160" y="4937760"/>
              <a:chExt cx="523440" cy="479520"/>
            </a:xfrm>
          </p:grpSpPr>
          <p:pic>
            <p:nvPicPr>
              <p:cNvPr id="575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143160" y="4937760"/>
                <a:ext cx="523440" cy="4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7"/>
              <p:cNvSpPr/>
              <p:nvPr/>
            </p:nvSpPr>
            <p:spPr>
              <a:xfrm>
                <a:off x="3143160" y="4937760"/>
                <a:ext cx="523440" cy="4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8"/>
            <p:cNvGrpSpPr/>
            <p:nvPr/>
          </p:nvGrpSpPr>
          <p:grpSpPr>
            <a:xfrm>
              <a:off x="3143160" y="4039560"/>
              <a:ext cx="523440" cy="480600"/>
              <a:chOff x="3143160" y="4039560"/>
              <a:chExt cx="523440" cy="480600"/>
            </a:xfrm>
          </p:grpSpPr>
          <p:pic>
            <p:nvPicPr>
              <p:cNvPr id="578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143160" y="4039560"/>
                <a:ext cx="523440" cy="48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9" name="Text Box 10"/>
              <p:cNvSpPr/>
              <p:nvPr/>
            </p:nvSpPr>
            <p:spPr>
              <a:xfrm>
                <a:off x="3143160" y="4039560"/>
                <a:ext cx="523440" cy="48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1"/>
            <p:cNvGrpSpPr/>
            <p:nvPr/>
          </p:nvGrpSpPr>
          <p:grpSpPr>
            <a:xfrm>
              <a:off x="5670720" y="3802320"/>
              <a:ext cx="531720" cy="376560"/>
              <a:chOff x="5670720" y="3802320"/>
              <a:chExt cx="531720" cy="376560"/>
            </a:xfrm>
          </p:grpSpPr>
          <p:pic>
            <p:nvPicPr>
              <p:cNvPr id="581" name="Pictu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670720" y="3802320"/>
                <a:ext cx="531720" cy="29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13"/>
              <p:cNvSpPr/>
              <p:nvPr/>
            </p:nvSpPr>
            <p:spPr>
              <a:xfrm>
                <a:off x="5670720" y="3802320"/>
                <a:ext cx="531720" cy="37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83" name="Picture 14" descr=""/>
            <p:cNvPicPr/>
            <p:nvPr/>
          </p:nvPicPr>
          <p:blipFill>
            <a:blip r:embed="rId5"/>
            <a:stretch/>
          </p:blipFill>
          <p:spPr>
            <a:xfrm>
              <a:off x="4721400" y="4496040"/>
              <a:ext cx="690840" cy="5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15" descr=""/>
            <p:cNvPicPr/>
            <p:nvPr/>
          </p:nvPicPr>
          <p:blipFill>
            <a:blip r:embed="rId6"/>
            <a:stretch/>
          </p:blipFill>
          <p:spPr>
            <a:xfrm>
              <a:off x="6561360" y="4463280"/>
              <a:ext cx="690840" cy="5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6"/>
            <p:cNvSpPr/>
            <p:nvPr/>
          </p:nvSpPr>
          <p:spPr>
            <a:xfrm flipH="1">
              <a:off x="5188320" y="4097160"/>
              <a:ext cx="609840" cy="64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7"/>
            <p:cNvSpPr/>
            <p:nvPr/>
          </p:nvSpPr>
          <p:spPr>
            <a:xfrm>
              <a:off x="6087600" y="4047480"/>
              <a:ext cx="888840" cy="69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8"/>
            <p:cNvSpPr/>
            <p:nvPr/>
          </p:nvSpPr>
          <p:spPr>
            <a:xfrm flipH="1">
              <a:off x="4085640" y="3910680"/>
              <a:ext cx="15609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9"/>
            <p:cNvSpPr/>
            <p:nvPr/>
          </p:nvSpPr>
          <p:spPr>
            <a:xfrm>
              <a:off x="4093920" y="3690360"/>
              <a:ext cx="1440" cy="154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20"/>
            <p:cNvSpPr/>
            <p:nvPr/>
          </p:nvSpPr>
          <p:spPr>
            <a:xfrm flipH="1">
              <a:off x="3668400" y="3691800"/>
              <a:ext cx="434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21"/>
            <p:cNvSpPr/>
            <p:nvPr/>
          </p:nvSpPr>
          <p:spPr>
            <a:xfrm flipH="1">
              <a:off x="3668400" y="4240440"/>
              <a:ext cx="434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 flipH="1">
              <a:off x="3668400" y="5236200"/>
              <a:ext cx="43416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Oval 23"/>
            <p:cNvSpPr/>
            <p:nvPr/>
          </p:nvSpPr>
          <p:spPr>
            <a:xfrm>
              <a:off x="3768480" y="5565960"/>
              <a:ext cx="3025440" cy="4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4"/>
            <p:cNvSpPr/>
            <p:nvPr/>
          </p:nvSpPr>
          <p:spPr>
            <a:xfrm>
              <a:off x="5198400" y="5590800"/>
              <a:ext cx="3025440" cy="4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 flipH="1">
              <a:off x="3763080" y="4856760"/>
              <a:ext cx="1023480" cy="946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26"/>
            <p:cNvSpPr/>
            <p:nvPr/>
          </p:nvSpPr>
          <p:spPr>
            <a:xfrm>
              <a:off x="5315760" y="4894560"/>
              <a:ext cx="1541880" cy="89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 flipH="1">
              <a:off x="5188320" y="4795560"/>
              <a:ext cx="1500480" cy="99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28"/>
            <p:cNvSpPr/>
            <p:nvPr/>
          </p:nvSpPr>
          <p:spPr>
            <a:xfrm>
              <a:off x="7095600" y="4845240"/>
              <a:ext cx="1128240" cy="99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Text Box 29"/>
            <p:cNvSpPr/>
            <p:nvPr/>
          </p:nvSpPr>
          <p:spPr>
            <a:xfrm>
              <a:off x="4245120" y="4782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Text Box 30"/>
            <p:cNvSpPr/>
            <p:nvPr/>
          </p:nvSpPr>
          <p:spPr>
            <a:xfrm>
              <a:off x="7239960" y="47890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Text Box 31"/>
            <p:cNvSpPr/>
            <p:nvPr/>
          </p:nvSpPr>
          <p:spPr>
            <a:xfrm>
              <a:off x="5594760" y="35560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32"/>
            <p:cNvSpPr/>
            <p:nvPr/>
          </p:nvSpPr>
          <p:spPr>
            <a:xfrm>
              <a:off x="3206160" y="314316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33"/>
            <p:cNvSpPr/>
            <p:nvPr/>
          </p:nvSpPr>
          <p:spPr>
            <a:xfrm>
              <a:off x="3336480" y="4454280"/>
              <a:ext cx="25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34"/>
            <p:cNvSpPr/>
            <p:nvPr/>
          </p:nvSpPr>
          <p:spPr>
            <a:xfrm>
              <a:off x="5372640" y="4845240"/>
              <a:ext cx="1188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Text Box 35"/>
            <p:cNvSpPr/>
            <p:nvPr/>
          </p:nvSpPr>
          <p:spPr>
            <a:xfrm>
              <a:off x="5679720" y="46443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AutoShape 36"/>
            <p:cNvSpPr/>
            <p:nvPr/>
          </p:nvSpPr>
          <p:spPr>
            <a:xfrm>
              <a:off x="4998600" y="5842440"/>
              <a:ext cx="613080" cy="210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AutoShape 37"/>
            <p:cNvSpPr/>
            <p:nvPr/>
          </p:nvSpPr>
          <p:spPr>
            <a:xfrm>
              <a:off x="5932440" y="5655960"/>
              <a:ext cx="1104120" cy="961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AutoShape 38"/>
            <p:cNvSpPr/>
            <p:nvPr/>
          </p:nvSpPr>
          <p:spPr>
            <a:xfrm>
              <a:off x="6266880" y="5804640"/>
              <a:ext cx="763200" cy="269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AutoShape 39"/>
            <p:cNvSpPr/>
            <p:nvPr/>
          </p:nvSpPr>
          <p:spPr>
            <a:xfrm>
              <a:off x="4176720" y="5626080"/>
              <a:ext cx="1702080" cy="3164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09" name="Picture 40" descr=""/>
            <p:cNvPicPr/>
            <p:nvPr/>
          </p:nvPicPr>
          <p:blipFill>
            <a:blip r:embed="rId7"/>
            <a:stretch/>
          </p:blipFill>
          <p:spPr>
            <a:xfrm>
              <a:off x="5722200" y="561672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41" descr=""/>
            <p:cNvPicPr/>
            <p:nvPr/>
          </p:nvPicPr>
          <p:blipFill>
            <a:blip r:embed="rId8"/>
            <a:stretch/>
          </p:blipFill>
          <p:spPr>
            <a:xfrm>
              <a:off x="4785120" y="579420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42" descr=""/>
            <p:cNvPicPr/>
            <p:nvPr/>
          </p:nvPicPr>
          <p:blipFill>
            <a:blip r:embed="rId9"/>
            <a:stretch/>
          </p:blipFill>
          <p:spPr>
            <a:xfrm>
              <a:off x="6973200" y="573552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43" descr=""/>
            <p:cNvPicPr/>
            <p:nvPr/>
          </p:nvPicPr>
          <p:blipFill>
            <a:blip r:embed="rId10"/>
            <a:stretch/>
          </p:blipFill>
          <p:spPr>
            <a:xfrm>
              <a:off x="5956560" y="5794200"/>
              <a:ext cx="253080" cy="2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44"/>
            <p:cNvSpPr/>
            <p:nvPr/>
          </p:nvSpPr>
          <p:spPr>
            <a:xfrm>
              <a:off x="6606360" y="3419280"/>
              <a:ext cx="2105640" cy="94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P (G.711)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Size = 160 byt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al = 20 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N speed = 1 m/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Slide Number Placeholder 47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2BEBC-42A5-4374-81F1-A6A2A8D64DA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Backgrou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357200"/>
            <a:ext cx="822960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uge demand for Voice over IP (VoIP) service over WL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minant WLAN today: IEEE802.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bile Node (MN) more likely to traverse several hotspots during VoIP c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ed reliable Handoff Management for real-time applications such as Vo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2999880" y="4408560"/>
            <a:ext cx="5356440" cy="1755000"/>
            <a:chOff x="2999880" y="4408560"/>
            <a:chExt cx="5356440" cy="1755000"/>
          </a:xfrm>
        </p:grpSpPr>
        <p:pic>
          <p:nvPicPr>
            <p:cNvPr id="106" name="Picture 4" descr=""/>
            <p:cNvPicPr/>
            <p:nvPr/>
          </p:nvPicPr>
          <p:blipFill>
            <a:blip r:embed="rId1"/>
            <a:stretch/>
          </p:blipFill>
          <p:spPr>
            <a:xfrm>
              <a:off x="7024680" y="5536080"/>
              <a:ext cx="3474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"/>
            <p:cNvSpPr/>
            <p:nvPr/>
          </p:nvSpPr>
          <p:spPr>
            <a:xfrm>
              <a:off x="5928120" y="5321880"/>
              <a:ext cx="40464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6"/>
            <p:cNvSpPr/>
            <p:nvPr/>
          </p:nvSpPr>
          <p:spPr>
            <a:xfrm>
              <a:off x="7572600" y="4660560"/>
              <a:ext cx="4107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9" name="Picture 7" descr=""/>
            <p:cNvPicPr/>
            <p:nvPr/>
          </p:nvPicPr>
          <p:blipFill>
            <a:blip r:embed="rId2"/>
            <a:stretch/>
          </p:blipFill>
          <p:spPr>
            <a:xfrm>
              <a:off x="5404680" y="4408560"/>
              <a:ext cx="531360" cy="5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Oval 8"/>
            <p:cNvSpPr/>
            <p:nvPr/>
          </p:nvSpPr>
          <p:spPr>
            <a:xfrm>
              <a:off x="4361760" y="5482080"/>
              <a:ext cx="2459880" cy="46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4303080" y="4825800"/>
              <a:ext cx="1153800" cy="924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0"/>
            <p:cNvSpPr/>
            <p:nvPr/>
          </p:nvSpPr>
          <p:spPr>
            <a:xfrm>
              <a:off x="5868000" y="4730400"/>
              <a:ext cx="983880" cy="96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1"/>
            <p:cNvSpPr/>
            <p:nvPr/>
          </p:nvSpPr>
          <p:spPr>
            <a:xfrm>
              <a:off x="5936040" y="45018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Picture 12" descr=""/>
            <p:cNvPicPr/>
            <p:nvPr/>
          </p:nvPicPr>
          <p:blipFill>
            <a:blip r:embed="rId3"/>
            <a:stretch/>
          </p:blipFill>
          <p:spPr>
            <a:xfrm>
              <a:off x="3436560" y="5749920"/>
              <a:ext cx="32976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4070160" y="4635000"/>
              <a:ext cx="4107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6" name="Picture 14" descr=""/>
            <p:cNvPicPr/>
            <p:nvPr/>
          </p:nvPicPr>
          <p:blipFill>
            <a:blip r:embed="rId4"/>
            <a:stretch/>
          </p:blipFill>
          <p:spPr>
            <a:xfrm>
              <a:off x="4025520" y="4517640"/>
              <a:ext cx="531360" cy="5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Oval 15"/>
            <p:cNvSpPr/>
            <p:nvPr/>
          </p:nvSpPr>
          <p:spPr>
            <a:xfrm>
              <a:off x="3000240" y="5650560"/>
              <a:ext cx="2459880" cy="462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16"/>
            <p:cNvSpPr/>
            <p:nvPr/>
          </p:nvSpPr>
          <p:spPr>
            <a:xfrm flipH="1">
              <a:off x="2999880" y="4936320"/>
              <a:ext cx="1153800" cy="92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4474440" y="4887360"/>
              <a:ext cx="983880" cy="96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8"/>
            <p:cNvSpPr/>
            <p:nvPr/>
          </p:nvSpPr>
          <p:spPr>
            <a:xfrm>
              <a:off x="4469400" y="464148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19" descr=""/>
            <p:cNvPicPr/>
            <p:nvPr/>
          </p:nvPicPr>
          <p:blipFill>
            <a:blip r:embed="rId5"/>
            <a:stretch/>
          </p:blipFill>
          <p:spPr>
            <a:xfrm>
              <a:off x="4073040" y="5698080"/>
              <a:ext cx="204480" cy="2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20"/>
            <p:cNvSpPr/>
            <p:nvPr/>
          </p:nvSpPr>
          <p:spPr>
            <a:xfrm>
              <a:off x="3957120" y="585648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3" name="Picture 21" descr=""/>
            <p:cNvPicPr/>
            <p:nvPr/>
          </p:nvPicPr>
          <p:blipFill>
            <a:blip r:embed="rId6"/>
            <a:stretch/>
          </p:blipFill>
          <p:spPr>
            <a:xfrm>
              <a:off x="6909480" y="4463640"/>
              <a:ext cx="531360" cy="53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Line 22"/>
            <p:cNvSpPr/>
            <p:nvPr/>
          </p:nvSpPr>
          <p:spPr>
            <a:xfrm flipH="1">
              <a:off x="5807160" y="4939560"/>
              <a:ext cx="1153800" cy="92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3"/>
            <p:cNvSpPr/>
            <p:nvPr/>
          </p:nvSpPr>
          <p:spPr>
            <a:xfrm>
              <a:off x="7372440" y="4846320"/>
              <a:ext cx="983880" cy="96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5868000" y="5609160"/>
              <a:ext cx="2459880" cy="46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Text Box 25"/>
            <p:cNvSpPr/>
            <p:nvPr/>
          </p:nvSpPr>
          <p:spPr>
            <a:xfrm>
              <a:off x="7499520" y="457164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26"/>
            <p:cNvSpPr/>
            <p:nvPr/>
          </p:nvSpPr>
          <p:spPr>
            <a:xfrm>
              <a:off x="4369680" y="5582160"/>
              <a:ext cx="3337560" cy="3981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" name="Picture 27" descr=""/>
            <p:cNvPicPr/>
            <p:nvPr/>
          </p:nvPicPr>
          <p:blipFill>
            <a:blip r:embed="rId7"/>
            <a:stretch/>
          </p:blipFill>
          <p:spPr>
            <a:xfrm>
              <a:off x="7720200" y="5749920"/>
              <a:ext cx="204480" cy="2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8" descr=""/>
            <p:cNvPicPr/>
            <p:nvPr/>
          </p:nvPicPr>
          <p:blipFill>
            <a:blip r:embed="rId8"/>
            <a:stretch/>
          </p:blipFill>
          <p:spPr>
            <a:xfrm>
              <a:off x="5577840" y="5268240"/>
              <a:ext cx="329760" cy="36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Slide Number Placeholder 29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8D167-809C-4DDB-925D-E8CD6B4CB7B3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457200" y="2779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6633"/>
                </a:solidFill>
                <a:latin typeface="Garamond"/>
              </a:rPr>
              <a:t>Evaluation of Proposed Handoff Strategy:</a:t>
            </a:r>
            <a:br>
              <a:rPr sz="3400"/>
            </a:br>
            <a:r>
              <a:rPr b="0" lang="en-GB" sz="3200" spc="-1" strike="noStrike">
                <a:solidFill>
                  <a:srgbClr val="006633"/>
                </a:solidFill>
                <a:latin typeface="Garamond"/>
              </a:rPr>
              <a:t>Simulation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4716360" y="2357280"/>
            <a:ext cx="4038840" cy="28274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395280" y="2357280"/>
            <a:ext cx="4038480" cy="28274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4"/>
          <p:cNvSpPr/>
          <p:nvPr/>
        </p:nvSpPr>
        <p:spPr>
          <a:xfrm>
            <a:off x="5410800" y="548784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Handoff Strate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105920" y="5497560"/>
            <a:ext cx="28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ff Strategy based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ame Re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lide Number Placeholder 6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07388-232C-4619-BFC8-E2AFA9EE94D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traight Connector 12"/>
          <p:cNvSpPr/>
          <p:nvPr/>
        </p:nvSpPr>
        <p:spPr>
          <a:xfrm>
            <a:off x="7358040" y="1428840"/>
            <a:ext cx="785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Straight Connector 13"/>
          <p:cNvSpPr/>
          <p:nvPr/>
        </p:nvSpPr>
        <p:spPr>
          <a:xfrm>
            <a:off x="7358040" y="1643040"/>
            <a:ext cx="78588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Box 14"/>
          <p:cNvSpPr/>
          <p:nvPr/>
        </p:nvSpPr>
        <p:spPr>
          <a:xfrm>
            <a:off x="5885640" y="12859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 Queue Leng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15"/>
          <p:cNvSpPr/>
          <p:nvPr/>
        </p:nvSpPr>
        <p:spPr>
          <a:xfrm>
            <a:off x="6755040" y="1500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6"/>
          <p:cNvSpPr/>
          <p:nvPr/>
        </p:nvSpPr>
        <p:spPr>
          <a:xfrm>
            <a:off x="1717920" y="215280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MOS: 1.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Box 17"/>
          <p:cNvSpPr/>
          <p:nvPr/>
        </p:nvSpPr>
        <p:spPr>
          <a:xfrm>
            <a:off x="6075720" y="2143080"/>
            <a:ext cx="152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MOS: 3.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8"/>
          <p:cNvSpPr/>
          <p:nvPr/>
        </p:nvSpPr>
        <p:spPr>
          <a:xfrm>
            <a:off x="5857920" y="1214280"/>
            <a:ext cx="2428920" cy="571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457200" y="1357200"/>
            <a:ext cx="82296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 algn="just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posed Handoff Decision Metr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TS Re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ion of AP Queue Length (RT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posed Handoff strategy for VoI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e Handoff based on wireless link condition &amp; congestion state at 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le to detect congested AP, not to execute Handoff to congested 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 algn="just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ibu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mless Handov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d-balancing between  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DD3A4-CD96-4B42-A1F8-8C7B00AF751F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1"/>
          <p:cNvSpPr/>
          <p:nvPr/>
        </p:nvSpPr>
        <p:spPr>
          <a:xfrm>
            <a:off x="590400" y="2909880"/>
            <a:ext cx="82296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hank Yo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86B64-70A6-4C8F-BB15-FD0865BEEF6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VoIP over WLAN (VoWLAN) Challenges (1)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IP sensitive to delay and packe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EE802.11-based WLAN not originally designed to support delay &amp; packet loss sensitiv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stic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wireless much worse than wired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3366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4480"/>
                <a:tab algn="l" pos="3263760"/>
                <a:tab algn="l" pos="3713040"/>
                <a:tab algn="l" pos="4162320"/>
                <a:tab algn="l" pos="4611600"/>
                <a:tab algn="l" pos="5060880"/>
                <a:tab algn="l" pos="5510160"/>
                <a:tab algn="l" pos="5959440"/>
                <a:tab algn="l" pos="6408720"/>
                <a:tab algn="l" pos="685800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36FDF-62B6-4992-B318-4C965D37B27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VoIP over WLAN (VoWLAN) Challenges (2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quality mainly degraded due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or Wireless Link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34776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vement, radio interference and obstac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gestion at 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34776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rease number of Mobile Termin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 need to detect degradation of VoIP quality &amp; handoff to another WLA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Handoff Management to maintain VoIP quality during hand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2F78E-F01B-43CF-84F6-DD815DB5E4EA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xisting Handoff Manage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45720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bile 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MIPv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IPv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-TC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-UD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-SC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FA03F-F4D2-47C3-BDDD-9A14D9729A2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77920"/>
            <a:ext cx="8224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Limitation of Existing Handoff Managem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457200" y="1760400"/>
            <a:ext cx="82249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ndoff decision metric and criteria are not discussed in deta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y on only upper layer informa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40220-DEAD-4528-923B-9E2F6CCEAE8D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57200" y="277920"/>
            <a:ext cx="8224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electing Handoff Decision Metric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214280"/>
            <a:ext cx="822492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Handoff Decision Metr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eived Signal Streng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ket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andoff Decision Metric from Layer 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of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 layer has potential to be significant metric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325440" algn="just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me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ies inevitably occur before packet loss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ows an MN to detect wireless link condition quickly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A6942-ECB5-46B2-A1A8-76FF78137416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 reliable Handoff Decision Metric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buClr>
                <a:srgbClr val="cc99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Mobile Terminal-based Handoff Management to maintain VoIP call quality during hando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spcBef>
                <a:spcPts val="7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2040"/>
            <a:ext cx="21272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DC3B5-5B1C-4F2D-8254-F8053AACE6D8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4:41:50Z</dcterms:created>
  <dc:creator>Adminstrator</dc:creator>
  <dc:description/>
  <dc:language>en-US</dc:language>
  <cp:lastModifiedBy>niswar-m</cp:lastModifiedBy>
  <dcterms:modified xsi:type="dcterms:W3CDTF">2009-03-05T01:18:24Z</dcterms:modified>
  <cp:revision>123</cp:revision>
  <dc:subject/>
  <dc:title>Handover Decision Strategy based on estimation of AP Queue Length &amp; Frame Retries in VoWLAN</dc:title>
</cp:coreProperties>
</file>