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6D3-AAC1-46B3-A2D0-2F6B2DA0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B74-5782-4420-9442-F9210DFC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E87-5981-47D0-8EEF-7E7F19D1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008-2332-47D6-B426-2F70399D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E24D-9B6B-4E68-82E5-E1DB1B0B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61EE-FC3C-456E-9B5E-41EC594E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EFBE-23FA-4C87-BC23-C8CF9B7D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C781-B78A-45FA-B175-F207A3D8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72CC-B05A-4247-B8E2-C2DC3092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3867-13A9-4B7B-8F1E-55CD0F2D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122A-06E5-4C9B-8796-851E2F19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BFE-AAD7-4601-A05D-365E52D3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7EE1-E892-43A0-83CE-AC62431F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00C7-BBC7-400C-85C6-F73787CA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FC15-A466-494C-8775-E1C716DF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FD7C-4C44-49C6-ADFA-4CE8967A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8361-48D8-489B-91E9-DA2E7A40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3AC-F215-48F8-9EFD-4D9D815B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E07-A6EE-4C86-814C-9EC69709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ACE-6EB8-452F-80C9-CD7D5042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815-7996-4ED6-A3B0-44D7875C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6EB-7BB8-4803-BBFD-2998A5A9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757-4AE0-49FF-A9E1-5D3F2D8D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03E-5F04-4AEF-99C2-AF0AA440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AA0D-36ED-4476-B1F9-274F42A085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B528-9523-4E83-97E8-3064562FFB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USULAN KURIKULUM 2005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gram Stud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knik Elek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SENTRASI 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knik Komputer, Kendali dan Elektron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(T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asalahnya …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(empat) staf tugas belajar 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alatan laboratorium belum semuanya tersedia…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ktu untuk mempersiapkan tinggal sedikit……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717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adwal Tentatif (1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mbentukan Tim Implement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at Ti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RAF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at Konsentrasi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RAF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at PLENO I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RAFT III (Elektro Bersam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at Ti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esepakatan ELEKTRO BERS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i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at Konsentrasi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RAFT Rev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at Ti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NALISASI D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at PLENO II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NGESAHAN DRAFT F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at Ti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UMUSAN ATURAN PENYETAR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SIALIS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adwal Tentatif (2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ni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i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ustus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hir Agustus 2006: IMPLEMENT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Program Studi </a:t>
            </a:r>
            <a:r>
              <a:rPr b="1" lang="en-US" sz="2800" spc="-1" strike="noStrike">
                <a:solidFill>
                  <a:srgbClr val="4d4d4d"/>
                </a:solidFill>
                <a:latin typeface="Tahoma"/>
              </a:rPr>
              <a:t>TK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4d4d4d"/>
                </a:solidFill>
                <a:uFillTx/>
                <a:latin typeface="Tahoma"/>
              </a:rPr>
              <a:t>Teknik Komputer, Kendali dan Elektronika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Tahun PERTAM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2398680"/>
          <a:ext cx="9144000" cy="35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98680"/>
                    <a:ext cx="914400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Tahoma"/>
              </a:rPr>
              <a:t>Tahun KEDUA/Semester 3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09480" y="1676520"/>
          <a:ext cx="8001000" cy="48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00100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Tahoma"/>
              </a:rPr>
              <a:t>Tahun KEDUA (TK) Semester 4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76520"/>
          <a:ext cx="8381880" cy="447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38188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Tahun KETIG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-76320" y="1905120"/>
          <a:ext cx="922032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1905120"/>
                    <a:ext cx="92203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Tahun KEEMP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600200"/>
          <a:ext cx="91440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Mata-Kuliah PILIHAN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600200"/>
          <a:ext cx="91440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pa yang BARU dari Kurikulum 2005 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ada lagi PRAKTIKUM I, II, III, 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S: K/P/T = Kelas/Non-Kelas/To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a Kuliah PILIHAN ada ya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erbuk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tuk semua konsent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hasa Indonesia dan Bahasa Inggris pada semester 7 dan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usus TK ………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Yang BARU di TK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a Kuliah Perancangan di sem.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a Kuliah BAR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jib: Aplikasi Saklar Elektronik (d/h Elka Industri), Algoritma dan Struktur Data, Teknologi Kendali Proses, Otomasi Indust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ihan: OOP, AI, FPGA-based Design, Aritmatika Komputer …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13:54:16Z</dcterms:created>
  <dc:creator>Mutiara S. Sadjad</dc:creator>
  <dc:description/>
  <dc:language>en-US</dc:language>
  <cp:lastModifiedBy>ADMIN</cp:lastModifiedBy>
  <dcterms:modified xsi:type="dcterms:W3CDTF">2006-05-02T04:33:57Z</dcterms:modified>
  <cp:revision>26</cp:revision>
  <dc:subject/>
  <dc:title>PowerPoint Presentation</dc:title>
</cp:coreProperties>
</file>