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CE8-9B2F-4CC9-B54C-95CCE51B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416-B928-4848-AD27-E470052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57A-35A8-4F4A-B18A-19354425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594-0555-4A8D-ABE5-F94CC31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8E0-7CD9-42B1-8090-3A389D83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8C3F-C085-48EE-A465-1120A5C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31CF-989B-41BE-832F-E9EBCF5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196-B4DC-47E3-813D-9CAFD39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2899-9ECA-4E20-9A42-5EB802C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843D-6B16-4EA1-84E5-D3E08F8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782-75F0-44CA-A4E0-1635B48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BE4-4FF3-4C50-9D5B-CE713AF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DEF4-CDC2-4165-A14B-AC6EE34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6D5-AF7F-46B2-9C29-6F6606E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1E34-C53C-44B9-B763-0DF88188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00A5-7623-4651-92C3-2ABD5DAC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9A68-2BFE-454A-8032-782C4C26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272-F35E-4E22-8BB2-DED037E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C9B-E9A6-4E71-A7F2-3D06A71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EC0-18DD-4254-82FE-DFE06E9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306-4CF9-479E-AF22-858B97C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48-FBBE-470F-A42C-28FC7EF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6B5-A8A1-43B4-BF3F-C1AF6761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A7E-1EC8-4FE7-8369-77B245B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8B4-3E00-4E29-A2F7-DE2E8E47F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DA39-27D2-41D9-9652-DFEF78277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USULAN KURIKUL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Studi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eknik Komputer, Kendali dan Elektron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Program Studi </a:t>
            </a: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T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4d4d4d"/>
                </a:solidFill>
                <a:uFillTx/>
                <a:latin typeface="Tahoma"/>
              </a:rPr>
              <a:t>Teknik Komputer, Kendali dan Elektronika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Tahun PERTAM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153280" cy="44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1532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 (TK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752480"/>
          <a:ext cx="7772400" cy="43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77240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TIG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82880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EMP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905120"/>
          <a:ext cx="91440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Mata-Kuliah PILIHAN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704960"/>
          <a:ext cx="914400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4960"/>
                    <a:ext cx="9144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54:16Z</dcterms:created>
  <dc:creator>Mutiara S. Sadjad</dc:creator>
  <dc:description/>
  <dc:language>en-US</dc:language>
  <cp:lastModifiedBy>Mutiara S. Sadjad</cp:lastModifiedBy>
  <dcterms:modified xsi:type="dcterms:W3CDTF">2004-03-21T03:22:29Z</dcterms:modified>
  <cp:revision>11</cp:revision>
  <dc:subject/>
  <dc:title>PowerPoint Presentation</dc:title>
</cp:coreProperties>
</file>