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C18-8561-40B0-A2C8-D8F8A23D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8E6-FD7B-4653-A339-CD884F2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B47-3A1A-441A-8500-EB893437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DC6-ECB8-42D3-A344-A9E04687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C8A-6CBF-4BB5-A17B-30FBC77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DB73-9492-40BC-8316-F2B54D9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AB6-3DC9-410D-BC64-5A65436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775-24E8-418F-8346-71AEC29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6196-CF02-4235-B1A7-5C571BC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32B-40F6-496D-89C0-6C63701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01B-96CD-4C49-894F-86C7E43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A60-63B8-44DC-ACD2-40B8B3D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F8A-1619-47E4-8EC6-92FED721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F67-A86A-47C4-BE65-FFA335D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ABF-CEAB-48F5-B59D-97F8E50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5ED4-DCF8-49B8-9F9B-E1E1FD0C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E38F-FC8E-461D-B3D2-6B1659E1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CEB-92C8-49E0-B50C-3FC5328F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46E-BF4A-475B-89A8-4B22402A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BFA-4CB8-465D-B56A-74B7DD4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D03-E891-4B83-9F61-82B54224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ACC-4E8F-4E6A-919E-AB14C1E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ECE-465E-41D9-875C-AD21ADB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61A-FEAD-424F-914F-490A2FD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E72-3633-4D44-BF5B-46FD71710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2B6-D14B-455D-AE13-4506D9E09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USULAN KURIKUL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Studi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eknik Komputer, Kendali dan Elektron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Program Studi </a:t>
            </a: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T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4d4d4d"/>
                </a:solidFill>
                <a:uFillTx/>
                <a:latin typeface="Tahoma"/>
              </a:rPr>
              <a:t>Teknik Komputer, Kendali dan Elektronika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Tahun PERTAM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153280" cy="44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532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 (TK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752480"/>
          <a:ext cx="7772400" cy="43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77240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TIG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82880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EMP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Mata-Kuliah PILIHAN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704960"/>
          <a:ext cx="914400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4960"/>
                    <a:ext cx="9144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54:16Z</dcterms:created>
  <dc:creator>Mutiara S. Sadjad</dc:creator>
  <dc:description/>
  <dc:language>en-US</dc:language>
  <cp:lastModifiedBy>Mutiara S. Sadjad</cp:lastModifiedBy>
  <dcterms:modified xsi:type="dcterms:W3CDTF">2004-03-21T03:22:29Z</dcterms:modified>
  <cp:revision>11</cp:revision>
  <dc:subject/>
  <dc:title>PowerPoint Presentation</dc:title>
</cp:coreProperties>
</file>