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4.png" ContentType="image/png"/>
  <Override PartName="/ppt/media/image1.png" ContentType="image/png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616-7244-4252-9051-8C63E2E9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606-514F-4E67-92D8-D34CF19E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837-8230-4D43-AF3B-5D6D19FC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525-118F-4F1F-A987-87A5306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329-1C30-4ED9-8D60-21569F3A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5B7-043B-46D3-B3D1-7BFC8163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D0E-15ED-449C-85AF-5BD43E46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330-B5F2-4B9F-915D-3DD77EB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A574-8B5D-48C1-ADE4-543826C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6EC2-F05C-48AC-9177-FB89929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58D1-7540-4A2E-874E-53376FD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BC4-68A3-412E-AB7F-F4BCCEB7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95D6-E161-4DDA-9083-7A5A702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037D-F822-4717-9D6E-C689C47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8A3A-EBAE-484F-871D-F6FDE9C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210-32E6-49E6-B028-10D50ED6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284-61C1-43F5-A2C0-36BFEA2D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25B-0952-478D-B580-82AFEF94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4DC-8A13-46CD-A40A-8646A36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C5C-72E7-406A-9101-58E262F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434-1EDF-42A3-9780-1C982267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972-76A1-4AD2-B762-BCF4F50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CB4-FBBD-467E-A923-E9502EE1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5BF-2275-4E44-BC46-C4A329D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E3B7-731F-40F3-8162-2AD5D69CDEEC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1200-482E-48B0-B686-A4ECA18E84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B82-F7D3-44BE-BE7D-54F626584C4A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D560-9826-4FA6-A405-884F3C2D90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7.wmf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1371240"/>
            <a:ext cx="6399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PROSES  PEMBELAJARAN MENGGUNAKAN </a:t>
            </a:r>
            <a:br>
              <a:rPr sz="2800"/>
            </a:br>
            <a:r>
              <a:rPr b="0" lang="en-US" sz="6000" spc="-1" strike="noStrike">
                <a:solidFill>
                  <a:srgbClr val="ebd189"/>
                </a:solidFill>
                <a:latin typeface="Tahoma"/>
              </a:rPr>
              <a:t>MULTIMEDIA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4920" y="4343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leh: Rhiza S. Sadj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ebd189"/>
                </a:solidFill>
                <a:latin typeface="Tahoma"/>
                <a:ea typeface="Times New Roman"/>
              </a:rPr>
              <a:t>rhiza @ unhas.ac.id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URL: http: //www.unhas.ac.id/~rhiza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67D7-F039-474E-B967-D7A3B07F06D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EF5E61-9583-42BE-AA9B-20B26BA31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2D965-672D-4AF2-9282-F447426463AE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72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8154C-00FC-4B9D-BC40-3EDF4FD75B6D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147C0-3070-497C-8C94-6CE76F8B10C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477120" y="350532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ENGINEERING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4C68E-941D-4F0C-BEE3-116E5B795378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B5B97-9B23-4075-8C2D-BCD886FA057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NUTU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8640" y="243792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nggunaan MULTIM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lam proses pembelajar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lebiha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kur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0" name="bd05515_" descr=""/>
          <p:cNvPicPr/>
          <p:nvPr/>
        </p:nvPicPr>
        <p:blipFill>
          <a:blip r:embed="rId1"/>
          <a:stretch/>
        </p:blipFill>
        <p:spPr>
          <a:xfrm>
            <a:off x="0" y="304920"/>
            <a:ext cx="318132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884-083A-469E-A8FB-CF251CDBAA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920F6-554D-4200-AC26-7EABC37AD9C1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74E1-A232-41F9-873A-B8DAE79BAB2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20C18CA-B246-4ECE-A18C-8D739900D227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1447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.....about providing opportunities for students 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5B1E0D-6D50-4475-93E2-784F05F830F0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NGANT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gapa kurikulum harus disusun dan diubah-ubah selalu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unia yang senantiasa berubah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unia Pendidikan dan Dunia Ker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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26F-C595-4E2E-8462-042AB945E6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10DD3-C0CB-43C5-BA14-A20C59D38F31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02FD-4A0B-4F93-B78C-A3D01162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62E4-226D-4337-9ED2-C9D50FDE60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3" name="AMCONFUS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CA2-6220-4F3D-BB00-59CCEA7FED1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9753D-3C90-430A-80A8-7C4FC9E5F8C2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93120" y="5398920"/>
          <a:ext cx="155088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312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920" y="685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saran Perilak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00200"/>
            <a:ext cx="8001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189"/>
                </a:solidFill>
                <a:latin typeface="Tahoma"/>
              </a:rPr>
              <a:t>Sasaran Perilaku U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(ditetapkan pada tingkat Perguruan Tinggi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(ditetapkan pada tingkat Fakulta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(ditetapkan pada tingkat Program Studi atau Jurusa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189"/>
                </a:solidFill>
                <a:latin typeface="Tahoma"/>
              </a:rPr>
              <a:t>Sasaran Perilaku Khusus</a:t>
            </a: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 (ditetapkan pada tingkat Program Studi atau Konsrentrasi/Sub-Program Stdi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ENERG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TELEKOMUN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KOMPUTER, KENDALI DAN  ELEKTRON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6204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4427640"/>
            <a:ext cx="1965240" cy="24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7467480" y="304920"/>
          <a:ext cx="1676520" cy="11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04920"/>
                    <a:ext cx="16765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4576680"/>
          <a:ext cx="2286000" cy="228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57668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281-6D3B-40E3-89CF-30DCCD1B3E5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4E063-DBA0-4F5F-82C2-2546DBBA7B46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16640" y="0"/>
            <a:ext cx="2727360" cy="2100240"/>
          </a:xfrm>
          <a:prstGeom prst="rect">
            <a:avLst/>
          </a:prstGeom>
          <a:ln w="0">
            <a:noFill/>
          </a:ln>
        </p:spPr>
      </p:pic>
      <p:pic>
        <p:nvPicPr>
          <p:cNvPr id="130" name="AMORGANI" descr=""/>
          <p:cNvPicPr/>
          <p:nvPr/>
        </p:nvPicPr>
        <p:blipFill>
          <a:blip r:embed="rId2"/>
          <a:stretch/>
        </p:blipFill>
        <p:spPr>
          <a:xfrm>
            <a:off x="0" y="386712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saran Perilaku Umu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00200"/>
            <a:ext cx="7467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bd189"/>
                </a:solidFill>
                <a:uFillTx/>
                <a:latin typeface="Tahoma"/>
              </a:rPr>
              <a:t>CONTOH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bd189"/>
                </a:solidFill>
                <a:latin typeface="Tahoma"/>
              </a:rPr>
              <a:t>Sarjana Teknik yang “memiliki kemampuan bekerja atau meneruskan pendidikan ke jenjang pendidikan yang lebih tinggi setelah menyelesaikan pendidikan sarjana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0481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 Narrow"/>
              </a:rPr>
              <a:t>Sasaran Perilaku Khusu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267080"/>
            <a:ext cx="7543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CONTOH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Sarjana Teknik yang “menguasai pemakaian paket-paket perangkat-lunak komputer (misalnya MATLAB, PROTEL, ORCAD, Electronic Workbench [EWB], SPICE dan lain-lain) untuk pemodelan dan simulasi masalah-masalah Teknik Elektro khususnya dan masalah rekayasa pada umumnya”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758000" y="2971800"/>
          <a:ext cx="1386000" cy="15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8000" y="2971800"/>
                    <a:ext cx="1386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073-F7FE-490E-8FA9-FF3EB71D9A2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15FCF-578C-4080-A704-1C9C272FD138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399600"/>
            <a:ext cx="7213680" cy="64764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Tahoma"/>
              </a:rPr>
              <a:t>Proses Pendidikan Teknik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2260440"/>
            <a:ext cx="2133720" cy="3574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771560"/>
            <a:ext cx="0" cy="4730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2379600"/>
            <a:ext cx="1218960" cy="0"/>
          </a:xfrm>
          <a:prstGeom prst="line">
            <a:avLst/>
          </a:prstGeom>
          <a:ln w="28440">
            <a:solidFill>
              <a:srgbClr val="ebd18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15920" y="2228760"/>
            <a:ext cx="1828800" cy="355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56080" y="2629080"/>
            <a:ext cx="1270080" cy="39996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629080"/>
            <a:ext cx="1218960" cy="39996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0320" y="3089160"/>
            <a:ext cx="1930320" cy="3574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3086280"/>
            <a:ext cx="1523880" cy="35532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429000"/>
            <a:ext cx="1117440" cy="2858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76920" y="3486240"/>
            <a:ext cx="1218960" cy="22860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60640" y="3200400"/>
            <a:ext cx="1625760" cy="7920"/>
          </a:xfrm>
          <a:prstGeom prst="line">
            <a:avLst/>
          </a:prstGeom>
          <a:ln w="28440">
            <a:solidFill>
              <a:srgbClr val="ebd18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56080" y="3800520"/>
            <a:ext cx="2539800" cy="355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75040" y="4172040"/>
            <a:ext cx="0" cy="2858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4511520"/>
            <a:ext cx="2286000" cy="35424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880" y="4156200"/>
            <a:ext cx="2463840" cy="796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064040" y="1428840"/>
            <a:ext cx="1828800" cy="355680"/>
            <a:chOff x="4064040" y="1428840"/>
            <a:chExt cx="1828800" cy="355680"/>
          </a:xfrm>
        </p:grpSpPr>
        <p:sp>
          <p:nvSpPr>
            <p:cNvPr id="154" name=""/>
            <p:cNvSpPr/>
            <p:nvPr/>
          </p:nvSpPr>
          <p:spPr>
            <a:xfrm>
              <a:off x="4064040" y="1428840"/>
              <a:ext cx="1828800" cy="355680"/>
            </a:xfrm>
            <a:prstGeom prst="rect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ahoma"/>
                </a:rPr>
                <a:t>MASALA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4040" y="1428840"/>
              <a:ext cx="1828800" cy="35568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59120" y="5200560"/>
            <a:ext cx="1828800" cy="355680"/>
            <a:chOff x="3759120" y="5200560"/>
            <a:chExt cx="1828800" cy="355680"/>
          </a:xfrm>
        </p:grpSpPr>
        <p:sp>
          <p:nvSpPr>
            <p:cNvPr id="157" name=""/>
            <p:cNvSpPr/>
            <p:nvPr/>
          </p:nvSpPr>
          <p:spPr>
            <a:xfrm>
              <a:off x="3759120" y="5200560"/>
              <a:ext cx="1828800" cy="355680"/>
            </a:xfrm>
            <a:prstGeom prst="rect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5200560"/>
              <a:ext cx="1828800" cy="35568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75040" y="4857840"/>
            <a:ext cx="0" cy="34272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16200000">
            <a:off x="4625640" y="1653480"/>
            <a:ext cx="4260600" cy="3352680"/>
          </a:xfrm>
          <a:custGeom>
            <a:avLst/>
            <a:gdLst>
              <a:gd name="textAreaLeft" fmla="*/ 0 w 4260600"/>
              <a:gd name="textAreaRight" fmla="*/ 4260960 w 426060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36760" y="5813280"/>
            <a:ext cx="4572000" cy="47340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Gambar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Bagan Alir Proses Pendidikan Tekni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84480" y="4629240"/>
            <a:ext cx="1523880" cy="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6FA-FDC4-46CC-B67F-A8254C1D3D5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88487-28AA-46E1-9E3C-A450B4C995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AC4-0F1E-4468-80AE-6E45F6E432A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FD45-E7B6-4033-8295-5470F15E28C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4-12-13T01:08:56Z</dcterms:modified>
  <cp:revision>30</cp:revision>
  <dc:subject/>
  <dc:title>PowerPoint Presentation</dc:title>
</cp:coreProperties>
</file>