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14.png" ContentType="image/png"/>
  <Override PartName="/ppt/media/image25.wmf" ContentType="image/x-wmf"/>
  <Override PartName="/ppt/media/RICOCHET.WAV" ContentType="audio/x-wav"/>
  <Override PartName="/ppt/media/image3.wmf" ContentType="image/x-wmf"/>
  <Override PartName="/ppt/media/image33.wmf" ContentType="image/x-wmf"/>
  <Override PartName="/ppt/media/image23.jpeg" ContentType="image/jpeg"/>
  <Override PartName="/ppt/media/image30.wmf" ContentType="image/x-wmf"/>
  <Override PartName="/ppt/media/image5.wmf" ContentType="image/x-wmf"/>
  <Override PartName="/ppt/media/image28.wmf" ContentType="image/x-wmf"/>
  <Override PartName="/ppt/media/CHIMES.WAV" ContentType="audio/x-wav"/>
  <Override PartName="/ppt/media/image11.wmf" ContentType="image/x-wmf"/>
  <Override PartName="/ppt/media/image20.jpeg" ContentType="image/jpeg"/>
  <Override PartName="/ppt/media/image7.wmf" ContentType="image/x-wmf"/>
  <Override PartName="/ppt/media/image21.jpeg" ContentType="image/jpeg"/>
  <Override PartName="/ppt/media/image32.wmf" ContentType="image/x-wmf"/>
  <Override PartName="/ppt/media/image13.png" ContentType="image/png"/>
  <Override PartName="/ppt/media/image12.jpeg" ContentType="image/jpeg"/>
  <Override PartName="/ppt/media/image8.wmf" ContentType="image/x-wmf"/>
  <Override PartName="/ppt/media/image9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EXPLODE.WAV" ContentType="audio/x-wav"/>
  <Override PartName="/ppt/media/image3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6E2-0E90-47DC-82EC-7C1FE85E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D0F-D938-4BFE-8AB5-32BE9A84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A20-5812-4323-B24F-6C3FA566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D27-A5C9-4447-B41B-0A58017D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EF4B-3D6A-44E0-A309-743571EC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9ACA-B17C-4A1E-AFFE-1AF7AAD8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FC32-8BB9-4B8A-93DA-D2872AB5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5C35-8350-471A-9B63-302C2955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ABB0-3B6A-45F0-A4AD-BC607849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1D18-3817-44FE-B443-D937851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A907-0598-4DE1-91CA-21FF1063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C21-7393-46A9-94BC-D3857322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4CF5-D40C-4357-A83F-E7122DE9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12AD-CB24-4F12-AAD3-E5721665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05FE-F660-4482-859C-4CADC1C1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4CED-302A-40AB-9546-D4FAE920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A6B3-5006-47FE-AA18-DBBD89CF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120-FAAC-49B1-B814-95D5C502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759-ED76-4B51-AC55-6F4205B6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AC8-9E85-48A2-88BF-EEA5A198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5EC-B914-4741-B06F-B77E577F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CAE-9C2D-4838-BE95-2C8417BB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C82-C294-41B4-B091-B51FBA2C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C9B-726F-488B-8B60-FAF9BC6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4315-4A99-4BD7-B79F-5141279289DE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FD00-DE07-47F8-AD30-78B130D81D6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C44F-C60B-413E-B296-135E7E9F7572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48D0-921F-4AF2-A05C-1DE048E0E21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hiza@unhas.ac.id" TargetMode="External"/><Relationship Id="rId2" Type="http://schemas.openxmlformats.org/officeDocument/2006/relationships/hyperlink" Target="http://www.unhas.ac.id/~rhiza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audio" Target="../media/CASHREG.WAV"/><Relationship Id="rId18" Type="http://schemas.openxmlformats.org/officeDocument/2006/relationships/audio" Target="../media/RICOCHET.WAV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4640" y="1295280"/>
            <a:ext cx="54086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Teknologi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Pendidika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hiza S. Sadj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rhiza@unhas.ac.id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http://www.unhas.ac.id/~rhiza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urusan Teknik Elektro Fakultas Tek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UNIVERSITAS HASANUDDIN Makass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264A-1CCF-4B52-A09C-2BB26BDF92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7691F73-1F00-4757-A79D-E9A477896F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Situasi Hari Ini ……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ari Hiroshima-Nagasaki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ke WTC 911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ampai Bom di Bali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………………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. dan Makassar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……………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gressi AS dan sekutunya ke IRAQ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4C3-11D2-4E5B-997B-ADD2CA2A96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2263F-C04D-406D-B8CC-0C4E595D8BA2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empus Sans ITC"/>
              </a:rPr>
              <a:t>Sekilas Sejarah Peradab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752480"/>
          <a:ext cx="8381880" cy="4019760"/>
        </p:xfrm>
        <a:graphic>
          <a:graphicData uri="http://schemas.openxmlformats.org/drawingml/2006/table">
            <a:tbl>
              <a:tblPr/>
              <a:tblGrid>
                <a:gridCol w="2793960"/>
                <a:gridCol w="2616120"/>
                <a:gridCol w="2971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F4B-C6DF-4C89-BF5C-04ECDC1380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C7989-EC09-40FD-A3F9-8CB924A929EC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SITUASI HARI IN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6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</a:rPr>
              <a:t>Gambaran situasi GLOBAL masa kini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Persaingan Global (yang sudah usai?) di era pasar beba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Meningkatnya kekerasan dan kerusuh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Bencana alam di mana-mana, musibah…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Serba cepat, serba jalan pintas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                       </a:t>
            </a: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serba  STRESSSSSS ………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0B8-F0D5-48D3-A467-FF089A41AB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556BE-5B76-4323-9B5D-5A8E2517E37B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66D-04F6-424C-A359-93E35DF3C3D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55FC6-24AA-4ECC-A664-7C1E378828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CDB-5A9D-462F-8571-2AC2D82CB20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5D1C1-7FAC-4FC3-82CE-F110FC447B55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5CB-D1D0-486D-B807-3521751DE1E5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553A9-DEFD-42AB-9A01-8B517D4911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empus Sans ITC"/>
              </a:rPr>
              <a:t>ERA INFORMASI GLOBAL 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200b5b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457200"/>
            <a:ext cx="3809880" cy="335268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89A-ACB5-4322-8D5E-50B8002430B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2312F-9F86-40DB-8A6C-004E5248D399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KOMPOSISI TENAGA KERJ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2E9-F526-48A3-9DB2-7C879C54B2A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388B7-3CCF-47A4-986B-C5689073A1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3216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ekerja informasi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COMPU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Mesin Ketik Canggih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HIBURAN: Games, VC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Lemari ARSIP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KOMUNIKASI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Bantu ADMINISTRASI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6DB3C-C42A-4F1E-9978-608BF1441121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ICOCHE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"/>
              </a:rPr>
              <a:t>PENDIDIKAN ??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57200"/>
            <a:ext cx="7010280" cy="6400800"/>
          </a:xfrm>
          <a:prstGeom prst="ellipse">
            <a:avLst/>
          </a:prstGeom>
          <a:noFill/>
          <a:ln w="381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743200"/>
            <a:ext cx="1524240" cy="137160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048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PROSES BELAJAR-MENGAJ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1981080" cy="1412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657600" y="3657600"/>
          <a:ext cx="1600200" cy="13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657600"/>
                    <a:ext cx="1600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048120" y="1828800"/>
          <a:ext cx="1771560" cy="19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828800"/>
                    <a:ext cx="17715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019920" y="4876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Comic Sans MS"/>
              </a:rPr>
              <a:t>Pendidikan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: FORMAL INFORMAL NON-FORM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E76-88B7-42DE-91E3-BBC8DF3138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0AA40-B2E2-41AE-912C-EF88D79405D6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45720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Next ……………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TIK di Perguruan Tingg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45BF-225B-468C-B8C9-B31A3EB3B2B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540C459-7964-41CC-ACCA-0809F16595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empus Sans ITC"/>
              </a:rPr>
              <a:t>Topik DISKUSI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Pergeseran PARADIGMA Proses BELAJAR-MENGAJA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dari PENGAJARAN ke PEMBELAJAR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TEACHING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to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LEARN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 TEACHER-oriented to STUDENT-centere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 INSTRUCTIONAL to EDUCATIONAL Techn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EDD-A17F-412E-82E9-E2041946FE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A28E7-C413-4600-A9ED-7F37BD910698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Teaching is ………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295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empus Sans ITC"/>
              </a:rPr>
              <a:t>about providing opportunities for students </a:t>
            </a:r>
            <a:r>
              <a:rPr b="1" lang="en-US" sz="4800" spc="-1" strike="noStrike">
                <a:solidFill>
                  <a:srgbClr val="eaeaea"/>
                </a:solidFill>
                <a:latin typeface="Tempus Sans ITC"/>
              </a:rPr>
              <a:t>to learn</a:t>
            </a:r>
            <a:r>
              <a:rPr b="0" lang="en-US" sz="6000" spc="-1" strike="noStrike">
                <a:solidFill>
                  <a:srgbClr val="eaeaea"/>
                </a:solidFill>
                <a:latin typeface="Tempus Sans ITC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971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26708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KNOW – how to lea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BE ABLE TO – learn mo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BE – the BE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…</a:t>
            </a: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.. to learn WHAT 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FD6-A1F2-4BD7-830E-25104DAC867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0F458-45BF-46DF-B892-BDA7E5CEF2F4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empus Sans ITC"/>
              </a:rPr>
              <a:t>PROSES PEMBELAJAR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676520"/>
            <a:ext cx="73911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06D-7122-43CA-9D23-8C04159AAB4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BED04-99E3-4D18-8098-D8FCC6EAEA02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eaching Format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examples)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17E9F-F7AB-4ACF-84AF-D3323307F679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456840"/>
            <a:ext cx="54100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empus Sans ITC"/>
              </a:rPr>
              <a:t>Teaching is a </a:t>
            </a:r>
            <a:r>
              <a:rPr b="0" lang="en-US" sz="4400" spc="-1" strike="noStrike" u="sng">
                <a:solidFill>
                  <a:srgbClr val="003399"/>
                </a:solidFill>
                <a:uFillTx/>
                <a:latin typeface="Tempus Sans ITC"/>
              </a:rPr>
              <a:t>SKILL</a:t>
            </a:r>
            <a:r>
              <a:rPr b="0" lang="en-US" sz="4400" spc="-1" strike="noStrike">
                <a:solidFill>
                  <a:srgbClr val="003399"/>
                </a:solidFill>
                <a:latin typeface="Tempus Sans ITC"/>
              </a:rPr>
              <a:t> 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19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916BE-EAAD-413A-A4F0-FFD5182057EF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Times New Roman"/>
              </a:rPr>
              <a:t>Today’s Situ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1C7C7-4A82-4C10-80AB-DDA7948735CD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3276720"/>
            <a:ext cx="70106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OTIV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OTIV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29000" y="33526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MOTIV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02920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977-5769-4B70-800F-BB0712CF84D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98786-13CE-4371-ACA5-EAEC8577D1D6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7-07-30T13:16:45Z</dcterms:modified>
  <cp:revision>19</cp:revision>
  <dc:subject/>
  <dc:title>PowerPoint Presentation</dc:title>
</cp:coreProperties>
</file>