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ASHREG.WAV" ContentType="audio/x-wav"/>
  <Override PartName="/ppt/media/image14.png" ContentType="image/png"/>
  <Override PartName="/ppt/media/image25.wmf" ContentType="image/x-wmf"/>
  <Override PartName="/ppt/media/RICOCHET.WAV" ContentType="audio/x-wav"/>
  <Override PartName="/ppt/media/image3.wmf" ContentType="image/x-wmf"/>
  <Override PartName="/ppt/media/image33.wmf" ContentType="image/x-wmf"/>
  <Override PartName="/ppt/media/image23.jpeg" ContentType="image/jpeg"/>
  <Override PartName="/ppt/media/image30.wmf" ContentType="image/x-wmf"/>
  <Override PartName="/ppt/media/image5.wmf" ContentType="image/x-wmf"/>
  <Override PartName="/ppt/media/image28.wmf" ContentType="image/x-wmf"/>
  <Override PartName="/ppt/media/CHIMES.WAV" ContentType="audio/x-wav"/>
  <Override PartName="/ppt/media/image11.wmf" ContentType="image/x-wmf"/>
  <Override PartName="/ppt/media/image20.jpeg" ContentType="image/jpeg"/>
  <Override PartName="/ppt/media/image7.wmf" ContentType="image/x-wmf"/>
  <Override PartName="/ppt/media/image21.jpeg" ContentType="image/jpeg"/>
  <Override PartName="/ppt/media/image32.wmf" ContentType="image/x-wmf"/>
  <Override PartName="/ppt/media/image13.png" ContentType="image/png"/>
  <Override PartName="/ppt/media/image12.jpeg" ContentType="image/jpeg"/>
  <Override PartName="/ppt/media/image8.wmf" ContentType="image/x-wmf"/>
  <Override PartName="/ppt/media/image9.wmf" ContentType="image/x-wmf"/>
  <Override PartName="/ppt/media/image26.wmf" ContentType="image/x-wmf"/>
  <Override PartName="/ppt/media/image27.wmf" ContentType="image/x-wmf"/>
  <Override PartName="/ppt/media/image4.wmf" ContentType="image/x-wmf"/>
  <Override PartName="/ppt/media/EXPLODE.WAV" ContentType="audio/x-wav"/>
  <Override PartName="/ppt/media/image31.wmf" ContentType="image/x-wmf"/>
  <Override PartName="/ppt/media/image6.wmf" ContentType="image/x-wmf"/>
  <Override PartName="/ppt/media/image19.jpeg" ContentType="image/jpeg"/>
  <Override PartName="/ppt/media/image10.wmf" ContentType="image/x-wmf"/>
  <Override PartName="/ppt/media/image2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5.wmf" ContentType="image/x-wmf"/>
  <Override PartName="/ppt/media/image22.jpeg" ContentType="image/jpeg"/>
  <Override PartName="/ppt/media/image16.wmf" ContentType="image/x-wmf"/>
  <Override PartName="/ppt/media/image17.wmf" ContentType="image/x-wmf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13AC-AC34-47E5-99F3-DC76ECC6F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5CC4-A317-4708-AB16-681083D0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E224-5C76-4F82-BEAB-6BC6FCE23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752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952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1124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752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3952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8BC2-472A-4168-B01B-9BBD1DA77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8F89-5074-4A66-8685-B2125D789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984E-D9D2-400C-B101-6F59443B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11FA-B6D9-4A3F-8C88-6288CDD5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FF57-7E8D-4246-B718-5B79C1A1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67F2-F543-4180-BD6E-2C7691D0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04760" y="1676520"/>
            <a:ext cx="693396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0CBF-8BB8-4A9A-8BA9-3FD41EA6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7B08-72AD-4FCE-AE27-48F7923E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53A9-1A53-453E-AC94-713FBF07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E899-4284-44ED-B5AC-17B526CC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264F-31F2-456D-B88D-A22D989D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4E16-B58F-4B7D-8EC9-B2C1C6F2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0346-F60E-4C0F-8D7F-860C33B73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0752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3952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91124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0752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3952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E4E3-CB7D-4E7E-B35F-8BE91B490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34BB-7EDD-47AB-BD6D-710EBE4C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0670-BECC-4CF4-821D-F3DFB64F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404B-0E77-4D97-B2DD-6719CCCC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4760" y="1676520"/>
            <a:ext cx="693396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322D-E244-42B1-AB5F-6B34D77F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B4CE-1523-4FFC-9BA5-F09BF19D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7F3B-57B3-489B-9FF1-D942BDDB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B234-B37C-42F6-ACA9-52DBA76F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5921-A198-412A-83F8-94E74786ECBE}" type="datetime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AEDD-0F98-4888-9979-84A1A04EDC9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DE4F-D379-4D8F-90E1-97968EDDB1E2}" type="datetime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C6B3-73BF-4634-8AD2-0DF10DD9D0C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hiza@unhas.ac.id" TargetMode="External"/><Relationship Id="rId2" Type="http://schemas.openxmlformats.org/officeDocument/2006/relationships/hyperlink" Target="http://www.unhas.ac.id/~rhiza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EXPLODE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RICOCHET.WAV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2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audio" Target="../media/CASHREG.WAV"/><Relationship Id="rId18" Type="http://schemas.openxmlformats.org/officeDocument/2006/relationships/audio" Target="../media/RICOCHET.WAV"/><Relationship Id="rId1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44640" y="1295280"/>
            <a:ext cx="54086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Comic Sans MS"/>
              </a:rPr>
              <a:t>Teknologi</a:t>
            </a: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Comic Sans MS"/>
              </a:rPr>
              <a:t>Pendidikan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hiza S. Sadja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cc"/>
                </a:solidFill>
                <a:uFillTx/>
                <a:latin typeface="Arial"/>
                <a:hlinkClick r:id="rId1"/>
              </a:rPr>
              <a:t>rhiza@unhas.ac.id</a:t>
            </a: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33cc"/>
                </a:solidFill>
                <a:uFillTx/>
                <a:latin typeface="Arial"/>
                <a:hlinkClick r:id="rId2"/>
              </a:rPr>
              <a:t>http://www.unhas.ac.id/~rhiza/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Jurusan Teknik Elektro Fakultas Tekni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UNIVERSITAS HASANUDDIN Makass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AFFC-D722-4861-B8D6-B13F52853A1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F2D7A7B-8BBD-4142-8ADE-D08E57A1310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905120" y="1592280"/>
            <a:ext cx="6906960" cy="5265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520" y="990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Times New Roman"/>
              </a:rPr>
              <a:t>Situasi Hari Ini ………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2819520"/>
            <a:ext cx="85341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Dari Hiroshima-Nagasaki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ke WTC 911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                    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sampai Bom di Bali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               …………………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. dan Makassar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………………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Agressi AS dan sekutunya ke IRAQ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781680" y="0"/>
            <a:ext cx="151776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916D-B977-414E-9CB6-00441426119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A11FDA-BD52-4FA2-9ABA-164C14E13C58}" type="datetime1">
              <a:rPr lang="en-US"/>
              <a:t>07/31/26</a:t>
            </a:fld>
          </a:p>
        </p:txBody>
      </p:sp>
    </p:spTree>
  </p:cSld>
  <p:transition spd="med">
    <p:wipe dir="r"/>
  </p:transition>
  <p:timing>
    <p:tnLst>
      <p:par>
        <p:cTn id="6" dur="indefinite" restart="never" nodeType="tmRoot">
          <p:childTnLst>
            <p:seq>
              <p:cTn id="7" dur="indefinite" nodeType="mainSeq">
                <p:childTnLst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empus Sans ITC"/>
              </a:rPr>
              <a:t>Sekilas Sejarah Peradaba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04920" y="1752480"/>
          <a:ext cx="8381880" cy="4019760"/>
        </p:xfrm>
        <a:graphic>
          <a:graphicData uri="http://schemas.openxmlformats.org/drawingml/2006/table">
            <a:tbl>
              <a:tblPr/>
              <a:tblGrid>
                <a:gridCol w="2793960"/>
                <a:gridCol w="2616120"/>
                <a:gridCol w="29718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Era Peradab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Issue Sentr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Peristiwa Dahsy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PERTANI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LAHAN TAN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REVOLUSI SOSIAL dan KEMERDEKA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INDUST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ENERG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HIROSHIMA NAGASAK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51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WTC 91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FF3D-1C19-4577-9403-4E1AD3C0D84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22545A-80B1-4BB7-A576-487945B86715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empus Sans ITC"/>
              </a:rPr>
              <a:t>SITUASI HARI IN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06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empus Sans ITC"/>
              </a:rPr>
              <a:t>Gambaran situasi GLOBAL masa kini: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506880" indent="-506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empus Sans ITC"/>
                <a:ea typeface="Times New Roman"/>
              </a:rPr>
              <a:t>Persaingan Global (yang sudah usai?) di era pasar beba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506880" indent="-506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empus Sans ITC"/>
                <a:ea typeface="Times New Roman"/>
              </a:rPr>
              <a:t>Meningkatnya kekerasan dan kerusuha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506880" indent="-506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empus Sans ITC"/>
                <a:ea typeface="Times New Roman"/>
              </a:rPr>
              <a:t>Bencana alam di mana-mana, musibah……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506880" indent="-506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empus Sans ITC"/>
                <a:ea typeface="Times New Roman"/>
              </a:rPr>
              <a:t>Serba cepat, serba jalan pintas,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empus Sans ITC"/>
                <a:ea typeface="Times New Roman"/>
              </a:rPr>
              <a:t>                       </a:t>
            </a:r>
            <a:r>
              <a:rPr b="0" lang="en-US" sz="4000" spc="-1" strike="noStrike">
                <a:solidFill>
                  <a:srgbClr val="eaeaea"/>
                </a:solidFill>
                <a:latin typeface="Tempus Sans ITC"/>
                <a:ea typeface="Times New Roman"/>
              </a:rPr>
              <a:t>serba  STRESSSSSS ………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F587-C1C5-4931-B950-DEA2E022631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BF694F-1AC8-47F1-87F1-6D9401678592}" type="datetime1">
              <a:rPr lang="en-US"/>
              <a:t>07/31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477120" y="0"/>
            <a:ext cx="266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TC 91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8792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809880" y="3543480"/>
            <a:ext cx="5334120" cy="3314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3809880" y="1219320"/>
            <a:ext cx="3733920" cy="230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0B53-CE4F-462E-AA00-F5ADE46F92A1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E6B71E-33E3-42EC-BE7D-7E4E338D966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3735360" cy="41911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759120" y="0"/>
            <a:ext cx="2911680" cy="43815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676920" y="1371600"/>
            <a:ext cx="2467080" cy="4324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05360" y="-360"/>
            <a:ext cx="2438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TC 91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BA82-50C2-4BD3-9C2F-C03BFE917CD3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2A15A8-1AEB-4751-9C9B-F82EDE1957DE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94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8541-072F-4C65-9000-09448A6F16C5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8803C9-2D7A-4F3C-9CC4-7CC8E3F7EF3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14600" y="58672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empus Sans ITC"/>
              </a:rPr>
              <a:t>ERA INFORMASI GLOBAL !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1828800"/>
            <a:ext cx="3886200" cy="2971800"/>
          </a:xfrm>
          <a:prstGeom prst="ellipse">
            <a:avLst/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2514600"/>
            <a:ext cx="39625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cc00"/>
                </a:solidFill>
                <a:latin typeface="Arial"/>
              </a:rPr>
              <a:t>Masyarakat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i="1" lang="en-US" sz="5400" spc="-1" strike="noStrike">
                <a:solidFill>
                  <a:srgbClr val="ffcc00"/>
                </a:solidFill>
                <a:latin typeface="Arial"/>
              </a:rPr>
              <a:t>nyata”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4343400"/>
            <a:ext cx="1143000" cy="1143000"/>
          </a:xfrm>
          <a:prstGeom prst="ellipse">
            <a:avLst/>
          </a:prstGeom>
          <a:solidFill>
            <a:srgbClr val="200b5b"/>
          </a:solidFill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47242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MASYARAKAT” MAY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00600" y="457200"/>
            <a:ext cx="3809880" cy="3352680"/>
          </a:xfrm>
          <a:prstGeom prst="ellipse">
            <a:avLst/>
          </a:pr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10280" y="1066680"/>
            <a:ext cx="318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MASYARAKAT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INFORMAS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9828800">
            <a:off x="3809880" y="2361960"/>
            <a:ext cx="2133720" cy="60948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9544400">
            <a:off x="3373200" y="3477960"/>
            <a:ext cx="3298680" cy="709560"/>
          </a:xfrm>
          <a:custGeom>
            <a:avLst/>
            <a:gdLst>
              <a:gd name="textAreaLeft" fmla="*/ 515160 w 3298680"/>
              <a:gd name="textAreaRight" fmla="*/ 2886480 w 3298680"/>
              <a:gd name="textAreaTop" fmla="*/ 177480 h 709560"/>
              <a:gd name="textAreaBottom" fmla="*/ 532440 h 70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D9F6-3A59-47EE-AE02-02AFCB0AEBBA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D22646-B83C-4D4B-A76B-5D163EFA605F}" type="datetime1">
              <a:rPr lang="en-US"/>
              <a:t>07/31/26</a:t>
            </a:fld>
          </a:p>
        </p:txBody>
      </p:sp>
    </p:spTree>
  </p:cSld>
  <p:transition spd="med">
    <p:wipe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1295280" y="411120"/>
          <a:ext cx="71629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1120"/>
                    <a:ext cx="71629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Times New Roman"/>
              </a:rPr>
              <a:t>KOMPOSISI TENAGA KERJ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DD45-DEFC-4D26-8240-63144F3AB5CB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41AB72-762C-4475-B4D4-0EEB59BACA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519440" cy="34671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419720" y="1371600"/>
            <a:ext cx="3886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-produksi ……….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golah…………….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-distribusikan …….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4360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07320" y="3352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29200" y="3886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produksi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59560" y="44197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TEKNOLOGI INFORMAS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95680" y="5486400"/>
            <a:ext cx="11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Arial"/>
              </a:rPr>
              <a:t>CI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632160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Pekerja informasi: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55627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…………………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. dosen dan peneliti, ……………pegawai administrasi ……..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COMPUT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905120" y="1219320"/>
            <a:ext cx="2628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uter 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419720" y="91440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7086600" y="990720"/>
          <a:ext cx="1550880" cy="14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990720"/>
                    <a:ext cx="155088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5638680" y="1447920"/>
          <a:ext cx="12384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447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7543800" y="3505320"/>
          <a:ext cx="1332000" cy="144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3505320"/>
                    <a:ext cx="13320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8020080" y="5029200"/>
          <a:ext cx="1123920" cy="160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020080" y="5029200"/>
                    <a:ext cx="11239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0" y="5102280"/>
          <a:ext cx="2209680" cy="15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5102280"/>
                    <a:ext cx="2209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2438280" y="5486400"/>
          <a:ext cx="1884600" cy="9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38280" y="5486400"/>
                    <a:ext cx="18846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6324480" y="5334120"/>
          <a:ext cx="1374840" cy="1523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4480" y="5334120"/>
                    <a:ext cx="13748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236160" cy="29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..... Mesin Ketik Canggih?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..... Alat HIBURAN: Games, VCD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..... Lemari ARSIP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..... Alat KOMUNIKASI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..... Alat Bantu ADMINISTRASI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A6DB0B-86FC-4925-9B46-509D79A9E7BB}" type="datetime1">
              <a:rPr lang="en-US"/>
              <a:t>07/31/26</a:t>
            </a:fld>
          </a:p>
        </p:txBody>
      </p:sp>
    </p:spTree>
  </p:cSld>
  <p:transition spd="med"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SHRE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RICOCHET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Lucida Sans"/>
              </a:rPr>
              <a:t>PENDIDIKAN ??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457200"/>
            <a:ext cx="7010280" cy="6400800"/>
          </a:xfrm>
          <a:prstGeom prst="ellipse">
            <a:avLst/>
          </a:prstGeom>
          <a:noFill/>
          <a:ln w="381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67080" y="2743200"/>
            <a:ext cx="1524240" cy="1371600"/>
          </a:xfrm>
          <a:prstGeom prst="ellipse">
            <a:avLst/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30481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mic Sans MS"/>
              </a:rPr>
              <a:t>PROSES BELAJAR-MENGAJ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1981080" cy="1412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4352760"/>
            <a:ext cx="2330280" cy="2505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3657600" y="3657600"/>
          <a:ext cx="1600200" cy="132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3657600"/>
                    <a:ext cx="1600200" cy="13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048120" y="1828800"/>
          <a:ext cx="1771560" cy="190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1828800"/>
                    <a:ext cx="177156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6019920" y="48769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Comic Sans MS"/>
              </a:rPr>
              <a:t>Pendidikan</a:t>
            </a:r>
            <a:r>
              <a:rPr b="1" lang="en-US" sz="2400" spc="-1" strike="noStrike">
                <a:solidFill>
                  <a:srgbClr val="eaeaea"/>
                </a:solidFill>
                <a:latin typeface="Comic Sans MS"/>
              </a:rPr>
              <a:t>: FORMAL INFORMAL NON-FORM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40CE-820A-4EAE-A6DA-0920CFD9050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6F59EC-BF2A-416F-BBD7-D1E4EBF43098}" type="datetime1">
              <a:rPr lang="en-US"/>
              <a:t>07/31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457200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empus Sans ITC"/>
              </a:rPr>
              <a:t>Next ……………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empus Sans ITC"/>
              </a:rPr>
              <a:t>TIK di Perguruan Tingg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4448-7DC6-4DC0-832B-ED7F983A3CFD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9113230-B01B-4253-AE7B-8C0E13A4EAA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empus Sans ITC"/>
              </a:rPr>
              <a:t>Topik DISKUSI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153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empus Sans ITC"/>
              </a:rPr>
              <a:t>Pergeseran PARADIGMA Proses BELAJAR-MENGAJAR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empus Sans ITC"/>
              </a:rPr>
              <a:t>dari PENGAJARAN ke PEMBELAJARA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Tempus Sans ITC"/>
              </a:rPr>
              <a:t>from</a:t>
            </a:r>
            <a:r>
              <a:rPr b="1" lang="en-US" sz="4000" spc="-1" strike="noStrike">
                <a:solidFill>
                  <a:srgbClr val="eaeaea"/>
                </a:solidFill>
                <a:latin typeface="Tempus Sans ITC"/>
              </a:rPr>
              <a:t> </a:t>
            </a:r>
            <a:r>
              <a:rPr b="1" i="1" lang="en-US" sz="4000" spc="-1" strike="noStrike">
                <a:solidFill>
                  <a:srgbClr val="eaeaea"/>
                </a:solidFill>
                <a:latin typeface="Tempus Sans ITC"/>
              </a:rPr>
              <a:t>TEACHING</a:t>
            </a:r>
            <a:r>
              <a:rPr b="1" lang="en-US" sz="4000" spc="-1" strike="noStrike">
                <a:solidFill>
                  <a:srgbClr val="eaeaea"/>
                </a:solidFill>
                <a:latin typeface="Tempus Sans ITC"/>
              </a:rPr>
              <a:t>  </a:t>
            </a:r>
            <a:r>
              <a:rPr b="1" i="1" lang="en-US" sz="4000" spc="-1" strike="noStrike">
                <a:solidFill>
                  <a:srgbClr val="eaeaea"/>
                </a:solidFill>
                <a:latin typeface="Tempus Sans ITC"/>
              </a:rPr>
              <a:t>to</a:t>
            </a:r>
            <a:r>
              <a:rPr b="1" lang="en-US" sz="4000" spc="-1" strike="noStrike">
                <a:solidFill>
                  <a:srgbClr val="eaeaea"/>
                </a:solidFill>
                <a:latin typeface="Tempus Sans ITC"/>
              </a:rPr>
              <a:t> </a:t>
            </a:r>
            <a:r>
              <a:rPr b="1" i="1" lang="en-US" sz="4000" spc="-1" strike="noStrike">
                <a:solidFill>
                  <a:srgbClr val="eaeaea"/>
                </a:solidFill>
                <a:latin typeface="Tempus Sans ITC"/>
              </a:rPr>
              <a:t>LEARNING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Tempus Sans ITC"/>
              </a:rPr>
              <a:t>from TEACHER-oriented to STUDENT-centered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Tempus Sans ITC"/>
              </a:rPr>
              <a:t>from INSTRUCTIONAL to EDUCATIONAL Technolog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681A-DB8D-4DC6-8B41-0E50172AEC5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3CA88E-995C-4F8F-BE14-13968C3752B0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empus Sans ITC"/>
              </a:rPr>
              <a:t>Teaching is …………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295280"/>
            <a:ext cx="8305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empus Sans ITC"/>
              </a:rPr>
              <a:t>about providing opportunities for students </a:t>
            </a:r>
            <a:r>
              <a:rPr b="1" lang="en-US" sz="4800" spc="-1" strike="noStrike">
                <a:solidFill>
                  <a:srgbClr val="eaeaea"/>
                </a:solidFill>
                <a:latin typeface="Tempus Sans ITC"/>
              </a:rPr>
              <a:t>to learn</a:t>
            </a:r>
            <a:r>
              <a:rPr b="0" lang="en-US" sz="6000" spc="-1" strike="noStrike">
                <a:solidFill>
                  <a:srgbClr val="eaeaea"/>
                </a:solidFill>
                <a:latin typeface="Tempus Sans ITC"/>
              </a:rPr>
              <a:t>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29718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Jones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ed. . [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2000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], “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Times New Roman"/>
              </a:rPr>
              <a:t>CURRICULUM DEVELOPMENT, S1 Engineering Programs in Indonesi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”, page 2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4267080"/>
            <a:ext cx="7086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eaeaea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empus Sans ITC"/>
                <a:ea typeface="Times New Roman"/>
              </a:rPr>
              <a:t>Learn to KNOW – how to lear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eaeaea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empus Sans ITC"/>
                <a:ea typeface="Times New Roman"/>
              </a:rPr>
              <a:t>Learn to BE ABLE TO – learn mo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eaeaea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empus Sans ITC"/>
                <a:ea typeface="Times New Roman"/>
              </a:rPr>
              <a:t>Learn to BE – the BES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3809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empus Sans ITC"/>
              </a:rPr>
              <a:t>…</a:t>
            </a:r>
            <a:r>
              <a:rPr b="1" lang="en-US" sz="2400" spc="-1" strike="noStrike">
                <a:solidFill>
                  <a:srgbClr val="eaeaea"/>
                </a:solidFill>
                <a:latin typeface="Tempus Sans ITC"/>
              </a:rPr>
              <a:t>.. to learn WHAT 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727D-C41A-47F2-852C-B3CC889CA9A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7F9895-C12B-4DD5-A561-66C094EF7485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590920" cy="18478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empus Sans ITC"/>
              </a:rPr>
              <a:t>PROSES PEMBELAJARA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1676520"/>
            <a:ext cx="739116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2 (dua) kategori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proses pembelajaran di kelas (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classroom courses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) melalui tatap-muka yang dijadwalkan secara reguler dalam semester-semes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non-kelas (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non-classroom courses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), yang tidak terjadwal secara reguler, misalnya matakuliah Seminar, Kerja Praktek, Praktikum, Skripsi, Praktek Lapang, Kuliah Kerja Nyata, dan lain-lain. 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4196-5A77-46A6-BDE3-D8A773EB1578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67843C-5BA2-4B82-AE9D-8920E53630D3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21480" cy="6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Teaching Formats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(examples)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95440" y="1828440"/>
            <a:ext cx="4948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STER-APPRENTI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UDY CIRCLE (TUTOR-NOVIC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ALK and CHAL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PEEC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ESENT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RILL (PRACTICE, TEST, EXAM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40068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4892FF-AA5D-489E-B572-FA8439DF6FC2}" type="datetime1">
              <a:rPr lang="en-US"/>
              <a:t>07/31/26</a:t>
            </a:fld>
          </a:p>
        </p:txBody>
      </p:sp>
    </p:spTree>
  </p:cSld>
  <p:transition spd="slow">
    <p:wipe dir="r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971800" y="456840"/>
            <a:ext cx="541008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empus Sans ITC"/>
              </a:rPr>
              <a:t>Teaching is a </a:t>
            </a:r>
            <a:r>
              <a:rPr b="0" lang="en-US" sz="4400" spc="-1" strike="noStrike" u="sng">
                <a:solidFill>
                  <a:srgbClr val="003399"/>
                </a:solidFill>
                <a:uFillTx/>
                <a:latin typeface="Tempus Sans ITC"/>
              </a:rPr>
              <a:t>SKILL</a:t>
            </a:r>
            <a:r>
              <a:rPr b="0" lang="en-US" sz="4400" spc="-1" strike="noStrike">
                <a:solidFill>
                  <a:srgbClr val="003399"/>
                </a:solidFill>
                <a:latin typeface="Tempus Sans ITC"/>
              </a:rPr>
              <a:t> !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5410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b5b"/>
                </a:solidFill>
                <a:latin typeface="Tempus Sans ITC"/>
              </a:rPr>
              <a:t>Tal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b5b"/>
                </a:solidFill>
                <a:latin typeface="Tempus Sans ITC"/>
              </a:rPr>
              <a:t>Knowled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b5b"/>
                </a:solidFill>
                <a:latin typeface="Tempus Sans ITC"/>
              </a:rPr>
              <a:t>Experie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b5b"/>
                </a:solidFill>
                <a:latin typeface="Tempus Sans ITC"/>
              </a:rPr>
              <a:t>Sty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b5b"/>
                </a:solidFill>
                <a:latin typeface="Tempus Sans ITC"/>
              </a:rPr>
              <a:t>Techniqu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b5b"/>
                </a:solidFill>
                <a:latin typeface="Tempus Sans ITC"/>
              </a:rPr>
              <a:t>Methodolog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b5b"/>
                </a:solidFill>
                <a:latin typeface="Tempus Sans ITC"/>
              </a:rPr>
              <a:t>Mea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b5b"/>
                </a:solidFill>
                <a:latin typeface="Tempus Sans ITC"/>
              </a:rPr>
              <a:t>Too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b5b"/>
                </a:solidFill>
                <a:latin typeface="Tempus Sans ITC"/>
              </a:rPr>
              <a:t>.............et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b5b"/>
                </a:solidFill>
                <a:latin typeface="Tempus Sans ITC"/>
              </a:rPr>
              <a:t>Aids ...............TECHNOLOG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724280" y="1828800"/>
            <a:ext cx="3733920" cy="3733920"/>
            <a:chOff x="4724280" y="1828800"/>
            <a:chExt cx="3733920" cy="3733920"/>
          </a:xfrm>
        </p:grpSpPr>
        <p:sp>
          <p:nvSpPr>
            <p:cNvPr id="119" name=""/>
            <p:cNvSpPr/>
            <p:nvPr/>
          </p:nvSpPr>
          <p:spPr>
            <a:xfrm>
              <a:off x="4724280" y="1828800"/>
              <a:ext cx="3733920" cy="3733920"/>
            </a:xfrm>
            <a:prstGeom prst="ellipse">
              <a:avLst/>
            </a:prstGeom>
            <a:solidFill>
              <a:srgbClr val="eeb00b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952880" y="3200400"/>
              <a:ext cx="3276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aeaea"/>
                  </a:solidFill>
                  <a:latin typeface="Times New Roman"/>
                </a:rPr>
                <a:t>EDUCATIONAL TECHNOLOGY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733920" y="1676520"/>
            <a:ext cx="2479680" cy="2666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176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1F832D-E610-4561-B237-E29492FD7C0A}" type="datetime1">
              <a:rPr lang="en-US"/>
              <a:t>07/31/26</a:t>
            </a:fld>
          </a:p>
        </p:txBody>
      </p:sp>
    </p:spTree>
  </p:cSld>
  <p:transition spd="slow">
    <p:wipe dir="r"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301840" y="1679400"/>
            <a:ext cx="4540320" cy="34974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22160" y="2057400"/>
            <a:ext cx="8421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c1c1c"/>
                </a:solidFill>
                <a:latin typeface="Times New Roman"/>
              </a:rPr>
              <a:t>Today’s Situation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383160" y="304920"/>
          <a:ext cx="2760840" cy="18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83160" y="304920"/>
                    <a:ext cx="276084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57200" y="4114800"/>
          <a:ext cx="2286000" cy="2281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14800"/>
                    <a:ext cx="2286000" cy="22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457200" y="304920"/>
          <a:ext cx="4724280" cy="1501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304920"/>
                    <a:ext cx="4724280" cy="15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6272280" y="3886200"/>
            <a:ext cx="1965240" cy="2430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3022560" y="2133720"/>
            <a:ext cx="4292640" cy="15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oday's Situa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66880" y="5790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All kinds of HI-TECH stuffs ....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5085D8-1D72-40C9-ACE6-F9D61290C77F}" type="datetime1">
              <a:rPr lang="en-US"/>
              <a:t>07/31/26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empus Sans ITC"/>
              </a:rPr>
              <a:t>MOTIV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523880" y="3276720"/>
            <a:ext cx="701064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OTIV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MOTIVATIO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29000" y="3352680"/>
            <a:ext cx="2895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MOTIVA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5029200"/>
            <a:ext cx="4114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36ED-014B-4247-AC1A-05C14CB46F23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BAEF62-06C3-4B47-9006-E39695CA3F40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7-07-30T13:16:45Z</dcterms:modified>
  <cp:revision>19</cp:revision>
  <dc:subject/>
  <dc:title>PowerPoint Presentation</dc:title>
</cp:coreProperties>
</file>