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595F-9244-4A32-AE30-C112287C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91120" y="274464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329D-437D-400A-8CEE-90B4118F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3400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CB4-18F8-4780-97B5-92511BC9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3732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28316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9112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73732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28316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CCF-82A3-461C-A7A1-37071E88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EF6F-BB7A-4278-8B77-2F0379DB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0666-0BAC-4D8C-99F5-524FF8AD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F8DB-8B06-4857-9E04-BE59546B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18A6-8862-40C4-824D-D572C3E3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EE6F-FA77-47C4-91E6-46951CC2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743200" y="426960"/>
            <a:ext cx="6399360" cy="70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33E5-CECA-4E04-96BC-95BE1C0B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1D86-1C99-4E02-B893-6E671DF8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1E66-E8A3-47F1-8374-630BBDFC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3400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89B6-31E4-423B-BCB8-E3ACFB11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F071-DB95-4F8B-8DFD-433C611C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1120" y="274464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E332-DA67-4545-B6E1-4147C6F0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3400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A271-DFC9-40DD-A0F9-0F3CABA4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3732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28316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19112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573732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28316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2921-2EC7-4AC3-A2EC-EE6E7DC4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328A-0094-4529-B44C-132BB9E0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F98D-B8E6-4D83-89F3-494AE24A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F09-00B5-48F9-B007-3D1CCB76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43200" y="426960"/>
            <a:ext cx="6399360" cy="70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96FF-5609-4B02-B476-D5C4BC41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5139-2B6D-483A-93C3-85FC0357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3400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EBF8-E0F4-4EC9-B3D9-A3EAB5DA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FD4-4DBE-48C9-A5E8-0C945EFC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A100-EB3E-4031-AFE6-CC3648B6B4B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BFF0-7E02-463C-8044-EFA9111525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2903-2EE0-4DE0-A463-CA2B0EF9DA1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E68B-4BDF-4694-A479-75E4FDE62C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PENGANTAR TEKNOLOGI PENDIDIKAN</a:t>
            </a: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43434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leh: Rhiza S. Sadj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-mail: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  <a:ea typeface="Times New Roman"/>
              </a:rPr>
              <a:t>rhiza @ unhas.ac.id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URL: http: // w w w.unhas.ac.id/~rhiza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06A2-AD28-4948-9EF5-80322AC2389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3697DF5-E7B8-4CC2-9701-BBDAA427D4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47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cc"/>
                </a:solidFill>
                <a:uFillTx/>
                <a:latin typeface="Arial Narrow"/>
              </a:rPr>
              <a:t>Teaching</a:t>
            </a: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 is ..............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480" y="16761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................about providing opportunities for students to lear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4800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TIW Batch 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41911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66BE04D-6F18-4DB6-97A2-EC17BF797C7E}" type="datetime1">
              <a:rPr lang="en-US"/>
              <a:t>07/30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Proses Pembelajara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1752480"/>
            <a:ext cx="73915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 (dua) kategor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on-kelas (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on-classroom course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), yang tidak terjadwal secara reguler, misalnya matakuliah Seminar, Kerja Praktek, Praktikum, Skripsi, Praktek Lapang, Kuliah Kerja Nyata, dan lain-lain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AAE-5E57-408F-BA2A-E0DF79B33E2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76E8C-4F2D-436B-BA5D-DFA321D27F14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cc"/>
                </a:solidFill>
                <a:uFillTx/>
                <a:latin typeface="Arial Narrow"/>
              </a:rPr>
              <a:t>Teaching Formats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(examples)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-APPREN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CIRCLE (TUTOR-NOV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and CH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LL (PRACTICE, TEST, EXA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6BEDC-632E-4DED-A16C-B0345BB7E266}" type="datetime1">
              <a:rPr lang="en-US"/>
              <a:t>07/30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eaching is a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Arial Narrow"/>
              </a:rPr>
              <a:t>SKILL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!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..........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ds ...............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01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80A32-18EE-4147-AF60-8BA589FC39D2}" type="datetime1">
              <a:rPr lang="en-US"/>
              <a:t>07/30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TEKNOLOGI INFOKOM (</a:t>
            </a:r>
            <a:r>
              <a:rPr b="1" i="1" lang="en-US" sz="2800" spc="-1" strike="noStrike">
                <a:solidFill>
                  <a:srgbClr val="ffffcc"/>
                </a:solidFill>
                <a:latin typeface="Arial Narrow"/>
              </a:rPr>
              <a:t>ICT</a:t>
            </a: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)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di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PERGURUAN TINGGI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04920" y="1523880"/>
            <a:ext cx="8610480" cy="5334120"/>
            <a:chOff x="304920" y="1523880"/>
            <a:chExt cx="8610480" cy="5334120"/>
          </a:xfrm>
        </p:grpSpPr>
        <p:grpSp>
          <p:nvGrpSpPr>
            <p:cNvPr id="107" name=""/>
            <p:cNvGrpSpPr/>
            <p:nvPr/>
          </p:nvGrpSpPr>
          <p:grpSpPr>
            <a:xfrm>
              <a:off x="304920" y="1523880"/>
              <a:ext cx="8610480" cy="5334120"/>
              <a:chOff x="304920" y="1523880"/>
              <a:chExt cx="8610480" cy="5334120"/>
            </a:xfrm>
          </p:grpSpPr>
          <p:sp>
            <p:nvSpPr>
              <p:cNvPr id="108" name=""/>
              <p:cNvSpPr/>
              <p:nvPr/>
            </p:nvSpPr>
            <p:spPr>
              <a:xfrm>
                <a:off x="685800" y="1523880"/>
                <a:ext cx="8010360" cy="1859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219320" y="1554120"/>
                <a:ext cx="7162560" cy="65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Arial Narrow"/>
                  </a:rPr>
                  <a:t>PENGELOL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Arial Narrow"/>
                  </a:rPr>
                  <a:t>SISTEM INFORMASI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010040" y="2438280"/>
                <a:ext cx="1257120" cy="571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Verdana"/>
                  </a:rPr>
                  <a:t>Pelayana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Verdana"/>
                  </a:rPr>
                  <a:t>INTERNE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562720" y="2413080"/>
                <a:ext cx="1447560" cy="89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00"/>
                    </a:solidFill>
                    <a:latin typeface="Verdana"/>
                  </a:rPr>
                  <a:t>Sistem INFORMASI TERPADU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324560" y="2438280"/>
                <a:ext cx="1257480" cy="868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800000"/>
                    </a:solidFill>
                    <a:latin typeface="Verdana"/>
                  </a:rPr>
                  <a:t>E-Learning </a:t>
                </a:r>
                <a:r>
                  <a:rPr b="1" lang="en-US" sz="1200" spc="-1" strike="noStrike">
                    <a:solidFill>
                      <a:srgbClr val="800000"/>
                    </a:solidFill>
                    <a:latin typeface="Verdana"/>
                  </a:rPr>
                  <a:t>dan </a:t>
                </a:r>
                <a:r>
                  <a:rPr b="1" i="1" lang="en-US" sz="1200" spc="-1" strike="noStrike">
                    <a:solidFill>
                      <a:srgbClr val="800000"/>
                    </a:solidFill>
                    <a:latin typeface="Verdana"/>
                  </a:rPr>
                  <a:t>Distance Learnin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296040" y="2209680"/>
                <a:ext cx="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36600" y="2324160"/>
                <a:ext cx="6819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010360" y="2324160"/>
                <a:ext cx="0" cy="114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695840" y="2324160"/>
                <a:ext cx="0" cy="114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4920" y="3086280"/>
                <a:ext cx="1846080" cy="121104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4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Verdana"/>
                  </a:rPr>
                  <a:t>Sub-Bag Teknik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604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604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Verdana"/>
                  </a:rPr>
                  <a:t>Teknisi Kepal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174600">
                  <a:lnSpc>
                    <a:spcPct val="100000"/>
                  </a:lnSpc>
                  <a:buClr>
                    <a:srgbClr val="800000"/>
                  </a:buClr>
                  <a:buFont typeface="Symbol" charset="2"/>
                  <a:buChar char="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800000"/>
                    </a:solidFill>
                    <a:latin typeface="Verdana"/>
                  </a:rPr>
                  <a:t>Teknisi </a:t>
                </a:r>
                <a:r>
                  <a:rPr b="0" i="1" lang="en-US" sz="1000" spc="-1" strike="noStrike">
                    <a:solidFill>
                      <a:srgbClr val="800000"/>
                    </a:solidFill>
                    <a:latin typeface="Verdana"/>
                  </a:rPr>
                  <a:t>Hardware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174600">
                  <a:lnSpc>
                    <a:spcPct val="100000"/>
                  </a:lnSpc>
                  <a:buClr>
                    <a:srgbClr val="800000"/>
                  </a:buClr>
                  <a:buFont typeface="Symbol" charset="2"/>
                  <a:buChar char="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800000"/>
                    </a:solidFill>
                    <a:latin typeface="Verdana"/>
                  </a:rPr>
                  <a:t>Teknisi</a:t>
                </a:r>
                <a:r>
                  <a:rPr b="0" i="1" lang="en-US" sz="1000" spc="-1" strike="noStrike">
                    <a:solidFill>
                      <a:srgbClr val="800000"/>
                    </a:solidFill>
                    <a:latin typeface="Verdana"/>
                  </a:rPr>
                  <a:t> Software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1746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36680" y="3429000"/>
                <a:ext cx="171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151000" y="3086280"/>
                <a:ext cx="1714680" cy="111744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Verdana"/>
                  </a:rPr>
                  <a:t>Sub-Bag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Verdana"/>
                  </a:rPr>
                  <a:t>Adm. &amp; Keu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Verdana"/>
                  </a:rPr>
                  <a:t>Ka-Sub-Ba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Verdana"/>
                  </a:rPr>
                  <a:t>+STA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51000" y="3543480"/>
                <a:ext cx="171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236600" y="2286000"/>
                <a:ext cx="0" cy="800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951280" y="2286000"/>
                <a:ext cx="0" cy="800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581280" y="2971800"/>
                <a:ext cx="2057400" cy="1371600"/>
              </a:xfrm>
              <a:custGeom>
                <a:avLst/>
                <a:gdLst/>
                <a:ahLst/>
                <a:rect l="l" t="t" r="r" b="b"/>
                <a:pathLst>
                  <a:path w="2934" h="1322">
                    <a:moveTo>
                      <a:pt x="431" y="982"/>
                    </a:moveTo>
                    <a:lnTo>
                      <a:pt x="464" y="1033"/>
                    </a:lnTo>
                    <a:lnTo>
                      <a:pt x="501" y="1081"/>
                    </a:lnTo>
                    <a:lnTo>
                      <a:pt x="544" y="1126"/>
                    </a:lnTo>
                    <a:lnTo>
                      <a:pt x="592" y="1167"/>
                    </a:lnTo>
                    <a:lnTo>
                      <a:pt x="642" y="1205"/>
                    </a:lnTo>
                    <a:lnTo>
                      <a:pt x="694" y="1236"/>
                    </a:lnTo>
                    <a:lnTo>
                      <a:pt x="750" y="1264"/>
                    </a:lnTo>
                    <a:lnTo>
                      <a:pt x="810" y="1286"/>
                    </a:lnTo>
                    <a:lnTo>
                      <a:pt x="870" y="1304"/>
                    </a:lnTo>
                    <a:lnTo>
                      <a:pt x="933" y="1315"/>
                    </a:lnTo>
                    <a:lnTo>
                      <a:pt x="995" y="1322"/>
                    </a:lnTo>
                    <a:lnTo>
                      <a:pt x="1058" y="1322"/>
                    </a:lnTo>
                    <a:lnTo>
                      <a:pt x="1121" y="1318"/>
                    </a:lnTo>
                    <a:lnTo>
                      <a:pt x="1184" y="1307"/>
                    </a:lnTo>
                    <a:lnTo>
                      <a:pt x="1244" y="1292"/>
                    </a:lnTo>
                    <a:lnTo>
                      <a:pt x="1304" y="1271"/>
                    </a:lnTo>
                    <a:lnTo>
                      <a:pt x="1362" y="1244"/>
                    </a:lnTo>
                    <a:lnTo>
                      <a:pt x="1414" y="1214"/>
                    </a:lnTo>
                    <a:lnTo>
                      <a:pt x="1467" y="1178"/>
                    </a:lnTo>
                    <a:lnTo>
                      <a:pt x="1517" y="1214"/>
                    </a:lnTo>
                    <a:lnTo>
                      <a:pt x="1572" y="1244"/>
                    </a:lnTo>
                    <a:lnTo>
                      <a:pt x="1630" y="1271"/>
                    </a:lnTo>
                    <a:lnTo>
                      <a:pt x="1688" y="1292"/>
                    </a:lnTo>
                    <a:lnTo>
                      <a:pt x="1750" y="1307"/>
                    </a:lnTo>
                    <a:lnTo>
                      <a:pt x="1811" y="1318"/>
                    </a:lnTo>
                    <a:lnTo>
                      <a:pt x="1876" y="1322"/>
                    </a:lnTo>
                    <a:lnTo>
                      <a:pt x="1939" y="1322"/>
                    </a:lnTo>
                    <a:lnTo>
                      <a:pt x="2001" y="1315"/>
                    </a:lnTo>
                    <a:lnTo>
                      <a:pt x="2064" y="1304"/>
                    </a:lnTo>
                    <a:lnTo>
                      <a:pt x="2124" y="1286"/>
                    </a:lnTo>
                    <a:lnTo>
                      <a:pt x="2182" y="1264"/>
                    </a:lnTo>
                    <a:lnTo>
                      <a:pt x="2240" y="1236"/>
                    </a:lnTo>
                    <a:lnTo>
                      <a:pt x="2292" y="1205"/>
                    </a:lnTo>
                    <a:lnTo>
                      <a:pt x="2342" y="1167"/>
                    </a:lnTo>
                    <a:lnTo>
                      <a:pt x="2390" y="1126"/>
                    </a:lnTo>
                    <a:lnTo>
                      <a:pt x="2430" y="1081"/>
                    </a:lnTo>
                    <a:lnTo>
                      <a:pt x="2470" y="1033"/>
                    </a:lnTo>
                    <a:lnTo>
                      <a:pt x="2503" y="982"/>
                    </a:lnTo>
                    <a:lnTo>
                      <a:pt x="2546" y="989"/>
                    </a:lnTo>
                    <a:lnTo>
                      <a:pt x="2591" y="992"/>
                    </a:lnTo>
                    <a:lnTo>
                      <a:pt x="2636" y="989"/>
                    </a:lnTo>
                    <a:lnTo>
                      <a:pt x="2681" y="980"/>
                    </a:lnTo>
                    <a:lnTo>
                      <a:pt x="2724" y="966"/>
                    </a:lnTo>
                    <a:lnTo>
                      <a:pt x="2764" y="947"/>
                    </a:lnTo>
                    <a:lnTo>
                      <a:pt x="2799" y="923"/>
                    </a:lnTo>
                    <a:lnTo>
                      <a:pt x="2834" y="894"/>
                    </a:lnTo>
                    <a:lnTo>
                      <a:pt x="2864" y="862"/>
                    </a:lnTo>
                    <a:lnTo>
                      <a:pt x="2889" y="826"/>
                    </a:lnTo>
                    <a:lnTo>
                      <a:pt x="2907" y="787"/>
                    </a:lnTo>
                    <a:lnTo>
                      <a:pt x="2922" y="746"/>
                    </a:lnTo>
                    <a:lnTo>
                      <a:pt x="2932" y="704"/>
                    </a:lnTo>
                    <a:lnTo>
                      <a:pt x="2934" y="662"/>
                    </a:lnTo>
                    <a:lnTo>
                      <a:pt x="2932" y="618"/>
                    </a:lnTo>
                    <a:lnTo>
                      <a:pt x="2922" y="576"/>
                    </a:lnTo>
                    <a:lnTo>
                      <a:pt x="2907" y="535"/>
                    </a:lnTo>
                    <a:lnTo>
                      <a:pt x="2889" y="496"/>
                    </a:lnTo>
                    <a:lnTo>
                      <a:pt x="2864" y="461"/>
                    </a:lnTo>
                    <a:lnTo>
                      <a:pt x="2834" y="428"/>
                    </a:lnTo>
                    <a:lnTo>
                      <a:pt x="2799" y="399"/>
                    </a:lnTo>
                    <a:lnTo>
                      <a:pt x="2764" y="375"/>
                    </a:lnTo>
                    <a:lnTo>
                      <a:pt x="2724" y="356"/>
                    </a:lnTo>
                    <a:lnTo>
                      <a:pt x="2681" y="342"/>
                    </a:lnTo>
                    <a:lnTo>
                      <a:pt x="2636" y="333"/>
                    </a:lnTo>
                    <a:lnTo>
                      <a:pt x="2591" y="330"/>
                    </a:lnTo>
                    <a:lnTo>
                      <a:pt x="2546" y="333"/>
                    </a:lnTo>
                    <a:lnTo>
                      <a:pt x="2503" y="340"/>
                    </a:lnTo>
                    <a:lnTo>
                      <a:pt x="2470" y="289"/>
                    </a:lnTo>
                    <a:lnTo>
                      <a:pt x="2430" y="241"/>
                    </a:lnTo>
                    <a:lnTo>
                      <a:pt x="2390" y="196"/>
                    </a:lnTo>
                    <a:lnTo>
                      <a:pt x="2342" y="155"/>
                    </a:lnTo>
                    <a:lnTo>
                      <a:pt x="2292" y="117"/>
                    </a:lnTo>
                    <a:lnTo>
                      <a:pt x="2240" y="86"/>
                    </a:lnTo>
                    <a:lnTo>
                      <a:pt x="2182" y="58"/>
                    </a:lnTo>
                    <a:lnTo>
                      <a:pt x="2124" y="36"/>
                    </a:lnTo>
                    <a:lnTo>
                      <a:pt x="2064" y="19"/>
                    </a:lnTo>
                    <a:lnTo>
                      <a:pt x="2001" y="7"/>
                    </a:lnTo>
                    <a:lnTo>
                      <a:pt x="1939" y="1"/>
                    </a:lnTo>
                    <a:lnTo>
                      <a:pt x="1876" y="0"/>
                    </a:lnTo>
                    <a:lnTo>
                      <a:pt x="1811" y="4"/>
                    </a:lnTo>
                    <a:lnTo>
                      <a:pt x="1750" y="15"/>
                    </a:lnTo>
                    <a:lnTo>
                      <a:pt x="1688" y="31"/>
                    </a:lnTo>
                    <a:lnTo>
                      <a:pt x="1630" y="52"/>
                    </a:lnTo>
                    <a:lnTo>
                      <a:pt x="1572" y="78"/>
                    </a:lnTo>
                    <a:lnTo>
                      <a:pt x="1517" y="108"/>
                    </a:lnTo>
                    <a:lnTo>
                      <a:pt x="1467" y="144"/>
                    </a:lnTo>
                    <a:lnTo>
                      <a:pt x="1414" y="108"/>
                    </a:lnTo>
                    <a:lnTo>
                      <a:pt x="1362" y="78"/>
                    </a:lnTo>
                    <a:lnTo>
                      <a:pt x="1304" y="52"/>
                    </a:lnTo>
                    <a:lnTo>
                      <a:pt x="1244" y="31"/>
                    </a:lnTo>
                    <a:lnTo>
                      <a:pt x="1184" y="15"/>
                    </a:lnTo>
                    <a:lnTo>
                      <a:pt x="1121" y="4"/>
                    </a:lnTo>
                    <a:lnTo>
                      <a:pt x="1058" y="0"/>
                    </a:lnTo>
                    <a:lnTo>
                      <a:pt x="995" y="1"/>
                    </a:lnTo>
                    <a:lnTo>
                      <a:pt x="933" y="7"/>
                    </a:lnTo>
                    <a:lnTo>
                      <a:pt x="870" y="19"/>
                    </a:lnTo>
                    <a:lnTo>
                      <a:pt x="810" y="36"/>
                    </a:lnTo>
                    <a:lnTo>
                      <a:pt x="750" y="58"/>
                    </a:lnTo>
                    <a:lnTo>
                      <a:pt x="694" y="86"/>
                    </a:lnTo>
                    <a:lnTo>
                      <a:pt x="642" y="117"/>
                    </a:lnTo>
                    <a:lnTo>
                      <a:pt x="592" y="155"/>
                    </a:lnTo>
                    <a:lnTo>
                      <a:pt x="544" y="196"/>
                    </a:lnTo>
                    <a:lnTo>
                      <a:pt x="501" y="241"/>
                    </a:lnTo>
                    <a:lnTo>
                      <a:pt x="464" y="289"/>
                    </a:lnTo>
                    <a:lnTo>
                      <a:pt x="431" y="340"/>
                    </a:lnTo>
                    <a:lnTo>
                      <a:pt x="386" y="333"/>
                    </a:lnTo>
                    <a:lnTo>
                      <a:pt x="341" y="330"/>
                    </a:lnTo>
                    <a:lnTo>
                      <a:pt x="298" y="333"/>
                    </a:lnTo>
                    <a:lnTo>
                      <a:pt x="253" y="342"/>
                    </a:lnTo>
                    <a:lnTo>
                      <a:pt x="210" y="356"/>
                    </a:lnTo>
                    <a:lnTo>
                      <a:pt x="170" y="375"/>
                    </a:lnTo>
                    <a:lnTo>
                      <a:pt x="133" y="399"/>
                    </a:lnTo>
                    <a:lnTo>
                      <a:pt x="100" y="428"/>
                    </a:lnTo>
                    <a:lnTo>
                      <a:pt x="70" y="461"/>
                    </a:lnTo>
                    <a:lnTo>
                      <a:pt x="45" y="496"/>
                    </a:lnTo>
                    <a:lnTo>
                      <a:pt x="25" y="535"/>
                    </a:lnTo>
                    <a:lnTo>
                      <a:pt x="10" y="576"/>
                    </a:lnTo>
                    <a:lnTo>
                      <a:pt x="2" y="618"/>
                    </a:lnTo>
                    <a:lnTo>
                      <a:pt x="0" y="662"/>
                    </a:lnTo>
                    <a:lnTo>
                      <a:pt x="2" y="704"/>
                    </a:lnTo>
                    <a:lnTo>
                      <a:pt x="10" y="746"/>
                    </a:lnTo>
                    <a:lnTo>
                      <a:pt x="25" y="787"/>
                    </a:lnTo>
                    <a:lnTo>
                      <a:pt x="45" y="826"/>
                    </a:lnTo>
                    <a:lnTo>
                      <a:pt x="70" y="862"/>
                    </a:lnTo>
                    <a:lnTo>
                      <a:pt x="100" y="894"/>
                    </a:lnTo>
                    <a:lnTo>
                      <a:pt x="133" y="923"/>
                    </a:lnTo>
                    <a:lnTo>
                      <a:pt x="170" y="947"/>
                    </a:lnTo>
                    <a:lnTo>
                      <a:pt x="210" y="966"/>
                    </a:lnTo>
                    <a:lnTo>
                      <a:pt x="253" y="980"/>
                    </a:lnTo>
                    <a:lnTo>
                      <a:pt x="298" y="989"/>
                    </a:lnTo>
                    <a:lnTo>
                      <a:pt x="341" y="992"/>
                    </a:lnTo>
                    <a:lnTo>
                      <a:pt x="386" y="989"/>
                    </a:lnTo>
                    <a:lnTo>
                      <a:pt x="431" y="982"/>
                    </a:lnTo>
                    <a:close/>
                  </a:path>
                </a:pathLst>
              </a:custGeom>
              <a:solidFill>
                <a:srgbClr val="cc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86200" y="3200400"/>
                <a:ext cx="1257480" cy="11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Verdana"/>
                  </a:rPr>
                  <a:t>Internet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Verdana"/>
                  </a:rPr>
                  <a:t>&amp;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Verdana"/>
                  </a:rPr>
                  <a:t>Jaringan Kampu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5181480" y="3154320"/>
                <a:ext cx="2057400" cy="1371600"/>
                <a:chOff x="5181480" y="3154320"/>
                <a:chExt cx="2057400" cy="13716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181480" y="3154320"/>
                  <a:ext cx="2057400" cy="1371600"/>
                </a:xfrm>
                <a:custGeom>
                  <a:avLst/>
                  <a:gdLst/>
                  <a:ahLst/>
                  <a:rect l="l" t="t" r="r" b="b"/>
                  <a:pathLst>
                    <a:path w="2934" h="1322">
                      <a:moveTo>
                        <a:pt x="431" y="982"/>
                      </a:moveTo>
                      <a:lnTo>
                        <a:pt x="464" y="1033"/>
                      </a:lnTo>
                      <a:lnTo>
                        <a:pt x="501" y="1081"/>
                      </a:lnTo>
                      <a:lnTo>
                        <a:pt x="544" y="1126"/>
                      </a:lnTo>
                      <a:lnTo>
                        <a:pt x="592" y="1167"/>
                      </a:lnTo>
                      <a:lnTo>
                        <a:pt x="642" y="1205"/>
                      </a:lnTo>
                      <a:lnTo>
                        <a:pt x="694" y="1236"/>
                      </a:lnTo>
                      <a:lnTo>
                        <a:pt x="750" y="1264"/>
                      </a:lnTo>
                      <a:lnTo>
                        <a:pt x="810" y="1286"/>
                      </a:lnTo>
                      <a:lnTo>
                        <a:pt x="870" y="1304"/>
                      </a:lnTo>
                      <a:lnTo>
                        <a:pt x="933" y="1315"/>
                      </a:lnTo>
                      <a:lnTo>
                        <a:pt x="995" y="1322"/>
                      </a:lnTo>
                      <a:lnTo>
                        <a:pt x="1058" y="1322"/>
                      </a:lnTo>
                      <a:lnTo>
                        <a:pt x="1121" y="1318"/>
                      </a:lnTo>
                      <a:lnTo>
                        <a:pt x="1184" y="1307"/>
                      </a:lnTo>
                      <a:lnTo>
                        <a:pt x="1244" y="1292"/>
                      </a:lnTo>
                      <a:lnTo>
                        <a:pt x="1304" y="1271"/>
                      </a:lnTo>
                      <a:lnTo>
                        <a:pt x="1362" y="1244"/>
                      </a:lnTo>
                      <a:lnTo>
                        <a:pt x="1414" y="1214"/>
                      </a:lnTo>
                      <a:lnTo>
                        <a:pt x="1467" y="1178"/>
                      </a:lnTo>
                      <a:lnTo>
                        <a:pt x="1517" y="1214"/>
                      </a:lnTo>
                      <a:lnTo>
                        <a:pt x="1572" y="1244"/>
                      </a:lnTo>
                      <a:lnTo>
                        <a:pt x="1630" y="1271"/>
                      </a:lnTo>
                      <a:lnTo>
                        <a:pt x="1688" y="1292"/>
                      </a:lnTo>
                      <a:lnTo>
                        <a:pt x="1750" y="1307"/>
                      </a:lnTo>
                      <a:lnTo>
                        <a:pt x="1811" y="1318"/>
                      </a:lnTo>
                      <a:lnTo>
                        <a:pt x="1876" y="1322"/>
                      </a:lnTo>
                      <a:lnTo>
                        <a:pt x="1939" y="1322"/>
                      </a:lnTo>
                      <a:lnTo>
                        <a:pt x="2001" y="1315"/>
                      </a:lnTo>
                      <a:lnTo>
                        <a:pt x="2064" y="1304"/>
                      </a:lnTo>
                      <a:lnTo>
                        <a:pt x="2124" y="1286"/>
                      </a:lnTo>
                      <a:lnTo>
                        <a:pt x="2182" y="1264"/>
                      </a:lnTo>
                      <a:lnTo>
                        <a:pt x="2240" y="1236"/>
                      </a:lnTo>
                      <a:lnTo>
                        <a:pt x="2292" y="1205"/>
                      </a:lnTo>
                      <a:lnTo>
                        <a:pt x="2342" y="1167"/>
                      </a:lnTo>
                      <a:lnTo>
                        <a:pt x="2390" y="1126"/>
                      </a:lnTo>
                      <a:lnTo>
                        <a:pt x="2430" y="1081"/>
                      </a:lnTo>
                      <a:lnTo>
                        <a:pt x="2470" y="1033"/>
                      </a:lnTo>
                      <a:lnTo>
                        <a:pt x="2503" y="982"/>
                      </a:lnTo>
                      <a:lnTo>
                        <a:pt x="2546" y="989"/>
                      </a:lnTo>
                      <a:lnTo>
                        <a:pt x="2591" y="992"/>
                      </a:lnTo>
                      <a:lnTo>
                        <a:pt x="2636" y="989"/>
                      </a:lnTo>
                      <a:lnTo>
                        <a:pt x="2681" y="980"/>
                      </a:lnTo>
                      <a:lnTo>
                        <a:pt x="2724" y="966"/>
                      </a:lnTo>
                      <a:lnTo>
                        <a:pt x="2764" y="947"/>
                      </a:lnTo>
                      <a:lnTo>
                        <a:pt x="2799" y="923"/>
                      </a:lnTo>
                      <a:lnTo>
                        <a:pt x="2834" y="894"/>
                      </a:lnTo>
                      <a:lnTo>
                        <a:pt x="2864" y="862"/>
                      </a:lnTo>
                      <a:lnTo>
                        <a:pt x="2889" y="826"/>
                      </a:lnTo>
                      <a:lnTo>
                        <a:pt x="2907" y="787"/>
                      </a:lnTo>
                      <a:lnTo>
                        <a:pt x="2922" y="746"/>
                      </a:lnTo>
                      <a:lnTo>
                        <a:pt x="2932" y="704"/>
                      </a:lnTo>
                      <a:lnTo>
                        <a:pt x="2934" y="662"/>
                      </a:lnTo>
                      <a:lnTo>
                        <a:pt x="2932" y="618"/>
                      </a:lnTo>
                      <a:lnTo>
                        <a:pt x="2922" y="576"/>
                      </a:lnTo>
                      <a:lnTo>
                        <a:pt x="2907" y="535"/>
                      </a:lnTo>
                      <a:lnTo>
                        <a:pt x="2889" y="496"/>
                      </a:lnTo>
                      <a:lnTo>
                        <a:pt x="2864" y="461"/>
                      </a:lnTo>
                      <a:lnTo>
                        <a:pt x="2834" y="428"/>
                      </a:lnTo>
                      <a:lnTo>
                        <a:pt x="2799" y="399"/>
                      </a:lnTo>
                      <a:lnTo>
                        <a:pt x="2764" y="375"/>
                      </a:lnTo>
                      <a:lnTo>
                        <a:pt x="2724" y="356"/>
                      </a:lnTo>
                      <a:lnTo>
                        <a:pt x="2681" y="342"/>
                      </a:lnTo>
                      <a:lnTo>
                        <a:pt x="2636" y="333"/>
                      </a:lnTo>
                      <a:lnTo>
                        <a:pt x="2591" y="330"/>
                      </a:lnTo>
                      <a:lnTo>
                        <a:pt x="2546" y="333"/>
                      </a:lnTo>
                      <a:lnTo>
                        <a:pt x="2503" y="340"/>
                      </a:lnTo>
                      <a:lnTo>
                        <a:pt x="2470" y="289"/>
                      </a:lnTo>
                      <a:lnTo>
                        <a:pt x="2430" y="241"/>
                      </a:lnTo>
                      <a:lnTo>
                        <a:pt x="2390" y="196"/>
                      </a:lnTo>
                      <a:lnTo>
                        <a:pt x="2342" y="155"/>
                      </a:lnTo>
                      <a:lnTo>
                        <a:pt x="2292" y="117"/>
                      </a:lnTo>
                      <a:lnTo>
                        <a:pt x="2240" y="86"/>
                      </a:lnTo>
                      <a:lnTo>
                        <a:pt x="2182" y="58"/>
                      </a:lnTo>
                      <a:lnTo>
                        <a:pt x="2124" y="36"/>
                      </a:lnTo>
                      <a:lnTo>
                        <a:pt x="2064" y="19"/>
                      </a:lnTo>
                      <a:lnTo>
                        <a:pt x="2001" y="7"/>
                      </a:lnTo>
                      <a:lnTo>
                        <a:pt x="1939" y="1"/>
                      </a:lnTo>
                      <a:lnTo>
                        <a:pt x="1876" y="0"/>
                      </a:lnTo>
                      <a:lnTo>
                        <a:pt x="1811" y="4"/>
                      </a:lnTo>
                      <a:lnTo>
                        <a:pt x="1750" y="15"/>
                      </a:lnTo>
                      <a:lnTo>
                        <a:pt x="1688" y="31"/>
                      </a:lnTo>
                      <a:lnTo>
                        <a:pt x="1630" y="52"/>
                      </a:lnTo>
                      <a:lnTo>
                        <a:pt x="1572" y="78"/>
                      </a:lnTo>
                      <a:lnTo>
                        <a:pt x="1517" y="108"/>
                      </a:lnTo>
                      <a:lnTo>
                        <a:pt x="1467" y="144"/>
                      </a:lnTo>
                      <a:lnTo>
                        <a:pt x="1414" y="108"/>
                      </a:lnTo>
                      <a:lnTo>
                        <a:pt x="1362" y="78"/>
                      </a:lnTo>
                      <a:lnTo>
                        <a:pt x="1304" y="52"/>
                      </a:lnTo>
                      <a:lnTo>
                        <a:pt x="1244" y="31"/>
                      </a:lnTo>
                      <a:lnTo>
                        <a:pt x="1184" y="15"/>
                      </a:lnTo>
                      <a:lnTo>
                        <a:pt x="1121" y="4"/>
                      </a:lnTo>
                      <a:lnTo>
                        <a:pt x="1058" y="0"/>
                      </a:lnTo>
                      <a:lnTo>
                        <a:pt x="995" y="1"/>
                      </a:lnTo>
                      <a:lnTo>
                        <a:pt x="933" y="7"/>
                      </a:lnTo>
                      <a:lnTo>
                        <a:pt x="870" y="19"/>
                      </a:lnTo>
                      <a:lnTo>
                        <a:pt x="810" y="36"/>
                      </a:lnTo>
                      <a:lnTo>
                        <a:pt x="750" y="58"/>
                      </a:lnTo>
                      <a:lnTo>
                        <a:pt x="694" y="86"/>
                      </a:lnTo>
                      <a:lnTo>
                        <a:pt x="642" y="117"/>
                      </a:lnTo>
                      <a:lnTo>
                        <a:pt x="592" y="155"/>
                      </a:lnTo>
                      <a:lnTo>
                        <a:pt x="544" y="196"/>
                      </a:lnTo>
                      <a:lnTo>
                        <a:pt x="501" y="241"/>
                      </a:lnTo>
                      <a:lnTo>
                        <a:pt x="464" y="289"/>
                      </a:lnTo>
                      <a:lnTo>
                        <a:pt x="431" y="340"/>
                      </a:lnTo>
                      <a:lnTo>
                        <a:pt x="386" y="333"/>
                      </a:lnTo>
                      <a:lnTo>
                        <a:pt x="341" y="330"/>
                      </a:lnTo>
                      <a:lnTo>
                        <a:pt x="298" y="333"/>
                      </a:lnTo>
                      <a:lnTo>
                        <a:pt x="253" y="342"/>
                      </a:lnTo>
                      <a:lnTo>
                        <a:pt x="210" y="356"/>
                      </a:lnTo>
                      <a:lnTo>
                        <a:pt x="170" y="375"/>
                      </a:lnTo>
                      <a:lnTo>
                        <a:pt x="133" y="399"/>
                      </a:lnTo>
                      <a:lnTo>
                        <a:pt x="100" y="428"/>
                      </a:lnTo>
                      <a:lnTo>
                        <a:pt x="70" y="461"/>
                      </a:lnTo>
                      <a:lnTo>
                        <a:pt x="45" y="496"/>
                      </a:lnTo>
                      <a:lnTo>
                        <a:pt x="25" y="535"/>
                      </a:lnTo>
                      <a:lnTo>
                        <a:pt x="10" y="576"/>
                      </a:lnTo>
                      <a:lnTo>
                        <a:pt x="2" y="618"/>
                      </a:lnTo>
                      <a:lnTo>
                        <a:pt x="0" y="662"/>
                      </a:lnTo>
                      <a:lnTo>
                        <a:pt x="2" y="704"/>
                      </a:lnTo>
                      <a:lnTo>
                        <a:pt x="10" y="746"/>
                      </a:lnTo>
                      <a:lnTo>
                        <a:pt x="25" y="787"/>
                      </a:lnTo>
                      <a:lnTo>
                        <a:pt x="45" y="826"/>
                      </a:lnTo>
                      <a:lnTo>
                        <a:pt x="70" y="862"/>
                      </a:lnTo>
                      <a:lnTo>
                        <a:pt x="100" y="894"/>
                      </a:lnTo>
                      <a:lnTo>
                        <a:pt x="133" y="923"/>
                      </a:lnTo>
                      <a:lnTo>
                        <a:pt x="170" y="947"/>
                      </a:lnTo>
                      <a:lnTo>
                        <a:pt x="210" y="966"/>
                      </a:lnTo>
                      <a:lnTo>
                        <a:pt x="253" y="980"/>
                      </a:lnTo>
                      <a:lnTo>
                        <a:pt x="298" y="989"/>
                      </a:lnTo>
                      <a:lnTo>
                        <a:pt x="341" y="992"/>
                      </a:lnTo>
                      <a:lnTo>
                        <a:pt x="386" y="989"/>
                      </a:lnTo>
                      <a:lnTo>
                        <a:pt x="431" y="982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638680" y="3497040"/>
                  <a:ext cx="1257120" cy="6858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Verdana"/>
                    </a:rPr>
                    <a:t>Sistem Informasi Terpad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1236600" y="5715000"/>
                <a:ext cx="7221600" cy="1143000"/>
              </a:xfrm>
              <a:custGeom>
                <a:avLst/>
                <a:gdLst/>
                <a:ahLst/>
                <a:rect l="l" t="t" r="r" b="b"/>
                <a:pathLst>
                  <a:path w="2934" h="1322">
                    <a:moveTo>
                      <a:pt x="431" y="982"/>
                    </a:moveTo>
                    <a:lnTo>
                      <a:pt x="464" y="1033"/>
                    </a:lnTo>
                    <a:lnTo>
                      <a:pt x="501" y="1081"/>
                    </a:lnTo>
                    <a:lnTo>
                      <a:pt x="544" y="1126"/>
                    </a:lnTo>
                    <a:lnTo>
                      <a:pt x="592" y="1167"/>
                    </a:lnTo>
                    <a:lnTo>
                      <a:pt x="642" y="1205"/>
                    </a:lnTo>
                    <a:lnTo>
                      <a:pt x="694" y="1236"/>
                    </a:lnTo>
                    <a:lnTo>
                      <a:pt x="750" y="1264"/>
                    </a:lnTo>
                    <a:lnTo>
                      <a:pt x="810" y="1286"/>
                    </a:lnTo>
                    <a:lnTo>
                      <a:pt x="870" y="1304"/>
                    </a:lnTo>
                    <a:lnTo>
                      <a:pt x="933" y="1315"/>
                    </a:lnTo>
                    <a:lnTo>
                      <a:pt x="995" y="1322"/>
                    </a:lnTo>
                    <a:lnTo>
                      <a:pt x="1058" y="1322"/>
                    </a:lnTo>
                    <a:lnTo>
                      <a:pt x="1121" y="1318"/>
                    </a:lnTo>
                    <a:lnTo>
                      <a:pt x="1184" y="1307"/>
                    </a:lnTo>
                    <a:lnTo>
                      <a:pt x="1244" y="1292"/>
                    </a:lnTo>
                    <a:lnTo>
                      <a:pt x="1304" y="1271"/>
                    </a:lnTo>
                    <a:lnTo>
                      <a:pt x="1362" y="1244"/>
                    </a:lnTo>
                    <a:lnTo>
                      <a:pt x="1414" y="1214"/>
                    </a:lnTo>
                    <a:lnTo>
                      <a:pt x="1467" y="1178"/>
                    </a:lnTo>
                    <a:lnTo>
                      <a:pt x="1517" y="1214"/>
                    </a:lnTo>
                    <a:lnTo>
                      <a:pt x="1572" y="1244"/>
                    </a:lnTo>
                    <a:lnTo>
                      <a:pt x="1630" y="1271"/>
                    </a:lnTo>
                    <a:lnTo>
                      <a:pt x="1688" y="1292"/>
                    </a:lnTo>
                    <a:lnTo>
                      <a:pt x="1750" y="1307"/>
                    </a:lnTo>
                    <a:lnTo>
                      <a:pt x="1811" y="1318"/>
                    </a:lnTo>
                    <a:lnTo>
                      <a:pt x="1876" y="1322"/>
                    </a:lnTo>
                    <a:lnTo>
                      <a:pt x="1939" y="1322"/>
                    </a:lnTo>
                    <a:lnTo>
                      <a:pt x="2001" y="1315"/>
                    </a:lnTo>
                    <a:lnTo>
                      <a:pt x="2064" y="1304"/>
                    </a:lnTo>
                    <a:lnTo>
                      <a:pt x="2124" y="1286"/>
                    </a:lnTo>
                    <a:lnTo>
                      <a:pt x="2182" y="1264"/>
                    </a:lnTo>
                    <a:lnTo>
                      <a:pt x="2240" y="1236"/>
                    </a:lnTo>
                    <a:lnTo>
                      <a:pt x="2292" y="1205"/>
                    </a:lnTo>
                    <a:lnTo>
                      <a:pt x="2342" y="1167"/>
                    </a:lnTo>
                    <a:lnTo>
                      <a:pt x="2390" y="1126"/>
                    </a:lnTo>
                    <a:lnTo>
                      <a:pt x="2430" y="1081"/>
                    </a:lnTo>
                    <a:lnTo>
                      <a:pt x="2470" y="1033"/>
                    </a:lnTo>
                    <a:lnTo>
                      <a:pt x="2503" y="982"/>
                    </a:lnTo>
                    <a:lnTo>
                      <a:pt x="2546" y="989"/>
                    </a:lnTo>
                    <a:lnTo>
                      <a:pt x="2591" y="992"/>
                    </a:lnTo>
                    <a:lnTo>
                      <a:pt x="2636" y="989"/>
                    </a:lnTo>
                    <a:lnTo>
                      <a:pt x="2681" y="980"/>
                    </a:lnTo>
                    <a:lnTo>
                      <a:pt x="2724" y="966"/>
                    </a:lnTo>
                    <a:lnTo>
                      <a:pt x="2764" y="947"/>
                    </a:lnTo>
                    <a:lnTo>
                      <a:pt x="2799" y="923"/>
                    </a:lnTo>
                    <a:lnTo>
                      <a:pt x="2834" y="894"/>
                    </a:lnTo>
                    <a:lnTo>
                      <a:pt x="2864" y="862"/>
                    </a:lnTo>
                    <a:lnTo>
                      <a:pt x="2889" y="826"/>
                    </a:lnTo>
                    <a:lnTo>
                      <a:pt x="2907" y="787"/>
                    </a:lnTo>
                    <a:lnTo>
                      <a:pt x="2922" y="746"/>
                    </a:lnTo>
                    <a:lnTo>
                      <a:pt x="2932" y="704"/>
                    </a:lnTo>
                    <a:lnTo>
                      <a:pt x="2934" y="662"/>
                    </a:lnTo>
                    <a:lnTo>
                      <a:pt x="2932" y="618"/>
                    </a:lnTo>
                    <a:lnTo>
                      <a:pt x="2922" y="576"/>
                    </a:lnTo>
                    <a:lnTo>
                      <a:pt x="2907" y="535"/>
                    </a:lnTo>
                    <a:lnTo>
                      <a:pt x="2889" y="496"/>
                    </a:lnTo>
                    <a:lnTo>
                      <a:pt x="2864" y="461"/>
                    </a:lnTo>
                    <a:lnTo>
                      <a:pt x="2834" y="428"/>
                    </a:lnTo>
                    <a:lnTo>
                      <a:pt x="2799" y="399"/>
                    </a:lnTo>
                    <a:lnTo>
                      <a:pt x="2764" y="375"/>
                    </a:lnTo>
                    <a:lnTo>
                      <a:pt x="2724" y="356"/>
                    </a:lnTo>
                    <a:lnTo>
                      <a:pt x="2681" y="342"/>
                    </a:lnTo>
                    <a:lnTo>
                      <a:pt x="2636" y="333"/>
                    </a:lnTo>
                    <a:lnTo>
                      <a:pt x="2591" y="330"/>
                    </a:lnTo>
                    <a:lnTo>
                      <a:pt x="2546" y="333"/>
                    </a:lnTo>
                    <a:lnTo>
                      <a:pt x="2503" y="340"/>
                    </a:lnTo>
                    <a:lnTo>
                      <a:pt x="2470" y="289"/>
                    </a:lnTo>
                    <a:lnTo>
                      <a:pt x="2430" y="241"/>
                    </a:lnTo>
                    <a:lnTo>
                      <a:pt x="2390" y="196"/>
                    </a:lnTo>
                    <a:lnTo>
                      <a:pt x="2342" y="155"/>
                    </a:lnTo>
                    <a:lnTo>
                      <a:pt x="2292" y="117"/>
                    </a:lnTo>
                    <a:lnTo>
                      <a:pt x="2240" y="86"/>
                    </a:lnTo>
                    <a:lnTo>
                      <a:pt x="2182" y="58"/>
                    </a:lnTo>
                    <a:lnTo>
                      <a:pt x="2124" y="36"/>
                    </a:lnTo>
                    <a:lnTo>
                      <a:pt x="2064" y="19"/>
                    </a:lnTo>
                    <a:lnTo>
                      <a:pt x="2001" y="7"/>
                    </a:lnTo>
                    <a:lnTo>
                      <a:pt x="1939" y="1"/>
                    </a:lnTo>
                    <a:lnTo>
                      <a:pt x="1876" y="0"/>
                    </a:lnTo>
                    <a:lnTo>
                      <a:pt x="1811" y="4"/>
                    </a:lnTo>
                    <a:lnTo>
                      <a:pt x="1750" y="15"/>
                    </a:lnTo>
                    <a:lnTo>
                      <a:pt x="1688" y="31"/>
                    </a:lnTo>
                    <a:lnTo>
                      <a:pt x="1630" y="52"/>
                    </a:lnTo>
                    <a:lnTo>
                      <a:pt x="1572" y="78"/>
                    </a:lnTo>
                    <a:lnTo>
                      <a:pt x="1517" y="108"/>
                    </a:lnTo>
                    <a:lnTo>
                      <a:pt x="1467" y="144"/>
                    </a:lnTo>
                    <a:lnTo>
                      <a:pt x="1414" y="108"/>
                    </a:lnTo>
                    <a:lnTo>
                      <a:pt x="1362" y="78"/>
                    </a:lnTo>
                    <a:lnTo>
                      <a:pt x="1304" y="52"/>
                    </a:lnTo>
                    <a:lnTo>
                      <a:pt x="1244" y="31"/>
                    </a:lnTo>
                    <a:lnTo>
                      <a:pt x="1184" y="15"/>
                    </a:lnTo>
                    <a:lnTo>
                      <a:pt x="1121" y="4"/>
                    </a:lnTo>
                    <a:lnTo>
                      <a:pt x="1058" y="0"/>
                    </a:lnTo>
                    <a:lnTo>
                      <a:pt x="995" y="1"/>
                    </a:lnTo>
                    <a:lnTo>
                      <a:pt x="933" y="7"/>
                    </a:lnTo>
                    <a:lnTo>
                      <a:pt x="870" y="19"/>
                    </a:lnTo>
                    <a:lnTo>
                      <a:pt x="810" y="36"/>
                    </a:lnTo>
                    <a:lnTo>
                      <a:pt x="750" y="58"/>
                    </a:lnTo>
                    <a:lnTo>
                      <a:pt x="694" y="86"/>
                    </a:lnTo>
                    <a:lnTo>
                      <a:pt x="642" y="117"/>
                    </a:lnTo>
                    <a:lnTo>
                      <a:pt x="592" y="155"/>
                    </a:lnTo>
                    <a:lnTo>
                      <a:pt x="544" y="196"/>
                    </a:lnTo>
                    <a:lnTo>
                      <a:pt x="501" y="241"/>
                    </a:lnTo>
                    <a:lnTo>
                      <a:pt x="464" y="289"/>
                    </a:lnTo>
                    <a:lnTo>
                      <a:pt x="431" y="340"/>
                    </a:lnTo>
                    <a:lnTo>
                      <a:pt x="386" y="333"/>
                    </a:lnTo>
                    <a:lnTo>
                      <a:pt x="341" y="330"/>
                    </a:lnTo>
                    <a:lnTo>
                      <a:pt x="298" y="333"/>
                    </a:lnTo>
                    <a:lnTo>
                      <a:pt x="253" y="342"/>
                    </a:lnTo>
                    <a:lnTo>
                      <a:pt x="210" y="356"/>
                    </a:lnTo>
                    <a:lnTo>
                      <a:pt x="170" y="375"/>
                    </a:lnTo>
                    <a:lnTo>
                      <a:pt x="133" y="399"/>
                    </a:lnTo>
                    <a:lnTo>
                      <a:pt x="100" y="428"/>
                    </a:lnTo>
                    <a:lnTo>
                      <a:pt x="70" y="461"/>
                    </a:lnTo>
                    <a:lnTo>
                      <a:pt x="45" y="496"/>
                    </a:lnTo>
                    <a:lnTo>
                      <a:pt x="25" y="535"/>
                    </a:lnTo>
                    <a:lnTo>
                      <a:pt x="10" y="576"/>
                    </a:lnTo>
                    <a:lnTo>
                      <a:pt x="2" y="618"/>
                    </a:lnTo>
                    <a:lnTo>
                      <a:pt x="0" y="662"/>
                    </a:lnTo>
                    <a:lnTo>
                      <a:pt x="2" y="704"/>
                    </a:lnTo>
                    <a:lnTo>
                      <a:pt x="10" y="746"/>
                    </a:lnTo>
                    <a:lnTo>
                      <a:pt x="25" y="787"/>
                    </a:lnTo>
                    <a:lnTo>
                      <a:pt x="45" y="826"/>
                    </a:lnTo>
                    <a:lnTo>
                      <a:pt x="70" y="862"/>
                    </a:lnTo>
                    <a:lnTo>
                      <a:pt x="100" y="894"/>
                    </a:lnTo>
                    <a:lnTo>
                      <a:pt x="133" y="923"/>
                    </a:lnTo>
                    <a:lnTo>
                      <a:pt x="170" y="947"/>
                    </a:lnTo>
                    <a:lnTo>
                      <a:pt x="210" y="966"/>
                    </a:lnTo>
                    <a:lnTo>
                      <a:pt x="253" y="980"/>
                    </a:lnTo>
                    <a:lnTo>
                      <a:pt x="298" y="989"/>
                    </a:lnTo>
                    <a:lnTo>
                      <a:pt x="341" y="992"/>
                    </a:lnTo>
                    <a:lnTo>
                      <a:pt x="386" y="989"/>
                    </a:lnTo>
                    <a:lnTo>
                      <a:pt x="431" y="982"/>
                    </a:lnTo>
                    <a:close/>
                  </a:path>
                </a:pathLst>
              </a:custGeom>
              <a:solidFill>
                <a:srgbClr val="ccffff"/>
              </a:solidFill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81280" y="4525920"/>
                <a:ext cx="3429000" cy="343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800000"/>
                    </a:solidFill>
                    <a:latin typeface="Verdana"/>
                  </a:rPr>
                  <a:t>DIGITAL LIBRA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1798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6370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0942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514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0086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4658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477120" y="4906800"/>
                <a:ext cx="2036520" cy="292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800000"/>
                    </a:solidFill>
                    <a:latin typeface="Verdana"/>
                  </a:rPr>
                  <a:t>Production Hous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086600" y="5364000"/>
                <a:ext cx="343080" cy="457200"/>
              </a:xfrm>
              <a:prstGeom prst="upArrow">
                <a:avLst>
                  <a:gd name="adj1" fmla="val 50000"/>
                  <a:gd name="adj2" fmla="val 3331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7391520" y="3230640"/>
                <a:ext cx="1523880" cy="960480"/>
                <a:chOff x="7391520" y="3230640"/>
                <a:chExt cx="1523880" cy="9604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391520" y="3230640"/>
                  <a:ext cx="1523880" cy="960480"/>
                </a:xfrm>
                <a:custGeom>
                  <a:avLst/>
                  <a:gdLst/>
                  <a:ahLst/>
                  <a:rect l="l" t="t" r="r" b="b"/>
                  <a:pathLst>
                    <a:path w="2934" h="1322">
                      <a:moveTo>
                        <a:pt x="431" y="982"/>
                      </a:moveTo>
                      <a:lnTo>
                        <a:pt x="464" y="1033"/>
                      </a:lnTo>
                      <a:lnTo>
                        <a:pt x="501" y="1081"/>
                      </a:lnTo>
                      <a:lnTo>
                        <a:pt x="544" y="1126"/>
                      </a:lnTo>
                      <a:lnTo>
                        <a:pt x="592" y="1167"/>
                      </a:lnTo>
                      <a:lnTo>
                        <a:pt x="642" y="1205"/>
                      </a:lnTo>
                      <a:lnTo>
                        <a:pt x="694" y="1236"/>
                      </a:lnTo>
                      <a:lnTo>
                        <a:pt x="750" y="1264"/>
                      </a:lnTo>
                      <a:lnTo>
                        <a:pt x="810" y="1286"/>
                      </a:lnTo>
                      <a:lnTo>
                        <a:pt x="870" y="1304"/>
                      </a:lnTo>
                      <a:lnTo>
                        <a:pt x="933" y="1315"/>
                      </a:lnTo>
                      <a:lnTo>
                        <a:pt x="995" y="1322"/>
                      </a:lnTo>
                      <a:lnTo>
                        <a:pt x="1058" y="1322"/>
                      </a:lnTo>
                      <a:lnTo>
                        <a:pt x="1121" y="1318"/>
                      </a:lnTo>
                      <a:lnTo>
                        <a:pt x="1184" y="1307"/>
                      </a:lnTo>
                      <a:lnTo>
                        <a:pt x="1244" y="1292"/>
                      </a:lnTo>
                      <a:lnTo>
                        <a:pt x="1304" y="1271"/>
                      </a:lnTo>
                      <a:lnTo>
                        <a:pt x="1362" y="1244"/>
                      </a:lnTo>
                      <a:lnTo>
                        <a:pt x="1414" y="1214"/>
                      </a:lnTo>
                      <a:lnTo>
                        <a:pt x="1467" y="1178"/>
                      </a:lnTo>
                      <a:lnTo>
                        <a:pt x="1517" y="1214"/>
                      </a:lnTo>
                      <a:lnTo>
                        <a:pt x="1572" y="1244"/>
                      </a:lnTo>
                      <a:lnTo>
                        <a:pt x="1630" y="1271"/>
                      </a:lnTo>
                      <a:lnTo>
                        <a:pt x="1688" y="1292"/>
                      </a:lnTo>
                      <a:lnTo>
                        <a:pt x="1750" y="1307"/>
                      </a:lnTo>
                      <a:lnTo>
                        <a:pt x="1811" y="1318"/>
                      </a:lnTo>
                      <a:lnTo>
                        <a:pt x="1876" y="1322"/>
                      </a:lnTo>
                      <a:lnTo>
                        <a:pt x="1939" y="1322"/>
                      </a:lnTo>
                      <a:lnTo>
                        <a:pt x="2001" y="1315"/>
                      </a:lnTo>
                      <a:lnTo>
                        <a:pt x="2064" y="1304"/>
                      </a:lnTo>
                      <a:lnTo>
                        <a:pt x="2124" y="1286"/>
                      </a:lnTo>
                      <a:lnTo>
                        <a:pt x="2182" y="1264"/>
                      </a:lnTo>
                      <a:lnTo>
                        <a:pt x="2240" y="1236"/>
                      </a:lnTo>
                      <a:lnTo>
                        <a:pt x="2292" y="1205"/>
                      </a:lnTo>
                      <a:lnTo>
                        <a:pt x="2342" y="1167"/>
                      </a:lnTo>
                      <a:lnTo>
                        <a:pt x="2390" y="1126"/>
                      </a:lnTo>
                      <a:lnTo>
                        <a:pt x="2430" y="1081"/>
                      </a:lnTo>
                      <a:lnTo>
                        <a:pt x="2470" y="1033"/>
                      </a:lnTo>
                      <a:lnTo>
                        <a:pt x="2503" y="982"/>
                      </a:lnTo>
                      <a:lnTo>
                        <a:pt x="2546" y="989"/>
                      </a:lnTo>
                      <a:lnTo>
                        <a:pt x="2591" y="992"/>
                      </a:lnTo>
                      <a:lnTo>
                        <a:pt x="2636" y="989"/>
                      </a:lnTo>
                      <a:lnTo>
                        <a:pt x="2681" y="980"/>
                      </a:lnTo>
                      <a:lnTo>
                        <a:pt x="2724" y="966"/>
                      </a:lnTo>
                      <a:lnTo>
                        <a:pt x="2764" y="947"/>
                      </a:lnTo>
                      <a:lnTo>
                        <a:pt x="2799" y="923"/>
                      </a:lnTo>
                      <a:lnTo>
                        <a:pt x="2834" y="894"/>
                      </a:lnTo>
                      <a:lnTo>
                        <a:pt x="2864" y="862"/>
                      </a:lnTo>
                      <a:lnTo>
                        <a:pt x="2889" y="826"/>
                      </a:lnTo>
                      <a:lnTo>
                        <a:pt x="2907" y="787"/>
                      </a:lnTo>
                      <a:lnTo>
                        <a:pt x="2922" y="746"/>
                      </a:lnTo>
                      <a:lnTo>
                        <a:pt x="2932" y="704"/>
                      </a:lnTo>
                      <a:lnTo>
                        <a:pt x="2934" y="662"/>
                      </a:lnTo>
                      <a:lnTo>
                        <a:pt x="2932" y="618"/>
                      </a:lnTo>
                      <a:lnTo>
                        <a:pt x="2922" y="576"/>
                      </a:lnTo>
                      <a:lnTo>
                        <a:pt x="2907" y="535"/>
                      </a:lnTo>
                      <a:lnTo>
                        <a:pt x="2889" y="496"/>
                      </a:lnTo>
                      <a:lnTo>
                        <a:pt x="2864" y="461"/>
                      </a:lnTo>
                      <a:lnTo>
                        <a:pt x="2834" y="428"/>
                      </a:lnTo>
                      <a:lnTo>
                        <a:pt x="2799" y="399"/>
                      </a:lnTo>
                      <a:lnTo>
                        <a:pt x="2764" y="375"/>
                      </a:lnTo>
                      <a:lnTo>
                        <a:pt x="2724" y="356"/>
                      </a:lnTo>
                      <a:lnTo>
                        <a:pt x="2681" y="342"/>
                      </a:lnTo>
                      <a:lnTo>
                        <a:pt x="2636" y="333"/>
                      </a:lnTo>
                      <a:lnTo>
                        <a:pt x="2591" y="330"/>
                      </a:lnTo>
                      <a:lnTo>
                        <a:pt x="2546" y="333"/>
                      </a:lnTo>
                      <a:lnTo>
                        <a:pt x="2503" y="340"/>
                      </a:lnTo>
                      <a:lnTo>
                        <a:pt x="2470" y="289"/>
                      </a:lnTo>
                      <a:lnTo>
                        <a:pt x="2430" y="241"/>
                      </a:lnTo>
                      <a:lnTo>
                        <a:pt x="2390" y="196"/>
                      </a:lnTo>
                      <a:lnTo>
                        <a:pt x="2342" y="155"/>
                      </a:lnTo>
                      <a:lnTo>
                        <a:pt x="2292" y="117"/>
                      </a:lnTo>
                      <a:lnTo>
                        <a:pt x="2240" y="86"/>
                      </a:lnTo>
                      <a:lnTo>
                        <a:pt x="2182" y="58"/>
                      </a:lnTo>
                      <a:lnTo>
                        <a:pt x="2124" y="36"/>
                      </a:lnTo>
                      <a:lnTo>
                        <a:pt x="2064" y="19"/>
                      </a:lnTo>
                      <a:lnTo>
                        <a:pt x="2001" y="7"/>
                      </a:lnTo>
                      <a:lnTo>
                        <a:pt x="1939" y="1"/>
                      </a:lnTo>
                      <a:lnTo>
                        <a:pt x="1876" y="0"/>
                      </a:lnTo>
                      <a:lnTo>
                        <a:pt x="1811" y="4"/>
                      </a:lnTo>
                      <a:lnTo>
                        <a:pt x="1750" y="15"/>
                      </a:lnTo>
                      <a:lnTo>
                        <a:pt x="1688" y="31"/>
                      </a:lnTo>
                      <a:lnTo>
                        <a:pt x="1630" y="52"/>
                      </a:lnTo>
                      <a:lnTo>
                        <a:pt x="1572" y="78"/>
                      </a:lnTo>
                      <a:lnTo>
                        <a:pt x="1517" y="108"/>
                      </a:lnTo>
                      <a:lnTo>
                        <a:pt x="1467" y="144"/>
                      </a:lnTo>
                      <a:lnTo>
                        <a:pt x="1414" y="108"/>
                      </a:lnTo>
                      <a:lnTo>
                        <a:pt x="1362" y="78"/>
                      </a:lnTo>
                      <a:lnTo>
                        <a:pt x="1304" y="52"/>
                      </a:lnTo>
                      <a:lnTo>
                        <a:pt x="1244" y="31"/>
                      </a:lnTo>
                      <a:lnTo>
                        <a:pt x="1184" y="15"/>
                      </a:lnTo>
                      <a:lnTo>
                        <a:pt x="1121" y="4"/>
                      </a:lnTo>
                      <a:lnTo>
                        <a:pt x="1058" y="0"/>
                      </a:lnTo>
                      <a:lnTo>
                        <a:pt x="995" y="1"/>
                      </a:lnTo>
                      <a:lnTo>
                        <a:pt x="933" y="7"/>
                      </a:lnTo>
                      <a:lnTo>
                        <a:pt x="870" y="19"/>
                      </a:lnTo>
                      <a:lnTo>
                        <a:pt x="810" y="36"/>
                      </a:lnTo>
                      <a:lnTo>
                        <a:pt x="750" y="58"/>
                      </a:lnTo>
                      <a:lnTo>
                        <a:pt x="694" y="86"/>
                      </a:lnTo>
                      <a:lnTo>
                        <a:pt x="642" y="117"/>
                      </a:lnTo>
                      <a:lnTo>
                        <a:pt x="592" y="155"/>
                      </a:lnTo>
                      <a:lnTo>
                        <a:pt x="544" y="196"/>
                      </a:lnTo>
                      <a:lnTo>
                        <a:pt x="501" y="241"/>
                      </a:lnTo>
                      <a:lnTo>
                        <a:pt x="464" y="289"/>
                      </a:lnTo>
                      <a:lnTo>
                        <a:pt x="431" y="340"/>
                      </a:lnTo>
                      <a:lnTo>
                        <a:pt x="386" y="333"/>
                      </a:lnTo>
                      <a:lnTo>
                        <a:pt x="341" y="330"/>
                      </a:lnTo>
                      <a:lnTo>
                        <a:pt x="298" y="333"/>
                      </a:lnTo>
                      <a:lnTo>
                        <a:pt x="253" y="342"/>
                      </a:lnTo>
                      <a:lnTo>
                        <a:pt x="210" y="356"/>
                      </a:lnTo>
                      <a:lnTo>
                        <a:pt x="170" y="375"/>
                      </a:lnTo>
                      <a:lnTo>
                        <a:pt x="133" y="399"/>
                      </a:lnTo>
                      <a:lnTo>
                        <a:pt x="100" y="428"/>
                      </a:lnTo>
                      <a:lnTo>
                        <a:pt x="70" y="461"/>
                      </a:lnTo>
                      <a:lnTo>
                        <a:pt x="45" y="496"/>
                      </a:lnTo>
                      <a:lnTo>
                        <a:pt x="25" y="535"/>
                      </a:lnTo>
                      <a:lnTo>
                        <a:pt x="10" y="576"/>
                      </a:lnTo>
                      <a:lnTo>
                        <a:pt x="2" y="618"/>
                      </a:lnTo>
                      <a:lnTo>
                        <a:pt x="0" y="662"/>
                      </a:lnTo>
                      <a:lnTo>
                        <a:pt x="2" y="704"/>
                      </a:lnTo>
                      <a:lnTo>
                        <a:pt x="10" y="746"/>
                      </a:lnTo>
                      <a:lnTo>
                        <a:pt x="25" y="787"/>
                      </a:lnTo>
                      <a:lnTo>
                        <a:pt x="45" y="826"/>
                      </a:lnTo>
                      <a:lnTo>
                        <a:pt x="70" y="862"/>
                      </a:lnTo>
                      <a:lnTo>
                        <a:pt x="100" y="894"/>
                      </a:lnTo>
                      <a:lnTo>
                        <a:pt x="133" y="923"/>
                      </a:lnTo>
                      <a:lnTo>
                        <a:pt x="170" y="947"/>
                      </a:lnTo>
                      <a:lnTo>
                        <a:pt x="210" y="966"/>
                      </a:lnTo>
                      <a:lnTo>
                        <a:pt x="253" y="980"/>
                      </a:lnTo>
                      <a:lnTo>
                        <a:pt x="298" y="989"/>
                      </a:lnTo>
                      <a:lnTo>
                        <a:pt x="341" y="992"/>
                      </a:lnTo>
                      <a:lnTo>
                        <a:pt x="386" y="989"/>
                      </a:lnTo>
                      <a:lnTo>
                        <a:pt x="431" y="982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729920" y="3422520"/>
                  <a:ext cx="1072080" cy="511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800000"/>
                      </a:solidFill>
                      <a:latin typeface="Arial Narrow"/>
                    </a:rPr>
                    <a:t>Self Learning Facilities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705720" y="3611520"/>
                <a:ext cx="1523880" cy="914400"/>
                <a:chOff x="6705720" y="3611520"/>
                <a:chExt cx="1523880" cy="91440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705720" y="3611520"/>
                  <a:ext cx="1523880" cy="914400"/>
                </a:xfrm>
                <a:custGeom>
                  <a:avLst/>
                  <a:gdLst/>
                  <a:ahLst/>
                  <a:rect l="l" t="t" r="r" b="b"/>
                  <a:pathLst>
                    <a:path w="2934" h="1322">
                      <a:moveTo>
                        <a:pt x="431" y="982"/>
                      </a:moveTo>
                      <a:lnTo>
                        <a:pt x="464" y="1033"/>
                      </a:lnTo>
                      <a:lnTo>
                        <a:pt x="501" y="1081"/>
                      </a:lnTo>
                      <a:lnTo>
                        <a:pt x="544" y="1126"/>
                      </a:lnTo>
                      <a:lnTo>
                        <a:pt x="592" y="1167"/>
                      </a:lnTo>
                      <a:lnTo>
                        <a:pt x="642" y="1205"/>
                      </a:lnTo>
                      <a:lnTo>
                        <a:pt x="694" y="1236"/>
                      </a:lnTo>
                      <a:lnTo>
                        <a:pt x="750" y="1264"/>
                      </a:lnTo>
                      <a:lnTo>
                        <a:pt x="810" y="1286"/>
                      </a:lnTo>
                      <a:lnTo>
                        <a:pt x="870" y="1304"/>
                      </a:lnTo>
                      <a:lnTo>
                        <a:pt x="933" y="1315"/>
                      </a:lnTo>
                      <a:lnTo>
                        <a:pt x="995" y="1322"/>
                      </a:lnTo>
                      <a:lnTo>
                        <a:pt x="1058" y="1322"/>
                      </a:lnTo>
                      <a:lnTo>
                        <a:pt x="1121" y="1318"/>
                      </a:lnTo>
                      <a:lnTo>
                        <a:pt x="1184" y="1307"/>
                      </a:lnTo>
                      <a:lnTo>
                        <a:pt x="1244" y="1292"/>
                      </a:lnTo>
                      <a:lnTo>
                        <a:pt x="1304" y="1271"/>
                      </a:lnTo>
                      <a:lnTo>
                        <a:pt x="1362" y="1244"/>
                      </a:lnTo>
                      <a:lnTo>
                        <a:pt x="1414" y="1214"/>
                      </a:lnTo>
                      <a:lnTo>
                        <a:pt x="1467" y="1178"/>
                      </a:lnTo>
                      <a:lnTo>
                        <a:pt x="1517" y="1214"/>
                      </a:lnTo>
                      <a:lnTo>
                        <a:pt x="1572" y="1244"/>
                      </a:lnTo>
                      <a:lnTo>
                        <a:pt x="1630" y="1271"/>
                      </a:lnTo>
                      <a:lnTo>
                        <a:pt x="1688" y="1292"/>
                      </a:lnTo>
                      <a:lnTo>
                        <a:pt x="1750" y="1307"/>
                      </a:lnTo>
                      <a:lnTo>
                        <a:pt x="1811" y="1318"/>
                      </a:lnTo>
                      <a:lnTo>
                        <a:pt x="1876" y="1322"/>
                      </a:lnTo>
                      <a:lnTo>
                        <a:pt x="1939" y="1322"/>
                      </a:lnTo>
                      <a:lnTo>
                        <a:pt x="2001" y="1315"/>
                      </a:lnTo>
                      <a:lnTo>
                        <a:pt x="2064" y="1304"/>
                      </a:lnTo>
                      <a:lnTo>
                        <a:pt x="2124" y="1286"/>
                      </a:lnTo>
                      <a:lnTo>
                        <a:pt x="2182" y="1264"/>
                      </a:lnTo>
                      <a:lnTo>
                        <a:pt x="2240" y="1236"/>
                      </a:lnTo>
                      <a:lnTo>
                        <a:pt x="2292" y="1205"/>
                      </a:lnTo>
                      <a:lnTo>
                        <a:pt x="2342" y="1167"/>
                      </a:lnTo>
                      <a:lnTo>
                        <a:pt x="2390" y="1126"/>
                      </a:lnTo>
                      <a:lnTo>
                        <a:pt x="2430" y="1081"/>
                      </a:lnTo>
                      <a:lnTo>
                        <a:pt x="2470" y="1033"/>
                      </a:lnTo>
                      <a:lnTo>
                        <a:pt x="2503" y="982"/>
                      </a:lnTo>
                      <a:lnTo>
                        <a:pt x="2546" y="989"/>
                      </a:lnTo>
                      <a:lnTo>
                        <a:pt x="2591" y="992"/>
                      </a:lnTo>
                      <a:lnTo>
                        <a:pt x="2636" y="989"/>
                      </a:lnTo>
                      <a:lnTo>
                        <a:pt x="2681" y="980"/>
                      </a:lnTo>
                      <a:lnTo>
                        <a:pt x="2724" y="966"/>
                      </a:lnTo>
                      <a:lnTo>
                        <a:pt x="2764" y="947"/>
                      </a:lnTo>
                      <a:lnTo>
                        <a:pt x="2799" y="923"/>
                      </a:lnTo>
                      <a:lnTo>
                        <a:pt x="2834" y="894"/>
                      </a:lnTo>
                      <a:lnTo>
                        <a:pt x="2864" y="862"/>
                      </a:lnTo>
                      <a:lnTo>
                        <a:pt x="2889" y="826"/>
                      </a:lnTo>
                      <a:lnTo>
                        <a:pt x="2907" y="787"/>
                      </a:lnTo>
                      <a:lnTo>
                        <a:pt x="2922" y="746"/>
                      </a:lnTo>
                      <a:lnTo>
                        <a:pt x="2932" y="704"/>
                      </a:lnTo>
                      <a:lnTo>
                        <a:pt x="2934" y="662"/>
                      </a:lnTo>
                      <a:lnTo>
                        <a:pt x="2932" y="618"/>
                      </a:lnTo>
                      <a:lnTo>
                        <a:pt x="2922" y="576"/>
                      </a:lnTo>
                      <a:lnTo>
                        <a:pt x="2907" y="535"/>
                      </a:lnTo>
                      <a:lnTo>
                        <a:pt x="2889" y="496"/>
                      </a:lnTo>
                      <a:lnTo>
                        <a:pt x="2864" y="461"/>
                      </a:lnTo>
                      <a:lnTo>
                        <a:pt x="2834" y="428"/>
                      </a:lnTo>
                      <a:lnTo>
                        <a:pt x="2799" y="399"/>
                      </a:lnTo>
                      <a:lnTo>
                        <a:pt x="2764" y="375"/>
                      </a:lnTo>
                      <a:lnTo>
                        <a:pt x="2724" y="356"/>
                      </a:lnTo>
                      <a:lnTo>
                        <a:pt x="2681" y="342"/>
                      </a:lnTo>
                      <a:lnTo>
                        <a:pt x="2636" y="333"/>
                      </a:lnTo>
                      <a:lnTo>
                        <a:pt x="2591" y="330"/>
                      </a:lnTo>
                      <a:lnTo>
                        <a:pt x="2546" y="333"/>
                      </a:lnTo>
                      <a:lnTo>
                        <a:pt x="2503" y="340"/>
                      </a:lnTo>
                      <a:lnTo>
                        <a:pt x="2470" y="289"/>
                      </a:lnTo>
                      <a:lnTo>
                        <a:pt x="2430" y="241"/>
                      </a:lnTo>
                      <a:lnTo>
                        <a:pt x="2390" y="196"/>
                      </a:lnTo>
                      <a:lnTo>
                        <a:pt x="2342" y="155"/>
                      </a:lnTo>
                      <a:lnTo>
                        <a:pt x="2292" y="117"/>
                      </a:lnTo>
                      <a:lnTo>
                        <a:pt x="2240" y="86"/>
                      </a:lnTo>
                      <a:lnTo>
                        <a:pt x="2182" y="58"/>
                      </a:lnTo>
                      <a:lnTo>
                        <a:pt x="2124" y="36"/>
                      </a:lnTo>
                      <a:lnTo>
                        <a:pt x="2064" y="19"/>
                      </a:lnTo>
                      <a:lnTo>
                        <a:pt x="2001" y="7"/>
                      </a:lnTo>
                      <a:lnTo>
                        <a:pt x="1939" y="1"/>
                      </a:lnTo>
                      <a:lnTo>
                        <a:pt x="1876" y="0"/>
                      </a:lnTo>
                      <a:lnTo>
                        <a:pt x="1811" y="4"/>
                      </a:lnTo>
                      <a:lnTo>
                        <a:pt x="1750" y="15"/>
                      </a:lnTo>
                      <a:lnTo>
                        <a:pt x="1688" y="31"/>
                      </a:lnTo>
                      <a:lnTo>
                        <a:pt x="1630" y="52"/>
                      </a:lnTo>
                      <a:lnTo>
                        <a:pt x="1572" y="78"/>
                      </a:lnTo>
                      <a:lnTo>
                        <a:pt x="1517" y="108"/>
                      </a:lnTo>
                      <a:lnTo>
                        <a:pt x="1467" y="144"/>
                      </a:lnTo>
                      <a:lnTo>
                        <a:pt x="1414" y="108"/>
                      </a:lnTo>
                      <a:lnTo>
                        <a:pt x="1362" y="78"/>
                      </a:lnTo>
                      <a:lnTo>
                        <a:pt x="1304" y="52"/>
                      </a:lnTo>
                      <a:lnTo>
                        <a:pt x="1244" y="31"/>
                      </a:lnTo>
                      <a:lnTo>
                        <a:pt x="1184" y="15"/>
                      </a:lnTo>
                      <a:lnTo>
                        <a:pt x="1121" y="4"/>
                      </a:lnTo>
                      <a:lnTo>
                        <a:pt x="1058" y="0"/>
                      </a:lnTo>
                      <a:lnTo>
                        <a:pt x="995" y="1"/>
                      </a:lnTo>
                      <a:lnTo>
                        <a:pt x="933" y="7"/>
                      </a:lnTo>
                      <a:lnTo>
                        <a:pt x="870" y="19"/>
                      </a:lnTo>
                      <a:lnTo>
                        <a:pt x="810" y="36"/>
                      </a:lnTo>
                      <a:lnTo>
                        <a:pt x="750" y="58"/>
                      </a:lnTo>
                      <a:lnTo>
                        <a:pt x="694" y="86"/>
                      </a:lnTo>
                      <a:lnTo>
                        <a:pt x="642" y="117"/>
                      </a:lnTo>
                      <a:lnTo>
                        <a:pt x="592" y="155"/>
                      </a:lnTo>
                      <a:lnTo>
                        <a:pt x="544" y="196"/>
                      </a:lnTo>
                      <a:lnTo>
                        <a:pt x="501" y="241"/>
                      </a:lnTo>
                      <a:lnTo>
                        <a:pt x="464" y="289"/>
                      </a:lnTo>
                      <a:lnTo>
                        <a:pt x="431" y="340"/>
                      </a:lnTo>
                      <a:lnTo>
                        <a:pt x="386" y="333"/>
                      </a:lnTo>
                      <a:lnTo>
                        <a:pt x="341" y="330"/>
                      </a:lnTo>
                      <a:lnTo>
                        <a:pt x="298" y="333"/>
                      </a:lnTo>
                      <a:lnTo>
                        <a:pt x="253" y="342"/>
                      </a:lnTo>
                      <a:lnTo>
                        <a:pt x="210" y="356"/>
                      </a:lnTo>
                      <a:lnTo>
                        <a:pt x="170" y="375"/>
                      </a:lnTo>
                      <a:lnTo>
                        <a:pt x="133" y="399"/>
                      </a:lnTo>
                      <a:lnTo>
                        <a:pt x="100" y="428"/>
                      </a:lnTo>
                      <a:lnTo>
                        <a:pt x="70" y="461"/>
                      </a:lnTo>
                      <a:lnTo>
                        <a:pt x="45" y="496"/>
                      </a:lnTo>
                      <a:lnTo>
                        <a:pt x="25" y="535"/>
                      </a:lnTo>
                      <a:lnTo>
                        <a:pt x="10" y="576"/>
                      </a:lnTo>
                      <a:lnTo>
                        <a:pt x="2" y="618"/>
                      </a:lnTo>
                      <a:lnTo>
                        <a:pt x="0" y="662"/>
                      </a:lnTo>
                      <a:lnTo>
                        <a:pt x="2" y="704"/>
                      </a:lnTo>
                      <a:lnTo>
                        <a:pt x="10" y="746"/>
                      </a:lnTo>
                      <a:lnTo>
                        <a:pt x="25" y="787"/>
                      </a:lnTo>
                      <a:lnTo>
                        <a:pt x="45" y="826"/>
                      </a:lnTo>
                      <a:lnTo>
                        <a:pt x="70" y="862"/>
                      </a:lnTo>
                      <a:lnTo>
                        <a:pt x="100" y="894"/>
                      </a:lnTo>
                      <a:lnTo>
                        <a:pt x="133" y="923"/>
                      </a:lnTo>
                      <a:lnTo>
                        <a:pt x="170" y="947"/>
                      </a:lnTo>
                      <a:lnTo>
                        <a:pt x="210" y="966"/>
                      </a:lnTo>
                      <a:lnTo>
                        <a:pt x="253" y="980"/>
                      </a:lnTo>
                      <a:lnTo>
                        <a:pt x="298" y="989"/>
                      </a:lnTo>
                      <a:lnTo>
                        <a:pt x="341" y="992"/>
                      </a:lnTo>
                      <a:lnTo>
                        <a:pt x="386" y="989"/>
                      </a:lnTo>
                      <a:lnTo>
                        <a:pt x="431" y="982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044120" y="3794400"/>
                  <a:ext cx="1072080" cy="4874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900" spc="-1" strike="noStrike">
                      <a:solidFill>
                        <a:srgbClr val="800000"/>
                      </a:solidFill>
                      <a:latin typeface="Verdana"/>
                    </a:rPr>
                    <a:t>Learning Management Systems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6608880" y="4457880"/>
                <a:ext cx="1790640" cy="533160"/>
                <a:chOff x="6608880" y="4457880"/>
                <a:chExt cx="1790640" cy="5331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6608880" y="4457880"/>
                  <a:ext cx="1790640" cy="533160"/>
                </a:xfrm>
                <a:custGeom>
                  <a:avLst/>
                  <a:gdLst/>
                  <a:ahLst/>
                  <a:rect l="l" t="t" r="r" b="b"/>
                  <a:pathLst>
                    <a:path w="2934" h="1322">
                      <a:moveTo>
                        <a:pt x="431" y="982"/>
                      </a:moveTo>
                      <a:lnTo>
                        <a:pt x="464" y="1033"/>
                      </a:lnTo>
                      <a:lnTo>
                        <a:pt x="501" y="1081"/>
                      </a:lnTo>
                      <a:lnTo>
                        <a:pt x="544" y="1126"/>
                      </a:lnTo>
                      <a:lnTo>
                        <a:pt x="592" y="1167"/>
                      </a:lnTo>
                      <a:lnTo>
                        <a:pt x="642" y="1205"/>
                      </a:lnTo>
                      <a:lnTo>
                        <a:pt x="694" y="1236"/>
                      </a:lnTo>
                      <a:lnTo>
                        <a:pt x="750" y="1264"/>
                      </a:lnTo>
                      <a:lnTo>
                        <a:pt x="810" y="1286"/>
                      </a:lnTo>
                      <a:lnTo>
                        <a:pt x="870" y="1304"/>
                      </a:lnTo>
                      <a:lnTo>
                        <a:pt x="933" y="1315"/>
                      </a:lnTo>
                      <a:lnTo>
                        <a:pt x="995" y="1322"/>
                      </a:lnTo>
                      <a:lnTo>
                        <a:pt x="1058" y="1322"/>
                      </a:lnTo>
                      <a:lnTo>
                        <a:pt x="1121" y="1318"/>
                      </a:lnTo>
                      <a:lnTo>
                        <a:pt x="1184" y="1307"/>
                      </a:lnTo>
                      <a:lnTo>
                        <a:pt x="1244" y="1292"/>
                      </a:lnTo>
                      <a:lnTo>
                        <a:pt x="1304" y="1271"/>
                      </a:lnTo>
                      <a:lnTo>
                        <a:pt x="1362" y="1244"/>
                      </a:lnTo>
                      <a:lnTo>
                        <a:pt x="1414" y="1214"/>
                      </a:lnTo>
                      <a:lnTo>
                        <a:pt x="1467" y="1178"/>
                      </a:lnTo>
                      <a:lnTo>
                        <a:pt x="1517" y="1214"/>
                      </a:lnTo>
                      <a:lnTo>
                        <a:pt x="1572" y="1244"/>
                      </a:lnTo>
                      <a:lnTo>
                        <a:pt x="1630" y="1271"/>
                      </a:lnTo>
                      <a:lnTo>
                        <a:pt x="1688" y="1292"/>
                      </a:lnTo>
                      <a:lnTo>
                        <a:pt x="1750" y="1307"/>
                      </a:lnTo>
                      <a:lnTo>
                        <a:pt x="1811" y="1318"/>
                      </a:lnTo>
                      <a:lnTo>
                        <a:pt x="1876" y="1322"/>
                      </a:lnTo>
                      <a:lnTo>
                        <a:pt x="1939" y="1322"/>
                      </a:lnTo>
                      <a:lnTo>
                        <a:pt x="2001" y="1315"/>
                      </a:lnTo>
                      <a:lnTo>
                        <a:pt x="2064" y="1304"/>
                      </a:lnTo>
                      <a:lnTo>
                        <a:pt x="2124" y="1286"/>
                      </a:lnTo>
                      <a:lnTo>
                        <a:pt x="2182" y="1264"/>
                      </a:lnTo>
                      <a:lnTo>
                        <a:pt x="2240" y="1236"/>
                      </a:lnTo>
                      <a:lnTo>
                        <a:pt x="2292" y="1205"/>
                      </a:lnTo>
                      <a:lnTo>
                        <a:pt x="2342" y="1167"/>
                      </a:lnTo>
                      <a:lnTo>
                        <a:pt x="2390" y="1126"/>
                      </a:lnTo>
                      <a:lnTo>
                        <a:pt x="2430" y="1081"/>
                      </a:lnTo>
                      <a:lnTo>
                        <a:pt x="2470" y="1033"/>
                      </a:lnTo>
                      <a:lnTo>
                        <a:pt x="2503" y="982"/>
                      </a:lnTo>
                      <a:lnTo>
                        <a:pt x="2546" y="989"/>
                      </a:lnTo>
                      <a:lnTo>
                        <a:pt x="2591" y="992"/>
                      </a:lnTo>
                      <a:lnTo>
                        <a:pt x="2636" y="989"/>
                      </a:lnTo>
                      <a:lnTo>
                        <a:pt x="2681" y="980"/>
                      </a:lnTo>
                      <a:lnTo>
                        <a:pt x="2724" y="966"/>
                      </a:lnTo>
                      <a:lnTo>
                        <a:pt x="2764" y="947"/>
                      </a:lnTo>
                      <a:lnTo>
                        <a:pt x="2799" y="923"/>
                      </a:lnTo>
                      <a:lnTo>
                        <a:pt x="2834" y="894"/>
                      </a:lnTo>
                      <a:lnTo>
                        <a:pt x="2864" y="862"/>
                      </a:lnTo>
                      <a:lnTo>
                        <a:pt x="2889" y="826"/>
                      </a:lnTo>
                      <a:lnTo>
                        <a:pt x="2907" y="787"/>
                      </a:lnTo>
                      <a:lnTo>
                        <a:pt x="2922" y="746"/>
                      </a:lnTo>
                      <a:lnTo>
                        <a:pt x="2932" y="704"/>
                      </a:lnTo>
                      <a:lnTo>
                        <a:pt x="2934" y="662"/>
                      </a:lnTo>
                      <a:lnTo>
                        <a:pt x="2932" y="618"/>
                      </a:lnTo>
                      <a:lnTo>
                        <a:pt x="2922" y="576"/>
                      </a:lnTo>
                      <a:lnTo>
                        <a:pt x="2907" y="535"/>
                      </a:lnTo>
                      <a:lnTo>
                        <a:pt x="2889" y="496"/>
                      </a:lnTo>
                      <a:lnTo>
                        <a:pt x="2864" y="461"/>
                      </a:lnTo>
                      <a:lnTo>
                        <a:pt x="2834" y="428"/>
                      </a:lnTo>
                      <a:lnTo>
                        <a:pt x="2799" y="399"/>
                      </a:lnTo>
                      <a:lnTo>
                        <a:pt x="2764" y="375"/>
                      </a:lnTo>
                      <a:lnTo>
                        <a:pt x="2724" y="356"/>
                      </a:lnTo>
                      <a:lnTo>
                        <a:pt x="2681" y="342"/>
                      </a:lnTo>
                      <a:lnTo>
                        <a:pt x="2636" y="333"/>
                      </a:lnTo>
                      <a:lnTo>
                        <a:pt x="2591" y="330"/>
                      </a:lnTo>
                      <a:lnTo>
                        <a:pt x="2546" y="333"/>
                      </a:lnTo>
                      <a:lnTo>
                        <a:pt x="2503" y="340"/>
                      </a:lnTo>
                      <a:lnTo>
                        <a:pt x="2470" y="289"/>
                      </a:lnTo>
                      <a:lnTo>
                        <a:pt x="2430" y="241"/>
                      </a:lnTo>
                      <a:lnTo>
                        <a:pt x="2390" y="196"/>
                      </a:lnTo>
                      <a:lnTo>
                        <a:pt x="2342" y="155"/>
                      </a:lnTo>
                      <a:lnTo>
                        <a:pt x="2292" y="117"/>
                      </a:lnTo>
                      <a:lnTo>
                        <a:pt x="2240" y="86"/>
                      </a:lnTo>
                      <a:lnTo>
                        <a:pt x="2182" y="58"/>
                      </a:lnTo>
                      <a:lnTo>
                        <a:pt x="2124" y="36"/>
                      </a:lnTo>
                      <a:lnTo>
                        <a:pt x="2064" y="19"/>
                      </a:lnTo>
                      <a:lnTo>
                        <a:pt x="2001" y="7"/>
                      </a:lnTo>
                      <a:lnTo>
                        <a:pt x="1939" y="1"/>
                      </a:lnTo>
                      <a:lnTo>
                        <a:pt x="1876" y="0"/>
                      </a:lnTo>
                      <a:lnTo>
                        <a:pt x="1811" y="4"/>
                      </a:lnTo>
                      <a:lnTo>
                        <a:pt x="1750" y="15"/>
                      </a:lnTo>
                      <a:lnTo>
                        <a:pt x="1688" y="31"/>
                      </a:lnTo>
                      <a:lnTo>
                        <a:pt x="1630" y="52"/>
                      </a:lnTo>
                      <a:lnTo>
                        <a:pt x="1572" y="78"/>
                      </a:lnTo>
                      <a:lnTo>
                        <a:pt x="1517" y="108"/>
                      </a:lnTo>
                      <a:lnTo>
                        <a:pt x="1467" y="144"/>
                      </a:lnTo>
                      <a:lnTo>
                        <a:pt x="1414" y="108"/>
                      </a:lnTo>
                      <a:lnTo>
                        <a:pt x="1362" y="78"/>
                      </a:lnTo>
                      <a:lnTo>
                        <a:pt x="1304" y="52"/>
                      </a:lnTo>
                      <a:lnTo>
                        <a:pt x="1244" y="31"/>
                      </a:lnTo>
                      <a:lnTo>
                        <a:pt x="1184" y="15"/>
                      </a:lnTo>
                      <a:lnTo>
                        <a:pt x="1121" y="4"/>
                      </a:lnTo>
                      <a:lnTo>
                        <a:pt x="1058" y="0"/>
                      </a:lnTo>
                      <a:lnTo>
                        <a:pt x="995" y="1"/>
                      </a:lnTo>
                      <a:lnTo>
                        <a:pt x="933" y="7"/>
                      </a:lnTo>
                      <a:lnTo>
                        <a:pt x="870" y="19"/>
                      </a:lnTo>
                      <a:lnTo>
                        <a:pt x="810" y="36"/>
                      </a:lnTo>
                      <a:lnTo>
                        <a:pt x="750" y="58"/>
                      </a:lnTo>
                      <a:lnTo>
                        <a:pt x="694" y="86"/>
                      </a:lnTo>
                      <a:lnTo>
                        <a:pt x="642" y="117"/>
                      </a:lnTo>
                      <a:lnTo>
                        <a:pt x="592" y="155"/>
                      </a:lnTo>
                      <a:lnTo>
                        <a:pt x="544" y="196"/>
                      </a:lnTo>
                      <a:lnTo>
                        <a:pt x="501" y="241"/>
                      </a:lnTo>
                      <a:lnTo>
                        <a:pt x="464" y="289"/>
                      </a:lnTo>
                      <a:lnTo>
                        <a:pt x="431" y="340"/>
                      </a:lnTo>
                      <a:lnTo>
                        <a:pt x="386" y="333"/>
                      </a:lnTo>
                      <a:lnTo>
                        <a:pt x="341" y="330"/>
                      </a:lnTo>
                      <a:lnTo>
                        <a:pt x="298" y="333"/>
                      </a:lnTo>
                      <a:lnTo>
                        <a:pt x="253" y="342"/>
                      </a:lnTo>
                      <a:lnTo>
                        <a:pt x="210" y="356"/>
                      </a:lnTo>
                      <a:lnTo>
                        <a:pt x="170" y="375"/>
                      </a:lnTo>
                      <a:lnTo>
                        <a:pt x="133" y="399"/>
                      </a:lnTo>
                      <a:lnTo>
                        <a:pt x="100" y="428"/>
                      </a:lnTo>
                      <a:lnTo>
                        <a:pt x="70" y="461"/>
                      </a:lnTo>
                      <a:lnTo>
                        <a:pt x="45" y="496"/>
                      </a:lnTo>
                      <a:lnTo>
                        <a:pt x="25" y="535"/>
                      </a:lnTo>
                      <a:lnTo>
                        <a:pt x="10" y="576"/>
                      </a:lnTo>
                      <a:lnTo>
                        <a:pt x="2" y="618"/>
                      </a:lnTo>
                      <a:lnTo>
                        <a:pt x="0" y="662"/>
                      </a:lnTo>
                      <a:lnTo>
                        <a:pt x="2" y="704"/>
                      </a:lnTo>
                      <a:lnTo>
                        <a:pt x="10" y="746"/>
                      </a:lnTo>
                      <a:lnTo>
                        <a:pt x="25" y="787"/>
                      </a:lnTo>
                      <a:lnTo>
                        <a:pt x="45" y="826"/>
                      </a:lnTo>
                      <a:lnTo>
                        <a:pt x="70" y="862"/>
                      </a:lnTo>
                      <a:lnTo>
                        <a:pt x="100" y="894"/>
                      </a:lnTo>
                      <a:lnTo>
                        <a:pt x="133" y="923"/>
                      </a:lnTo>
                      <a:lnTo>
                        <a:pt x="170" y="947"/>
                      </a:lnTo>
                      <a:lnTo>
                        <a:pt x="210" y="966"/>
                      </a:lnTo>
                      <a:lnTo>
                        <a:pt x="253" y="980"/>
                      </a:lnTo>
                      <a:lnTo>
                        <a:pt x="298" y="989"/>
                      </a:lnTo>
                      <a:lnTo>
                        <a:pt x="341" y="992"/>
                      </a:lnTo>
                      <a:lnTo>
                        <a:pt x="386" y="989"/>
                      </a:lnTo>
                      <a:lnTo>
                        <a:pt x="431" y="982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006680" y="4564440"/>
                  <a:ext cx="1260000" cy="2840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800000"/>
                      </a:solidFill>
                      <a:latin typeface="Verdana"/>
                    </a:rPr>
                    <a:t>MULTIMEDIA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7" name=""/>
            <p:cNvSpPr/>
            <p:nvPr/>
          </p:nvSpPr>
          <p:spPr>
            <a:xfrm>
              <a:off x="2133720" y="6019920"/>
              <a:ext cx="5562360" cy="495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800000"/>
                  </a:solidFill>
                  <a:latin typeface="Verdana"/>
                </a:rPr>
                <a:t>5C: Computer, Communication, Contents, ……………….COMMITMENT and C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9E11-8AA1-418D-B309-8CD8E1B4651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B08FD-51A5-4653-A595-7F777B7154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THE END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AD12-5A77-45B1-9C59-0F6773701DC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D5DBEDF-FB66-4763-96BB-8858795AE72A}" type="datetime1">
              <a:rPr lang="en-US"/>
              <a:t>07/30/26</a:t>
            </a:fld>
          </a:p>
        </p:txBody>
      </p:sp>
    </p:spTree>
  </p:cSld>
  <p:transition spd="slow" advTm="31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7-03-22T13:14:47Z</dcterms:modified>
  <cp:revision>22</cp:revision>
  <dc:subject/>
  <dc:title>PowerPoint Presentation</dc:title>
</cp:coreProperties>
</file>