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920E-A87C-4799-B2EC-1580BDC0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63CD-41CA-4B0D-B6F9-234C906C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F7A-CDF2-4EA5-949B-5D579F6A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373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8316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911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7373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28316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5F9-0B61-40D4-ABB9-5D31B1FD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B9B0D-9260-4052-9BE7-9E84E445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5327-80AC-4B9B-9A9A-16FE5CC3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389F-E371-43AE-924B-D40C8E69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FFA5-6A76-4F7A-81DC-F39C1421F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4E1E-6ABD-45C8-AEE3-2106E068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B30F-3209-4000-8EC4-5B33B702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68F9-D47E-45A3-B312-95EB15D5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F56-87C4-4885-AA6D-8C305C23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3478-8B8A-4A51-B293-0FD7DDA5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E172B-8619-4FA7-A813-A211CDC2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0D47F-ABF8-4986-99FE-89684373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DF7A-7632-46AE-BAC0-ED3008A68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3732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283160" y="182880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911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73732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283160" y="274464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A59F-9E79-4DAF-A151-9CC1ED917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C8F1-E7EB-4DB7-9E80-97BBE1A2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A328-A2E3-49F1-B3E2-750EA266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3492-495D-4141-811B-7CC09B3E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B2D-9680-4DBA-BC7A-F31874C83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346-54DE-4EC6-A4B0-576D22B4F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34000" y="274464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0BB3-F352-4286-B1DE-1AB5A72B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112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34000" y="182880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1120" y="274464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B162-36C8-434D-8DB6-B43FE062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93FAE-20F3-482B-8B32-264638442B3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9E91-B84D-4329-9D23-723FFE3723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DEB8-55C0-49C7-9FB1-2E11EAAEEAD7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98EC-53AD-42DD-AEB8-9043A59759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PENGANTAR TEKNOLOGI PENDIDIKAN</a:t>
            </a: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 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94920" y="434340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oleh: Rhiza S. Sadj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-mail: </a:t>
            </a:r>
            <a:r>
              <a:rPr b="1" lang="en-US" sz="2400" spc="-1" strike="noStrike">
                <a:solidFill>
                  <a:srgbClr val="ffffcc"/>
                </a:solidFill>
                <a:latin typeface="Tahoma"/>
                <a:ea typeface="Times New Roman"/>
              </a:rPr>
              <a:t>rhiza @ unhas.ac.id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URL: http: // w w w.unhas.ac.id/~rhiza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A8CD-1F34-4FC9-8FA2-8F87789EEA5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FCCC5DF-1169-4DF3-B6AA-B322EB964F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8477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ffcc"/>
                </a:solidFill>
                <a:uFillTx/>
                <a:latin typeface="Arial Narrow"/>
              </a:rPr>
              <a:t>Teaching</a:t>
            </a: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 is ..............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52480" y="1676160"/>
            <a:ext cx="6400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.................about providing opportunities for students to lear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07360" y="518148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4800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TIW Batch 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419112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ones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ed. . [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2000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], “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CURRICULUM DEVELOPMENT, S1 Engineering Programs in Indonesi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”, page 2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74AE4A8-B1DC-4E08-A1A2-3DD4A82B5905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Proses Pembelajara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1752480"/>
            <a:ext cx="7391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 (dua) kategori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oses pembelajaran di kelas (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lassroom course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 melalui tatap-muka yang dijadwalkan secara reguler dalam semester-sem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55720" indent="-39852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on-kelas (</a:t>
            </a:r>
            <a:r>
              <a:rPr b="1" i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non-classroom courses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), yang tidak terjadwal secara reguler, misalnya matakuliah Seminar, Kerja Praktek, Praktikum, Skripsi, Praktek Lapang, Kuliah Kerja Nyata, dan lain-lain.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590920" cy="184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2D17-7A1F-45BF-BD8A-C08A037A7B0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52193-2994-491F-B3AB-A5DADEABA7EE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560" y="914040"/>
            <a:ext cx="842148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cc"/>
                </a:solidFill>
                <a:uFillTx/>
                <a:latin typeface="Arial Narrow"/>
              </a:rPr>
              <a:t>Teaching Formats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(examples):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195440" y="1828440"/>
            <a:ext cx="49482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TER-APPRENT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CIRCLE (TUTOR-NOVIC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and CHAL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LL (PRACTICE, TEST, EXA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312408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74284-1246-4075-BC65-6891324BEF86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533520"/>
            <a:ext cx="4572000" cy="72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Teaching is a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Arial Narrow"/>
              </a:rPr>
              <a:t>SKILL</a:t>
            </a: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 !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5410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..........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ds ...............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724280" y="1828800"/>
            <a:ext cx="3733920" cy="3733920"/>
            <a:chOff x="4724280" y="1828800"/>
            <a:chExt cx="3733920" cy="3733920"/>
          </a:xfrm>
        </p:grpSpPr>
        <p:sp>
          <p:nvSpPr>
            <p:cNvPr id="101" name=""/>
            <p:cNvSpPr/>
            <p:nvPr/>
          </p:nvSpPr>
          <p:spPr>
            <a:xfrm>
              <a:off x="4724280" y="1828800"/>
              <a:ext cx="3733920" cy="3733920"/>
            </a:xfrm>
            <a:prstGeom prst="ellipse">
              <a:avLst/>
            </a:prstGeom>
            <a:solidFill>
              <a:srgbClr val="777777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52880" y="3200400"/>
              <a:ext cx="327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EDUCATIONAL TECHNOLOGY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09840" y="1828800"/>
            <a:ext cx="2479680" cy="2666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1768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75A529-78AE-4FAB-9462-D8CF219910C9}" type="datetime1">
              <a:rPr lang="en-US"/>
              <a:t>07/28/26</a:t>
            </a:fld>
          </a:p>
        </p:txBody>
      </p:sp>
    </p:spTree>
  </p:cSld>
  <p:transition spd="slow">
    <p:wipe dir="r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TEKNOLOGI INFOKOM (</a:t>
            </a:r>
            <a:r>
              <a:rPr b="1" i="1" lang="en-US" sz="2800" spc="-1" strike="noStrike">
                <a:solidFill>
                  <a:srgbClr val="ffffcc"/>
                </a:solidFill>
                <a:latin typeface="Arial Narrow"/>
              </a:rPr>
              <a:t>ICT</a:t>
            </a: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)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di 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 Narrow"/>
              </a:rPr>
              <a:t>PERGURUAN TINGGI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04920" y="1523880"/>
            <a:ext cx="8610480" cy="5334120"/>
            <a:chOff x="304920" y="1523880"/>
            <a:chExt cx="8610480" cy="5334120"/>
          </a:xfrm>
        </p:grpSpPr>
        <p:grpSp>
          <p:nvGrpSpPr>
            <p:cNvPr id="107" name=""/>
            <p:cNvGrpSpPr/>
            <p:nvPr/>
          </p:nvGrpSpPr>
          <p:grpSpPr>
            <a:xfrm>
              <a:off x="304920" y="1523880"/>
              <a:ext cx="8610480" cy="5334120"/>
              <a:chOff x="304920" y="1523880"/>
              <a:chExt cx="8610480" cy="5334120"/>
            </a:xfrm>
          </p:grpSpPr>
          <p:sp>
            <p:nvSpPr>
              <p:cNvPr id="108" name=""/>
              <p:cNvSpPr/>
              <p:nvPr/>
            </p:nvSpPr>
            <p:spPr>
              <a:xfrm>
                <a:off x="685800" y="1523880"/>
                <a:ext cx="8010360" cy="18590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1219320" y="1554120"/>
                <a:ext cx="7162560" cy="65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Arial Narrow"/>
                  </a:rPr>
                  <a:t>PENGELOLA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800000"/>
                    </a:solidFill>
                    <a:latin typeface="Arial Narrow"/>
                  </a:rPr>
                  <a:t>SISTEM INFORMASI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010040" y="2438280"/>
                <a:ext cx="1257120" cy="571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Verdana"/>
                  </a:rPr>
                  <a:t>Pelayana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3300"/>
                    </a:solidFill>
                    <a:latin typeface="Verdana"/>
                  </a:rPr>
                  <a:t>INTERNE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562720" y="2413080"/>
                <a:ext cx="1447560" cy="893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800000"/>
                    </a:solidFill>
                    <a:latin typeface="Verdana"/>
                  </a:rPr>
                  <a:t>Sistem INFORMASI TERPADU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324560" y="2438280"/>
                <a:ext cx="1257480" cy="868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800000"/>
                    </a:solidFill>
                    <a:latin typeface="Verdana"/>
                  </a:rPr>
                  <a:t>E-Learning </a:t>
                </a: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dan </a:t>
                </a:r>
                <a:r>
                  <a:rPr b="1" i="1" lang="en-US" sz="1200" spc="-1" strike="noStrike">
                    <a:solidFill>
                      <a:srgbClr val="800000"/>
                    </a:solidFill>
                    <a:latin typeface="Verdana"/>
                  </a:rPr>
                  <a:t>Distance Learnin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296040" y="2209680"/>
                <a:ext cx="0" cy="2286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36600" y="2324160"/>
                <a:ext cx="681984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010360" y="2324160"/>
                <a:ext cx="0" cy="114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695840" y="2324160"/>
                <a:ext cx="0" cy="1141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920" y="3086280"/>
                <a:ext cx="1846080" cy="121104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604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Sub-Bag Teknik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604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marL="604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Teknisi Kepala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174600">
                  <a:lnSpc>
                    <a:spcPct val="100000"/>
                  </a:lnSpc>
                  <a:buClr>
                    <a:srgbClr val="800000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800000"/>
                    </a:solidFill>
                    <a:latin typeface="Verdana"/>
                  </a:rPr>
                  <a:t>Teknisi </a:t>
                </a:r>
                <a:r>
                  <a:rPr b="0" i="1" lang="en-US" sz="1000" spc="-1" strike="noStrike">
                    <a:solidFill>
                      <a:srgbClr val="800000"/>
                    </a:solidFill>
                    <a:latin typeface="Verdana"/>
                  </a:rPr>
                  <a:t>Hardwar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174600">
                  <a:lnSpc>
                    <a:spcPct val="100000"/>
                  </a:lnSpc>
                  <a:buClr>
                    <a:srgbClr val="800000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800000"/>
                    </a:solidFill>
                    <a:latin typeface="Verdana"/>
                  </a:rPr>
                  <a:t>Teknisi</a:t>
                </a:r>
                <a:r>
                  <a:rPr b="0" i="1" lang="en-US" sz="1000" spc="-1" strike="noStrike">
                    <a:solidFill>
                      <a:srgbClr val="800000"/>
                    </a:solidFill>
                    <a:latin typeface="Verdana"/>
                  </a:rPr>
                  <a:t> Software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lvl="1" marL="17460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36680" y="3429000"/>
                <a:ext cx="171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151000" y="3086280"/>
                <a:ext cx="1714680" cy="111744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Sub-Bag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Adm. &amp; Keu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Ka-Sub-Bag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+STAF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51000" y="3543480"/>
                <a:ext cx="171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236600" y="2286000"/>
                <a:ext cx="0" cy="800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951280" y="2286000"/>
                <a:ext cx="0" cy="80028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581280" y="2971800"/>
                <a:ext cx="2057400" cy="1371600"/>
              </a:xfrm>
              <a:custGeom>
                <a:avLst/>
                <a:gdLst/>
                <a:ahLst/>
                <a:rect l="l" t="t" r="r" b="b"/>
                <a:pathLst>
                  <a:path w="2934" h="1322">
                    <a:moveTo>
                      <a:pt x="431" y="982"/>
                    </a:moveTo>
                    <a:lnTo>
                      <a:pt x="464" y="1033"/>
                    </a:lnTo>
                    <a:lnTo>
                      <a:pt x="501" y="1081"/>
                    </a:lnTo>
                    <a:lnTo>
                      <a:pt x="544" y="1126"/>
                    </a:lnTo>
                    <a:lnTo>
                      <a:pt x="592" y="1167"/>
                    </a:lnTo>
                    <a:lnTo>
                      <a:pt x="642" y="1205"/>
                    </a:lnTo>
                    <a:lnTo>
                      <a:pt x="694" y="1236"/>
                    </a:lnTo>
                    <a:lnTo>
                      <a:pt x="750" y="1264"/>
                    </a:lnTo>
                    <a:lnTo>
                      <a:pt x="810" y="1286"/>
                    </a:lnTo>
                    <a:lnTo>
                      <a:pt x="870" y="1304"/>
                    </a:lnTo>
                    <a:lnTo>
                      <a:pt x="933" y="1315"/>
                    </a:lnTo>
                    <a:lnTo>
                      <a:pt x="995" y="1322"/>
                    </a:lnTo>
                    <a:lnTo>
                      <a:pt x="1058" y="1322"/>
                    </a:lnTo>
                    <a:lnTo>
                      <a:pt x="1121" y="1318"/>
                    </a:lnTo>
                    <a:lnTo>
                      <a:pt x="1184" y="1307"/>
                    </a:lnTo>
                    <a:lnTo>
                      <a:pt x="1244" y="1292"/>
                    </a:lnTo>
                    <a:lnTo>
                      <a:pt x="1304" y="1271"/>
                    </a:lnTo>
                    <a:lnTo>
                      <a:pt x="1362" y="1244"/>
                    </a:lnTo>
                    <a:lnTo>
                      <a:pt x="1414" y="1214"/>
                    </a:lnTo>
                    <a:lnTo>
                      <a:pt x="1467" y="1178"/>
                    </a:lnTo>
                    <a:lnTo>
                      <a:pt x="1517" y="1214"/>
                    </a:lnTo>
                    <a:lnTo>
                      <a:pt x="1572" y="1244"/>
                    </a:lnTo>
                    <a:lnTo>
                      <a:pt x="1630" y="1271"/>
                    </a:lnTo>
                    <a:lnTo>
                      <a:pt x="1688" y="1292"/>
                    </a:lnTo>
                    <a:lnTo>
                      <a:pt x="1750" y="1307"/>
                    </a:lnTo>
                    <a:lnTo>
                      <a:pt x="1811" y="1318"/>
                    </a:lnTo>
                    <a:lnTo>
                      <a:pt x="1876" y="1322"/>
                    </a:lnTo>
                    <a:lnTo>
                      <a:pt x="1939" y="1322"/>
                    </a:lnTo>
                    <a:lnTo>
                      <a:pt x="2001" y="1315"/>
                    </a:lnTo>
                    <a:lnTo>
                      <a:pt x="2064" y="1304"/>
                    </a:lnTo>
                    <a:lnTo>
                      <a:pt x="2124" y="1286"/>
                    </a:lnTo>
                    <a:lnTo>
                      <a:pt x="2182" y="1264"/>
                    </a:lnTo>
                    <a:lnTo>
                      <a:pt x="2240" y="1236"/>
                    </a:lnTo>
                    <a:lnTo>
                      <a:pt x="2292" y="1205"/>
                    </a:lnTo>
                    <a:lnTo>
                      <a:pt x="2342" y="1167"/>
                    </a:lnTo>
                    <a:lnTo>
                      <a:pt x="2390" y="1126"/>
                    </a:lnTo>
                    <a:lnTo>
                      <a:pt x="2430" y="1081"/>
                    </a:lnTo>
                    <a:lnTo>
                      <a:pt x="2470" y="1033"/>
                    </a:lnTo>
                    <a:lnTo>
                      <a:pt x="2503" y="982"/>
                    </a:lnTo>
                    <a:lnTo>
                      <a:pt x="2546" y="989"/>
                    </a:lnTo>
                    <a:lnTo>
                      <a:pt x="2591" y="992"/>
                    </a:lnTo>
                    <a:lnTo>
                      <a:pt x="2636" y="989"/>
                    </a:lnTo>
                    <a:lnTo>
                      <a:pt x="2681" y="980"/>
                    </a:lnTo>
                    <a:lnTo>
                      <a:pt x="2724" y="966"/>
                    </a:lnTo>
                    <a:lnTo>
                      <a:pt x="2764" y="947"/>
                    </a:lnTo>
                    <a:lnTo>
                      <a:pt x="2799" y="923"/>
                    </a:lnTo>
                    <a:lnTo>
                      <a:pt x="2834" y="894"/>
                    </a:lnTo>
                    <a:lnTo>
                      <a:pt x="2864" y="862"/>
                    </a:lnTo>
                    <a:lnTo>
                      <a:pt x="2889" y="826"/>
                    </a:lnTo>
                    <a:lnTo>
                      <a:pt x="2907" y="787"/>
                    </a:lnTo>
                    <a:lnTo>
                      <a:pt x="2922" y="746"/>
                    </a:lnTo>
                    <a:lnTo>
                      <a:pt x="2932" y="704"/>
                    </a:lnTo>
                    <a:lnTo>
                      <a:pt x="2934" y="662"/>
                    </a:lnTo>
                    <a:lnTo>
                      <a:pt x="2932" y="618"/>
                    </a:lnTo>
                    <a:lnTo>
                      <a:pt x="2922" y="576"/>
                    </a:lnTo>
                    <a:lnTo>
                      <a:pt x="2907" y="535"/>
                    </a:lnTo>
                    <a:lnTo>
                      <a:pt x="2889" y="496"/>
                    </a:lnTo>
                    <a:lnTo>
                      <a:pt x="2864" y="461"/>
                    </a:lnTo>
                    <a:lnTo>
                      <a:pt x="2834" y="428"/>
                    </a:lnTo>
                    <a:lnTo>
                      <a:pt x="2799" y="399"/>
                    </a:lnTo>
                    <a:lnTo>
                      <a:pt x="2764" y="375"/>
                    </a:lnTo>
                    <a:lnTo>
                      <a:pt x="2724" y="356"/>
                    </a:lnTo>
                    <a:lnTo>
                      <a:pt x="2681" y="342"/>
                    </a:lnTo>
                    <a:lnTo>
                      <a:pt x="2636" y="333"/>
                    </a:lnTo>
                    <a:lnTo>
                      <a:pt x="2591" y="330"/>
                    </a:lnTo>
                    <a:lnTo>
                      <a:pt x="2546" y="333"/>
                    </a:lnTo>
                    <a:lnTo>
                      <a:pt x="2503" y="340"/>
                    </a:lnTo>
                    <a:lnTo>
                      <a:pt x="2470" y="289"/>
                    </a:lnTo>
                    <a:lnTo>
                      <a:pt x="2430" y="241"/>
                    </a:lnTo>
                    <a:lnTo>
                      <a:pt x="2390" y="196"/>
                    </a:lnTo>
                    <a:lnTo>
                      <a:pt x="2342" y="155"/>
                    </a:lnTo>
                    <a:lnTo>
                      <a:pt x="2292" y="117"/>
                    </a:lnTo>
                    <a:lnTo>
                      <a:pt x="2240" y="86"/>
                    </a:lnTo>
                    <a:lnTo>
                      <a:pt x="2182" y="58"/>
                    </a:lnTo>
                    <a:lnTo>
                      <a:pt x="2124" y="36"/>
                    </a:lnTo>
                    <a:lnTo>
                      <a:pt x="2064" y="19"/>
                    </a:lnTo>
                    <a:lnTo>
                      <a:pt x="2001" y="7"/>
                    </a:lnTo>
                    <a:lnTo>
                      <a:pt x="1939" y="1"/>
                    </a:lnTo>
                    <a:lnTo>
                      <a:pt x="1876" y="0"/>
                    </a:lnTo>
                    <a:lnTo>
                      <a:pt x="1811" y="4"/>
                    </a:lnTo>
                    <a:lnTo>
                      <a:pt x="1750" y="15"/>
                    </a:lnTo>
                    <a:lnTo>
                      <a:pt x="1688" y="31"/>
                    </a:lnTo>
                    <a:lnTo>
                      <a:pt x="1630" y="52"/>
                    </a:lnTo>
                    <a:lnTo>
                      <a:pt x="1572" y="78"/>
                    </a:lnTo>
                    <a:lnTo>
                      <a:pt x="1517" y="108"/>
                    </a:lnTo>
                    <a:lnTo>
                      <a:pt x="1467" y="144"/>
                    </a:lnTo>
                    <a:lnTo>
                      <a:pt x="1414" y="108"/>
                    </a:lnTo>
                    <a:lnTo>
                      <a:pt x="1362" y="78"/>
                    </a:lnTo>
                    <a:lnTo>
                      <a:pt x="1304" y="52"/>
                    </a:lnTo>
                    <a:lnTo>
                      <a:pt x="1244" y="31"/>
                    </a:lnTo>
                    <a:lnTo>
                      <a:pt x="1184" y="15"/>
                    </a:lnTo>
                    <a:lnTo>
                      <a:pt x="1121" y="4"/>
                    </a:lnTo>
                    <a:lnTo>
                      <a:pt x="1058" y="0"/>
                    </a:lnTo>
                    <a:lnTo>
                      <a:pt x="995" y="1"/>
                    </a:lnTo>
                    <a:lnTo>
                      <a:pt x="933" y="7"/>
                    </a:lnTo>
                    <a:lnTo>
                      <a:pt x="870" y="19"/>
                    </a:lnTo>
                    <a:lnTo>
                      <a:pt x="810" y="36"/>
                    </a:lnTo>
                    <a:lnTo>
                      <a:pt x="750" y="58"/>
                    </a:lnTo>
                    <a:lnTo>
                      <a:pt x="694" y="86"/>
                    </a:lnTo>
                    <a:lnTo>
                      <a:pt x="642" y="117"/>
                    </a:lnTo>
                    <a:lnTo>
                      <a:pt x="592" y="155"/>
                    </a:lnTo>
                    <a:lnTo>
                      <a:pt x="544" y="196"/>
                    </a:lnTo>
                    <a:lnTo>
                      <a:pt x="501" y="241"/>
                    </a:lnTo>
                    <a:lnTo>
                      <a:pt x="464" y="289"/>
                    </a:lnTo>
                    <a:lnTo>
                      <a:pt x="431" y="340"/>
                    </a:lnTo>
                    <a:lnTo>
                      <a:pt x="386" y="333"/>
                    </a:lnTo>
                    <a:lnTo>
                      <a:pt x="341" y="330"/>
                    </a:lnTo>
                    <a:lnTo>
                      <a:pt x="298" y="333"/>
                    </a:lnTo>
                    <a:lnTo>
                      <a:pt x="253" y="342"/>
                    </a:lnTo>
                    <a:lnTo>
                      <a:pt x="210" y="356"/>
                    </a:lnTo>
                    <a:lnTo>
                      <a:pt x="170" y="375"/>
                    </a:lnTo>
                    <a:lnTo>
                      <a:pt x="133" y="399"/>
                    </a:lnTo>
                    <a:lnTo>
                      <a:pt x="100" y="428"/>
                    </a:lnTo>
                    <a:lnTo>
                      <a:pt x="70" y="461"/>
                    </a:lnTo>
                    <a:lnTo>
                      <a:pt x="45" y="496"/>
                    </a:lnTo>
                    <a:lnTo>
                      <a:pt x="25" y="535"/>
                    </a:lnTo>
                    <a:lnTo>
                      <a:pt x="10" y="576"/>
                    </a:lnTo>
                    <a:lnTo>
                      <a:pt x="2" y="618"/>
                    </a:lnTo>
                    <a:lnTo>
                      <a:pt x="0" y="662"/>
                    </a:lnTo>
                    <a:lnTo>
                      <a:pt x="2" y="704"/>
                    </a:lnTo>
                    <a:lnTo>
                      <a:pt x="10" y="746"/>
                    </a:lnTo>
                    <a:lnTo>
                      <a:pt x="25" y="787"/>
                    </a:lnTo>
                    <a:lnTo>
                      <a:pt x="45" y="826"/>
                    </a:lnTo>
                    <a:lnTo>
                      <a:pt x="70" y="862"/>
                    </a:lnTo>
                    <a:lnTo>
                      <a:pt x="100" y="894"/>
                    </a:lnTo>
                    <a:lnTo>
                      <a:pt x="133" y="923"/>
                    </a:lnTo>
                    <a:lnTo>
                      <a:pt x="170" y="947"/>
                    </a:lnTo>
                    <a:lnTo>
                      <a:pt x="210" y="966"/>
                    </a:lnTo>
                    <a:lnTo>
                      <a:pt x="253" y="980"/>
                    </a:lnTo>
                    <a:lnTo>
                      <a:pt x="298" y="989"/>
                    </a:lnTo>
                    <a:lnTo>
                      <a:pt x="341" y="992"/>
                    </a:lnTo>
                    <a:lnTo>
                      <a:pt x="386" y="989"/>
                    </a:lnTo>
                    <a:lnTo>
                      <a:pt x="431" y="982"/>
                    </a:lnTo>
                    <a:close/>
                  </a:path>
                </a:pathLst>
              </a:custGeom>
              <a:solidFill>
                <a:srgbClr val="cc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86200" y="3200400"/>
                <a:ext cx="1257480" cy="117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Internet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&amp;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800000"/>
                    </a:solidFill>
                    <a:latin typeface="Verdana"/>
                  </a:rPr>
                  <a:t>Jaringan Kampu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5181480" y="3154320"/>
                <a:ext cx="2057400" cy="1371600"/>
                <a:chOff x="5181480" y="3154320"/>
                <a:chExt cx="2057400" cy="13716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181480" y="3154320"/>
                  <a:ext cx="2057400" cy="137160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638680" y="3497040"/>
                  <a:ext cx="1257120" cy="68580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800000"/>
                      </a:solidFill>
                      <a:latin typeface="Verdana"/>
                    </a:rPr>
                    <a:t>Sistem Informasi Terpadu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1236600" y="5715000"/>
                <a:ext cx="7221600" cy="1143000"/>
              </a:xfrm>
              <a:custGeom>
                <a:avLst/>
                <a:gdLst/>
                <a:ahLst/>
                <a:rect l="l" t="t" r="r" b="b"/>
                <a:pathLst>
                  <a:path w="2934" h="1322">
                    <a:moveTo>
                      <a:pt x="431" y="982"/>
                    </a:moveTo>
                    <a:lnTo>
                      <a:pt x="464" y="1033"/>
                    </a:lnTo>
                    <a:lnTo>
                      <a:pt x="501" y="1081"/>
                    </a:lnTo>
                    <a:lnTo>
                      <a:pt x="544" y="1126"/>
                    </a:lnTo>
                    <a:lnTo>
                      <a:pt x="592" y="1167"/>
                    </a:lnTo>
                    <a:lnTo>
                      <a:pt x="642" y="1205"/>
                    </a:lnTo>
                    <a:lnTo>
                      <a:pt x="694" y="1236"/>
                    </a:lnTo>
                    <a:lnTo>
                      <a:pt x="750" y="1264"/>
                    </a:lnTo>
                    <a:lnTo>
                      <a:pt x="810" y="1286"/>
                    </a:lnTo>
                    <a:lnTo>
                      <a:pt x="870" y="1304"/>
                    </a:lnTo>
                    <a:lnTo>
                      <a:pt x="933" y="1315"/>
                    </a:lnTo>
                    <a:lnTo>
                      <a:pt x="995" y="1322"/>
                    </a:lnTo>
                    <a:lnTo>
                      <a:pt x="1058" y="1322"/>
                    </a:lnTo>
                    <a:lnTo>
                      <a:pt x="1121" y="1318"/>
                    </a:lnTo>
                    <a:lnTo>
                      <a:pt x="1184" y="1307"/>
                    </a:lnTo>
                    <a:lnTo>
                      <a:pt x="1244" y="1292"/>
                    </a:lnTo>
                    <a:lnTo>
                      <a:pt x="1304" y="1271"/>
                    </a:lnTo>
                    <a:lnTo>
                      <a:pt x="1362" y="1244"/>
                    </a:lnTo>
                    <a:lnTo>
                      <a:pt x="1414" y="1214"/>
                    </a:lnTo>
                    <a:lnTo>
                      <a:pt x="1467" y="1178"/>
                    </a:lnTo>
                    <a:lnTo>
                      <a:pt x="1517" y="1214"/>
                    </a:lnTo>
                    <a:lnTo>
                      <a:pt x="1572" y="1244"/>
                    </a:lnTo>
                    <a:lnTo>
                      <a:pt x="1630" y="1271"/>
                    </a:lnTo>
                    <a:lnTo>
                      <a:pt x="1688" y="1292"/>
                    </a:lnTo>
                    <a:lnTo>
                      <a:pt x="1750" y="1307"/>
                    </a:lnTo>
                    <a:lnTo>
                      <a:pt x="1811" y="1318"/>
                    </a:lnTo>
                    <a:lnTo>
                      <a:pt x="1876" y="1322"/>
                    </a:lnTo>
                    <a:lnTo>
                      <a:pt x="1939" y="1322"/>
                    </a:lnTo>
                    <a:lnTo>
                      <a:pt x="2001" y="1315"/>
                    </a:lnTo>
                    <a:lnTo>
                      <a:pt x="2064" y="1304"/>
                    </a:lnTo>
                    <a:lnTo>
                      <a:pt x="2124" y="1286"/>
                    </a:lnTo>
                    <a:lnTo>
                      <a:pt x="2182" y="1264"/>
                    </a:lnTo>
                    <a:lnTo>
                      <a:pt x="2240" y="1236"/>
                    </a:lnTo>
                    <a:lnTo>
                      <a:pt x="2292" y="1205"/>
                    </a:lnTo>
                    <a:lnTo>
                      <a:pt x="2342" y="1167"/>
                    </a:lnTo>
                    <a:lnTo>
                      <a:pt x="2390" y="1126"/>
                    </a:lnTo>
                    <a:lnTo>
                      <a:pt x="2430" y="1081"/>
                    </a:lnTo>
                    <a:lnTo>
                      <a:pt x="2470" y="1033"/>
                    </a:lnTo>
                    <a:lnTo>
                      <a:pt x="2503" y="982"/>
                    </a:lnTo>
                    <a:lnTo>
                      <a:pt x="2546" y="989"/>
                    </a:lnTo>
                    <a:lnTo>
                      <a:pt x="2591" y="992"/>
                    </a:lnTo>
                    <a:lnTo>
                      <a:pt x="2636" y="989"/>
                    </a:lnTo>
                    <a:lnTo>
                      <a:pt x="2681" y="980"/>
                    </a:lnTo>
                    <a:lnTo>
                      <a:pt x="2724" y="966"/>
                    </a:lnTo>
                    <a:lnTo>
                      <a:pt x="2764" y="947"/>
                    </a:lnTo>
                    <a:lnTo>
                      <a:pt x="2799" y="923"/>
                    </a:lnTo>
                    <a:lnTo>
                      <a:pt x="2834" y="894"/>
                    </a:lnTo>
                    <a:lnTo>
                      <a:pt x="2864" y="862"/>
                    </a:lnTo>
                    <a:lnTo>
                      <a:pt x="2889" y="826"/>
                    </a:lnTo>
                    <a:lnTo>
                      <a:pt x="2907" y="787"/>
                    </a:lnTo>
                    <a:lnTo>
                      <a:pt x="2922" y="746"/>
                    </a:lnTo>
                    <a:lnTo>
                      <a:pt x="2932" y="704"/>
                    </a:lnTo>
                    <a:lnTo>
                      <a:pt x="2934" y="662"/>
                    </a:lnTo>
                    <a:lnTo>
                      <a:pt x="2932" y="618"/>
                    </a:lnTo>
                    <a:lnTo>
                      <a:pt x="2922" y="576"/>
                    </a:lnTo>
                    <a:lnTo>
                      <a:pt x="2907" y="535"/>
                    </a:lnTo>
                    <a:lnTo>
                      <a:pt x="2889" y="496"/>
                    </a:lnTo>
                    <a:lnTo>
                      <a:pt x="2864" y="461"/>
                    </a:lnTo>
                    <a:lnTo>
                      <a:pt x="2834" y="428"/>
                    </a:lnTo>
                    <a:lnTo>
                      <a:pt x="2799" y="399"/>
                    </a:lnTo>
                    <a:lnTo>
                      <a:pt x="2764" y="375"/>
                    </a:lnTo>
                    <a:lnTo>
                      <a:pt x="2724" y="356"/>
                    </a:lnTo>
                    <a:lnTo>
                      <a:pt x="2681" y="342"/>
                    </a:lnTo>
                    <a:lnTo>
                      <a:pt x="2636" y="333"/>
                    </a:lnTo>
                    <a:lnTo>
                      <a:pt x="2591" y="330"/>
                    </a:lnTo>
                    <a:lnTo>
                      <a:pt x="2546" y="333"/>
                    </a:lnTo>
                    <a:lnTo>
                      <a:pt x="2503" y="340"/>
                    </a:lnTo>
                    <a:lnTo>
                      <a:pt x="2470" y="289"/>
                    </a:lnTo>
                    <a:lnTo>
                      <a:pt x="2430" y="241"/>
                    </a:lnTo>
                    <a:lnTo>
                      <a:pt x="2390" y="196"/>
                    </a:lnTo>
                    <a:lnTo>
                      <a:pt x="2342" y="155"/>
                    </a:lnTo>
                    <a:lnTo>
                      <a:pt x="2292" y="117"/>
                    </a:lnTo>
                    <a:lnTo>
                      <a:pt x="2240" y="86"/>
                    </a:lnTo>
                    <a:lnTo>
                      <a:pt x="2182" y="58"/>
                    </a:lnTo>
                    <a:lnTo>
                      <a:pt x="2124" y="36"/>
                    </a:lnTo>
                    <a:lnTo>
                      <a:pt x="2064" y="19"/>
                    </a:lnTo>
                    <a:lnTo>
                      <a:pt x="2001" y="7"/>
                    </a:lnTo>
                    <a:lnTo>
                      <a:pt x="1939" y="1"/>
                    </a:lnTo>
                    <a:lnTo>
                      <a:pt x="1876" y="0"/>
                    </a:lnTo>
                    <a:lnTo>
                      <a:pt x="1811" y="4"/>
                    </a:lnTo>
                    <a:lnTo>
                      <a:pt x="1750" y="15"/>
                    </a:lnTo>
                    <a:lnTo>
                      <a:pt x="1688" y="31"/>
                    </a:lnTo>
                    <a:lnTo>
                      <a:pt x="1630" y="52"/>
                    </a:lnTo>
                    <a:lnTo>
                      <a:pt x="1572" y="78"/>
                    </a:lnTo>
                    <a:lnTo>
                      <a:pt x="1517" y="108"/>
                    </a:lnTo>
                    <a:lnTo>
                      <a:pt x="1467" y="144"/>
                    </a:lnTo>
                    <a:lnTo>
                      <a:pt x="1414" y="108"/>
                    </a:lnTo>
                    <a:lnTo>
                      <a:pt x="1362" y="78"/>
                    </a:lnTo>
                    <a:lnTo>
                      <a:pt x="1304" y="52"/>
                    </a:lnTo>
                    <a:lnTo>
                      <a:pt x="1244" y="31"/>
                    </a:lnTo>
                    <a:lnTo>
                      <a:pt x="1184" y="15"/>
                    </a:lnTo>
                    <a:lnTo>
                      <a:pt x="1121" y="4"/>
                    </a:lnTo>
                    <a:lnTo>
                      <a:pt x="1058" y="0"/>
                    </a:lnTo>
                    <a:lnTo>
                      <a:pt x="995" y="1"/>
                    </a:lnTo>
                    <a:lnTo>
                      <a:pt x="933" y="7"/>
                    </a:lnTo>
                    <a:lnTo>
                      <a:pt x="870" y="19"/>
                    </a:lnTo>
                    <a:lnTo>
                      <a:pt x="810" y="36"/>
                    </a:lnTo>
                    <a:lnTo>
                      <a:pt x="750" y="58"/>
                    </a:lnTo>
                    <a:lnTo>
                      <a:pt x="694" y="86"/>
                    </a:lnTo>
                    <a:lnTo>
                      <a:pt x="642" y="117"/>
                    </a:lnTo>
                    <a:lnTo>
                      <a:pt x="592" y="155"/>
                    </a:lnTo>
                    <a:lnTo>
                      <a:pt x="544" y="196"/>
                    </a:lnTo>
                    <a:lnTo>
                      <a:pt x="501" y="241"/>
                    </a:lnTo>
                    <a:lnTo>
                      <a:pt x="464" y="289"/>
                    </a:lnTo>
                    <a:lnTo>
                      <a:pt x="431" y="340"/>
                    </a:lnTo>
                    <a:lnTo>
                      <a:pt x="386" y="333"/>
                    </a:lnTo>
                    <a:lnTo>
                      <a:pt x="341" y="330"/>
                    </a:lnTo>
                    <a:lnTo>
                      <a:pt x="298" y="333"/>
                    </a:lnTo>
                    <a:lnTo>
                      <a:pt x="253" y="342"/>
                    </a:lnTo>
                    <a:lnTo>
                      <a:pt x="210" y="356"/>
                    </a:lnTo>
                    <a:lnTo>
                      <a:pt x="170" y="375"/>
                    </a:lnTo>
                    <a:lnTo>
                      <a:pt x="133" y="399"/>
                    </a:lnTo>
                    <a:lnTo>
                      <a:pt x="100" y="428"/>
                    </a:lnTo>
                    <a:lnTo>
                      <a:pt x="70" y="461"/>
                    </a:lnTo>
                    <a:lnTo>
                      <a:pt x="45" y="496"/>
                    </a:lnTo>
                    <a:lnTo>
                      <a:pt x="25" y="535"/>
                    </a:lnTo>
                    <a:lnTo>
                      <a:pt x="10" y="576"/>
                    </a:lnTo>
                    <a:lnTo>
                      <a:pt x="2" y="618"/>
                    </a:lnTo>
                    <a:lnTo>
                      <a:pt x="0" y="662"/>
                    </a:lnTo>
                    <a:lnTo>
                      <a:pt x="2" y="704"/>
                    </a:lnTo>
                    <a:lnTo>
                      <a:pt x="10" y="746"/>
                    </a:lnTo>
                    <a:lnTo>
                      <a:pt x="25" y="787"/>
                    </a:lnTo>
                    <a:lnTo>
                      <a:pt x="45" y="826"/>
                    </a:lnTo>
                    <a:lnTo>
                      <a:pt x="70" y="862"/>
                    </a:lnTo>
                    <a:lnTo>
                      <a:pt x="100" y="894"/>
                    </a:lnTo>
                    <a:lnTo>
                      <a:pt x="133" y="923"/>
                    </a:lnTo>
                    <a:lnTo>
                      <a:pt x="170" y="947"/>
                    </a:lnTo>
                    <a:lnTo>
                      <a:pt x="210" y="966"/>
                    </a:lnTo>
                    <a:lnTo>
                      <a:pt x="253" y="980"/>
                    </a:lnTo>
                    <a:lnTo>
                      <a:pt x="298" y="989"/>
                    </a:lnTo>
                    <a:lnTo>
                      <a:pt x="341" y="992"/>
                    </a:lnTo>
                    <a:lnTo>
                      <a:pt x="386" y="989"/>
                    </a:lnTo>
                    <a:lnTo>
                      <a:pt x="431" y="982"/>
                    </a:lnTo>
                    <a:close/>
                  </a:path>
                </a:pathLst>
              </a:custGeom>
              <a:solidFill>
                <a:srgbClr val="ccffff"/>
              </a:solidFill>
              <a:ln w="6480">
                <a:solidFill>
                  <a:srgbClr val="00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81280" y="4525920"/>
                <a:ext cx="3429000" cy="3430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800000"/>
                    </a:solidFill>
                    <a:latin typeface="Verdana"/>
                  </a:rPr>
                  <a:t>DIGITAL LIBRA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1798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6370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0942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514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0086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465880" y="5372280"/>
                <a:ext cx="342720" cy="457200"/>
              </a:xfrm>
              <a:prstGeom prst="upArrow">
                <a:avLst>
                  <a:gd name="adj1" fmla="val 50000"/>
                  <a:gd name="adj2" fmla="val 33351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477120" y="4906800"/>
                <a:ext cx="2036520" cy="292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800000"/>
                    </a:solidFill>
                    <a:latin typeface="Verdana"/>
                  </a:rPr>
                  <a:t>Production Hous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086600" y="5364000"/>
                <a:ext cx="343080" cy="457200"/>
              </a:xfrm>
              <a:prstGeom prst="upArrow">
                <a:avLst>
                  <a:gd name="adj1" fmla="val 50000"/>
                  <a:gd name="adj2" fmla="val 33316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7391520" y="3230640"/>
                <a:ext cx="1523880" cy="960480"/>
                <a:chOff x="7391520" y="3230640"/>
                <a:chExt cx="1523880" cy="9604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391520" y="3230640"/>
                  <a:ext cx="1523880" cy="96048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729920" y="3422520"/>
                  <a:ext cx="1072080" cy="5119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200" spc="-1" strike="noStrike">
                      <a:solidFill>
                        <a:srgbClr val="800000"/>
                      </a:solidFill>
                      <a:latin typeface="Arial Narrow"/>
                    </a:rPr>
                    <a:t>Self Learning Facilities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6705720" y="3611520"/>
                <a:ext cx="1523880" cy="914400"/>
                <a:chOff x="6705720" y="3611520"/>
                <a:chExt cx="1523880" cy="91440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6705720" y="3611520"/>
                  <a:ext cx="1523880" cy="91440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044120" y="3794400"/>
                  <a:ext cx="1072080" cy="4874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900" spc="-1" strike="noStrike">
                      <a:solidFill>
                        <a:srgbClr val="800000"/>
                      </a:solidFill>
                      <a:latin typeface="Verdana"/>
                    </a:rPr>
                    <a:t>Learning Management Systems</a:t>
                  </a:r>
                  <a:endParaRPr b="0" lang="en-US" sz="9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6608880" y="4457880"/>
                <a:ext cx="1790640" cy="533160"/>
                <a:chOff x="6608880" y="4457880"/>
                <a:chExt cx="1790640" cy="5331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6608880" y="4457880"/>
                  <a:ext cx="1790640" cy="533160"/>
                </a:xfrm>
                <a:custGeom>
                  <a:avLst/>
                  <a:gdLst/>
                  <a:ahLst/>
                  <a:rect l="l" t="t" r="r" b="b"/>
                  <a:pathLst>
                    <a:path w="2934" h="1322">
                      <a:moveTo>
                        <a:pt x="431" y="982"/>
                      </a:moveTo>
                      <a:lnTo>
                        <a:pt x="464" y="1033"/>
                      </a:lnTo>
                      <a:lnTo>
                        <a:pt x="501" y="1081"/>
                      </a:lnTo>
                      <a:lnTo>
                        <a:pt x="544" y="1126"/>
                      </a:lnTo>
                      <a:lnTo>
                        <a:pt x="592" y="1167"/>
                      </a:lnTo>
                      <a:lnTo>
                        <a:pt x="642" y="1205"/>
                      </a:lnTo>
                      <a:lnTo>
                        <a:pt x="694" y="1236"/>
                      </a:lnTo>
                      <a:lnTo>
                        <a:pt x="750" y="1264"/>
                      </a:lnTo>
                      <a:lnTo>
                        <a:pt x="810" y="1286"/>
                      </a:lnTo>
                      <a:lnTo>
                        <a:pt x="870" y="1304"/>
                      </a:lnTo>
                      <a:lnTo>
                        <a:pt x="933" y="1315"/>
                      </a:lnTo>
                      <a:lnTo>
                        <a:pt x="995" y="1322"/>
                      </a:lnTo>
                      <a:lnTo>
                        <a:pt x="1058" y="1322"/>
                      </a:lnTo>
                      <a:lnTo>
                        <a:pt x="1121" y="1318"/>
                      </a:lnTo>
                      <a:lnTo>
                        <a:pt x="1184" y="1307"/>
                      </a:lnTo>
                      <a:lnTo>
                        <a:pt x="1244" y="1292"/>
                      </a:lnTo>
                      <a:lnTo>
                        <a:pt x="1304" y="1271"/>
                      </a:lnTo>
                      <a:lnTo>
                        <a:pt x="1362" y="1244"/>
                      </a:lnTo>
                      <a:lnTo>
                        <a:pt x="1414" y="1214"/>
                      </a:lnTo>
                      <a:lnTo>
                        <a:pt x="1467" y="1178"/>
                      </a:lnTo>
                      <a:lnTo>
                        <a:pt x="1517" y="1214"/>
                      </a:lnTo>
                      <a:lnTo>
                        <a:pt x="1572" y="1244"/>
                      </a:lnTo>
                      <a:lnTo>
                        <a:pt x="1630" y="1271"/>
                      </a:lnTo>
                      <a:lnTo>
                        <a:pt x="1688" y="1292"/>
                      </a:lnTo>
                      <a:lnTo>
                        <a:pt x="1750" y="1307"/>
                      </a:lnTo>
                      <a:lnTo>
                        <a:pt x="1811" y="1318"/>
                      </a:lnTo>
                      <a:lnTo>
                        <a:pt x="1876" y="1322"/>
                      </a:lnTo>
                      <a:lnTo>
                        <a:pt x="1939" y="1322"/>
                      </a:lnTo>
                      <a:lnTo>
                        <a:pt x="2001" y="1315"/>
                      </a:lnTo>
                      <a:lnTo>
                        <a:pt x="2064" y="1304"/>
                      </a:lnTo>
                      <a:lnTo>
                        <a:pt x="2124" y="1286"/>
                      </a:lnTo>
                      <a:lnTo>
                        <a:pt x="2182" y="1264"/>
                      </a:lnTo>
                      <a:lnTo>
                        <a:pt x="2240" y="1236"/>
                      </a:lnTo>
                      <a:lnTo>
                        <a:pt x="2292" y="1205"/>
                      </a:lnTo>
                      <a:lnTo>
                        <a:pt x="2342" y="1167"/>
                      </a:lnTo>
                      <a:lnTo>
                        <a:pt x="2390" y="1126"/>
                      </a:lnTo>
                      <a:lnTo>
                        <a:pt x="2430" y="1081"/>
                      </a:lnTo>
                      <a:lnTo>
                        <a:pt x="2470" y="1033"/>
                      </a:lnTo>
                      <a:lnTo>
                        <a:pt x="2503" y="982"/>
                      </a:lnTo>
                      <a:lnTo>
                        <a:pt x="2546" y="989"/>
                      </a:lnTo>
                      <a:lnTo>
                        <a:pt x="2591" y="992"/>
                      </a:lnTo>
                      <a:lnTo>
                        <a:pt x="2636" y="989"/>
                      </a:lnTo>
                      <a:lnTo>
                        <a:pt x="2681" y="980"/>
                      </a:lnTo>
                      <a:lnTo>
                        <a:pt x="2724" y="966"/>
                      </a:lnTo>
                      <a:lnTo>
                        <a:pt x="2764" y="947"/>
                      </a:lnTo>
                      <a:lnTo>
                        <a:pt x="2799" y="923"/>
                      </a:lnTo>
                      <a:lnTo>
                        <a:pt x="2834" y="894"/>
                      </a:lnTo>
                      <a:lnTo>
                        <a:pt x="2864" y="862"/>
                      </a:lnTo>
                      <a:lnTo>
                        <a:pt x="2889" y="826"/>
                      </a:lnTo>
                      <a:lnTo>
                        <a:pt x="2907" y="787"/>
                      </a:lnTo>
                      <a:lnTo>
                        <a:pt x="2922" y="746"/>
                      </a:lnTo>
                      <a:lnTo>
                        <a:pt x="2932" y="704"/>
                      </a:lnTo>
                      <a:lnTo>
                        <a:pt x="2934" y="662"/>
                      </a:lnTo>
                      <a:lnTo>
                        <a:pt x="2932" y="618"/>
                      </a:lnTo>
                      <a:lnTo>
                        <a:pt x="2922" y="576"/>
                      </a:lnTo>
                      <a:lnTo>
                        <a:pt x="2907" y="535"/>
                      </a:lnTo>
                      <a:lnTo>
                        <a:pt x="2889" y="496"/>
                      </a:lnTo>
                      <a:lnTo>
                        <a:pt x="2864" y="461"/>
                      </a:lnTo>
                      <a:lnTo>
                        <a:pt x="2834" y="428"/>
                      </a:lnTo>
                      <a:lnTo>
                        <a:pt x="2799" y="399"/>
                      </a:lnTo>
                      <a:lnTo>
                        <a:pt x="2764" y="375"/>
                      </a:lnTo>
                      <a:lnTo>
                        <a:pt x="2724" y="356"/>
                      </a:lnTo>
                      <a:lnTo>
                        <a:pt x="2681" y="342"/>
                      </a:lnTo>
                      <a:lnTo>
                        <a:pt x="2636" y="333"/>
                      </a:lnTo>
                      <a:lnTo>
                        <a:pt x="2591" y="330"/>
                      </a:lnTo>
                      <a:lnTo>
                        <a:pt x="2546" y="333"/>
                      </a:lnTo>
                      <a:lnTo>
                        <a:pt x="2503" y="340"/>
                      </a:lnTo>
                      <a:lnTo>
                        <a:pt x="2470" y="289"/>
                      </a:lnTo>
                      <a:lnTo>
                        <a:pt x="2430" y="241"/>
                      </a:lnTo>
                      <a:lnTo>
                        <a:pt x="2390" y="196"/>
                      </a:lnTo>
                      <a:lnTo>
                        <a:pt x="2342" y="155"/>
                      </a:lnTo>
                      <a:lnTo>
                        <a:pt x="2292" y="117"/>
                      </a:lnTo>
                      <a:lnTo>
                        <a:pt x="2240" y="86"/>
                      </a:lnTo>
                      <a:lnTo>
                        <a:pt x="2182" y="58"/>
                      </a:lnTo>
                      <a:lnTo>
                        <a:pt x="2124" y="36"/>
                      </a:lnTo>
                      <a:lnTo>
                        <a:pt x="2064" y="19"/>
                      </a:lnTo>
                      <a:lnTo>
                        <a:pt x="2001" y="7"/>
                      </a:lnTo>
                      <a:lnTo>
                        <a:pt x="1939" y="1"/>
                      </a:lnTo>
                      <a:lnTo>
                        <a:pt x="1876" y="0"/>
                      </a:lnTo>
                      <a:lnTo>
                        <a:pt x="1811" y="4"/>
                      </a:lnTo>
                      <a:lnTo>
                        <a:pt x="1750" y="15"/>
                      </a:lnTo>
                      <a:lnTo>
                        <a:pt x="1688" y="31"/>
                      </a:lnTo>
                      <a:lnTo>
                        <a:pt x="1630" y="52"/>
                      </a:lnTo>
                      <a:lnTo>
                        <a:pt x="1572" y="78"/>
                      </a:lnTo>
                      <a:lnTo>
                        <a:pt x="1517" y="108"/>
                      </a:lnTo>
                      <a:lnTo>
                        <a:pt x="1467" y="144"/>
                      </a:lnTo>
                      <a:lnTo>
                        <a:pt x="1414" y="108"/>
                      </a:lnTo>
                      <a:lnTo>
                        <a:pt x="1362" y="78"/>
                      </a:lnTo>
                      <a:lnTo>
                        <a:pt x="1304" y="52"/>
                      </a:lnTo>
                      <a:lnTo>
                        <a:pt x="1244" y="31"/>
                      </a:lnTo>
                      <a:lnTo>
                        <a:pt x="1184" y="15"/>
                      </a:lnTo>
                      <a:lnTo>
                        <a:pt x="1121" y="4"/>
                      </a:lnTo>
                      <a:lnTo>
                        <a:pt x="1058" y="0"/>
                      </a:lnTo>
                      <a:lnTo>
                        <a:pt x="995" y="1"/>
                      </a:lnTo>
                      <a:lnTo>
                        <a:pt x="933" y="7"/>
                      </a:lnTo>
                      <a:lnTo>
                        <a:pt x="870" y="19"/>
                      </a:lnTo>
                      <a:lnTo>
                        <a:pt x="810" y="36"/>
                      </a:lnTo>
                      <a:lnTo>
                        <a:pt x="750" y="58"/>
                      </a:lnTo>
                      <a:lnTo>
                        <a:pt x="694" y="86"/>
                      </a:lnTo>
                      <a:lnTo>
                        <a:pt x="642" y="117"/>
                      </a:lnTo>
                      <a:lnTo>
                        <a:pt x="592" y="155"/>
                      </a:lnTo>
                      <a:lnTo>
                        <a:pt x="544" y="196"/>
                      </a:lnTo>
                      <a:lnTo>
                        <a:pt x="501" y="241"/>
                      </a:lnTo>
                      <a:lnTo>
                        <a:pt x="464" y="289"/>
                      </a:lnTo>
                      <a:lnTo>
                        <a:pt x="431" y="340"/>
                      </a:lnTo>
                      <a:lnTo>
                        <a:pt x="386" y="333"/>
                      </a:lnTo>
                      <a:lnTo>
                        <a:pt x="341" y="330"/>
                      </a:lnTo>
                      <a:lnTo>
                        <a:pt x="298" y="333"/>
                      </a:lnTo>
                      <a:lnTo>
                        <a:pt x="253" y="342"/>
                      </a:lnTo>
                      <a:lnTo>
                        <a:pt x="210" y="356"/>
                      </a:lnTo>
                      <a:lnTo>
                        <a:pt x="170" y="375"/>
                      </a:lnTo>
                      <a:lnTo>
                        <a:pt x="133" y="399"/>
                      </a:lnTo>
                      <a:lnTo>
                        <a:pt x="100" y="428"/>
                      </a:lnTo>
                      <a:lnTo>
                        <a:pt x="70" y="461"/>
                      </a:lnTo>
                      <a:lnTo>
                        <a:pt x="45" y="496"/>
                      </a:lnTo>
                      <a:lnTo>
                        <a:pt x="25" y="535"/>
                      </a:lnTo>
                      <a:lnTo>
                        <a:pt x="10" y="576"/>
                      </a:lnTo>
                      <a:lnTo>
                        <a:pt x="2" y="618"/>
                      </a:lnTo>
                      <a:lnTo>
                        <a:pt x="0" y="662"/>
                      </a:lnTo>
                      <a:lnTo>
                        <a:pt x="2" y="704"/>
                      </a:lnTo>
                      <a:lnTo>
                        <a:pt x="10" y="746"/>
                      </a:lnTo>
                      <a:lnTo>
                        <a:pt x="25" y="787"/>
                      </a:lnTo>
                      <a:lnTo>
                        <a:pt x="45" y="826"/>
                      </a:lnTo>
                      <a:lnTo>
                        <a:pt x="70" y="862"/>
                      </a:lnTo>
                      <a:lnTo>
                        <a:pt x="100" y="894"/>
                      </a:lnTo>
                      <a:lnTo>
                        <a:pt x="133" y="923"/>
                      </a:lnTo>
                      <a:lnTo>
                        <a:pt x="170" y="947"/>
                      </a:lnTo>
                      <a:lnTo>
                        <a:pt x="210" y="966"/>
                      </a:lnTo>
                      <a:lnTo>
                        <a:pt x="253" y="980"/>
                      </a:lnTo>
                      <a:lnTo>
                        <a:pt x="298" y="989"/>
                      </a:lnTo>
                      <a:lnTo>
                        <a:pt x="341" y="992"/>
                      </a:lnTo>
                      <a:lnTo>
                        <a:pt x="386" y="989"/>
                      </a:lnTo>
                      <a:lnTo>
                        <a:pt x="431" y="98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006680" y="4564440"/>
                  <a:ext cx="1260000" cy="2840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800000"/>
                      </a:solidFill>
                      <a:latin typeface="Verdana"/>
                    </a:rPr>
                    <a:t>MULTIMEDIA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7" name=""/>
            <p:cNvSpPr/>
            <p:nvPr/>
          </p:nvSpPr>
          <p:spPr>
            <a:xfrm>
              <a:off x="2133720" y="6019920"/>
              <a:ext cx="5562360" cy="49536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800000"/>
                  </a:solidFill>
                  <a:latin typeface="Verdana"/>
                </a:rPr>
                <a:t>5C: Computer, Communication, Contents, ……………….COMMITMENT and CA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03EB-EF04-4D74-BE2E-0F7D1246A10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26387-E1E6-4AFC-86B8-14E0B0484E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133720" y="1219320"/>
            <a:ext cx="4647960" cy="154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SELESAI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657600" y="3352680"/>
            <a:ext cx="1752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The END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2520" y="3657240"/>
            <a:ext cx="3581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THE END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6E45-8061-4FFF-A02D-75CDDAEC8EE7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CED8FC7-E2E7-408D-8B19-8A8E0FAA960C}" type="datetime1">
              <a:rPr lang="en-US"/>
              <a:t>07/28/26</a:t>
            </a:fld>
          </a:p>
        </p:txBody>
      </p:sp>
    </p:spTree>
  </p:cSld>
  <p:transition spd="slow" advTm="31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utiara S. Sadjad</cp:lastModifiedBy>
  <dcterms:modified xsi:type="dcterms:W3CDTF">2007-03-22T13:14:47Z</dcterms:modified>
  <cp:revision>22</cp:revision>
  <dc:subject/>
  <dc:title>PowerPoint Presentation</dc:title>
</cp:coreProperties>
</file>