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14.png" ContentType="image/png"/>
  <Override PartName="/ppt/media/image25.wmf" ContentType="image/x-wmf"/>
  <Override PartName="/ppt/media/RICOCHET.WAV" ContentType="audio/x-wav"/>
  <Override PartName="/ppt/media/image3.wmf" ContentType="image/x-wmf"/>
  <Override PartName="/ppt/media/image33.wmf" ContentType="image/x-wmf"/>
  <Override PartName="/ppt/media/image23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CHIMES.WAV" ContentType="audio/x-wav"/>
  <Override PartName="/ppt/media/image11.wmf" ContentType="image/x-wmf"/>
  <Override PartName="/ppt/media/image20.jpeg" ContentType="image/jpeg"/>
  <Override PartName="/ppt/media/image7.wmf" ContentType="image/x-wmf"/>
  <Override PartName="/ppt/media/image21.jpeg" ContentType="image/jpeg"/>
  <Override PartName="/ppt/media/image32.wmf" ContentType="image/x-wmf"/>
  <Override PartName="/ppt/media/image13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image3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30C-2098-4143-8D53-01C30B2F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064-F587-4B45-A8D4-C3242D9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FAD-F742-4415-9F76-D6CD8ECF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888-AE95-4987-8898-4316834B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2D6F-A48E-47AD-807D-704E1661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FB9E-A53D-4AF6-92D8-74B54D0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AD9-E7F8-4B10-AE29-C4C4892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DE14-BB43-4E1E-8D35-74683B5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3A66-906F-437E-983F-21BB0AEB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944E-29E6-44E6-B061-75B4DFA6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F895-6F9E-4EDA-A112-DC7F298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2D6-B4DA-4F8E-8A58-CBE28678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6B72-6E8E-4401-AF8E-2AA4C36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2AA-5C7C-4F08-8873-D5B69BA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F3A9-BE9E-48B5-96AA-87A3E931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B040-560B-410F-B016-8B28AB1A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72E9-41D5-4477-A927-8893AE37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3BA-E8C1-40AA-8EDF-051EE134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939-0EF8-41AE-9729-FDB1895F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1C4-A097-4C88-8EF6-DDC1028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ED4-4424-4053-949F-69ABAC1B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3EF-9A6D-4354-BDD0-7301E4C2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409-4461-4751-BFC2-FF5972B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FCB-31D0-433B-977B-8413B08A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C44A-C4BE-40C5-8223-A71F4A29CAC3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4AB-D924-4971-A7C9-614AADA47D8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F4F-8E35-441C-8917-ABD95C1F418E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FAA0-E4F1-4BF6-ABA9-4078BA65AA5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hiza@unhas.ac.id" TargetMode="External"/><Relationship Id="rId2" Type="http://schemas.openxmlformats.org/officeDocument/2006/relationships/hyperlink" Target="http://www.unhas.ac.id/~rhiz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audio" Target="../media/CASHREG.WAV"/><Relationship Id="rId18" Type="http://schemas.openxmlformats.org/officeDocument/2006/relationships/audio" Target="../media/RICOCHET.WAV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4640" y="1295280"/>
            <a:ext cx="5408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Teknologi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Pendidika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hiza S. Sadj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rhiza@unhas.ac.id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unhas.ac.id/~rhiza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urusan Teknik Elektro Fakultas Tek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UNIVERSITAS HASANUDDIN Makass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5704-E5BB-4FFF-B10B-18CCAE6471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93FF2CC-5C84-47E7-8192-3C5C5C2293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ari Hiroshima-Nagasaki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ke WTC 911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ampai Bom di Bali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…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. dan Makassa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gressi AS dan sekutunya ke IRAQ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CF2-FD73-4FB0-AB50-79030A458A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F68A9-CAFE-4D95-9821-B3F34CE4B0A1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empus Sans ITC"/>
              </a:rPr>
              <a:t>Sekilas Sejarah Peradab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752480"/>
          <a:ext cx="8381880" cy="4019760"/>
        </p:xfrm>
        <a:graphic>
          <a:graphicData uri="http://schemas.openxmlformats.org/drawingml/2006/table">
            <a:tbl>
              <a:tblPr/>
              <a:tblGrid>
                <a:gridCol w="2793960"/>
                <a:gridCol w="2616120"/>
                <a:gridCol w="2971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96D-C13F-49C8-9B1F-3D66505D52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332DE-D03C-4667-8CB1-5AF0D9B1014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SITUASI HARI IN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</a:rPr>
              <a:t>Gambaran situasi GLOBAL masa kini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Persaingan Global (yang sudah usai?) di era pasar beb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Meningkatnya kekerasan dan kerusuh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Bencana alam di mana-mana, musibah…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cepat, serba jalan pintas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                       </a:t>
            </a: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 STRESSSSSS ………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72E-CB67-44CB-AB41-AE804656F1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29FBF-9106-4E7A-88AE-C2D5EB9D0A9C}" type="datetime1">
              <a:rPr lang="en-US"/>
              <a:t>07/31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2F9-0557-43C4-95DA-87C6BFBC4F8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AE3A0-715D-4D89-90DE-85DB61E50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591-AC55-49A4-ADF7-9BB9A98E567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EDBC2-F06C-4BDB-8FA7-AEA369BD8A0E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069-E6DC-44BD-8DA9-BFC5206AEF4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2B9E0-181B-4D68-A159-A0B4A40077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empus Sans ITC"/>
              </a:rPr>
              <a:t>ERA INFORMASI GLOBAL 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200b5b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457200"/>
            <a:ext cx="3809880" cy="335268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A3D-2107-4507-B397-24859518013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CF157-15E2-4FCB-A697-5F3722F52911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397-EF8D-4CE9-942F-12432E0FFF1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D0061-3E18-4BD3-9CC4-CC3326D5E5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321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COMPU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Mesin Ketik Canggih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HIBURAN: Games, VC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Lemari ARSIP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KOMUNIK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Bantu ADMINISTR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E5411-C465-4EAA-997A-48690DBE0517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"/>
              </a:rPr>
              <a:t>PENDIDIKAN 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57200"/>
            <a:ext cx="7010280" cy="6400800"/>
          </a:xfrm>
          <a:prstGeom prst="ellipse">
            <a:avLst/>
          </a:prstGeom>
          <a:noFill/>
          <a:ln w="381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743200"/>
            <a:ext cx="1524240" cy="13716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PROSES BELAJAR-MENGAJ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1981080" cy="141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657600" y="3657600"/>
          <a:ext cx="1600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657600"/>
                    <a:ext cx="1600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048120" y="1828800"/>
          <a:ext cx="1771560" cy="19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828800"/>
                    <a:ext cx="1771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19920" y="4876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Comic Sans MS"/>
              </a:rPr>
              <a:t>Pendidikan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: FORMAL INFORMAL NON-FOR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91A-28A6-4159-9ADA-746331BA6A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5B185-1773-4C48-B754-07C899CB61CF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572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Next …………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TIK di Perguruan Tingg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B79A-03C8-4D73-8EAF-D8866DB100B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D9D889B-702F-48FB-9EBD-54DDB238CB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Topik DISKUSI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Pergeseran PARADIGMA Proses BELAJAR-MENGAJA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dari PENGAJARAN ke PEMBELAJAR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EACHING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o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LEARN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TEACHER-oriented to STUDENT-centere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INSTRUCTIONAL to EDUCATIONAL Techn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561-86A2-4B60-BF9D-F239B8D346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9D826-611F-48E4-A462-54CDC19948C3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Teaching is …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295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empus Sans ITC"/>
              </a:rPr>
              <a:t>about providing opportunities for students </a:t>
            </a:r>
            <a:r>
              <a:rPr b="1" lang="en-US" sz="4800" spc="-1" strike="noStrike">
                <a:solidFill>
                  <a:srgbClr val="eaeaea"/>
                </a:solidFill>
                <a:latin typeface="Tempus Sans ITC"/>
              </a:rPr>
              <a:t>to learn</a:t>
            </a:r>
            <a:r>
              <a:rPr b="0" lang="en-US" sz="6000" spc="-1" strike="noStrike">
                <a:solidFill>
                  <a:srgbClr val="eaeaea"/>
                </a:solidFill>
                <a:latin typeface="Tempus Sans ITC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971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26708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KNOW – how to lea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ABLE TO – learn m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– the BE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…</a:t>
            </a: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.. to learn WHAT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FAA-B87C-4C35-B050-141CFBD3402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72A98-2AD5-4AF6-9630-CF6BA4ED47FA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PROSES PEMBELAJAR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676520"/>
            <a:ext cx="73911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516-67D7-4DB7-B2F7-68F9235CABB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4B970-709E-473C-95A1-86006C3D1F7F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eaching Format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examples)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3C50F-F6F0-460B-8D49-7FD4C532951C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4100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Teaching is a </a:t>
            </a:r>
            <a:r>
              <a:rPr b="0" lang="en-US" sz="4400" spc="-1" strike="noStrike" u="sng">
                <a:solidFill>
                  <a:srgbClr val="003399"/>
                </a:solidFill>
                <a:uFillTx/>
                <a:latin typeface="Tempus Sans ITC"/>
              </a:rPr>
              <a:t>SKILL</a:t>
            </a: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19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7E643-4DD2-4A18-9FB8-A8DD1E06867F}" type="datetime1">
              <a:rPr lang="en-US"/>
              <a:t>07/31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Times New Roman"/>
              </a:rPr>
              <a:t>Today’s Situ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992C7-7E75-47BE-98CD-721955A57A2B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3276720"/>
            <a:ext cx="70106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TIV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TIV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29000" y="33526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OTIV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0292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824-BFE0-48FF-BFFA-82FCBB4D2A7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0BF25-B55F-4C0C-89D9-C13A7B5FF4D8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7-30T13:16:45Z</dcterms:modified>
  <cp:revision>19</cp:revision>
  <dc:subject/>
  <dc:title>PowerPoint Presentation</dc:title>
</cp:coreProperties>
</file>