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.png" ContentType="image/png"/>
  <Override PartName="/ppt/media/image6.wmf" ContentType="image/x-wmf"/>
  <Override PartName="/ppt/media/image1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CHIMES.WAV" ContentType="audio/x-wav"/>
  <Override PartName="/ppt/media/image5.jpeg" ContentType="image/jpeg"/>
  <Override PartName="/ppt/media/image9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A025-F6D5-4CCE-9723-8D0F681C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D1CA-AB07-4CBD-93B1-AC8A7448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8DCA-7674-4429-928D-F854DA6E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5644-0346-4270-B39E-9E7AB269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7151-EDED-47F5-BCBC-FF7ADAAA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9DD4-3567-4F61-AB01-874336BF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D1AA-126A-4124-9DE3-F3D8E124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CF1B-5537-49C3-A007-3453F559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FB74-CF63-4951-BE4A-A69DDF57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0065-0FF8-48FD-B69E-F2A2A897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D1A4-AEDF-414B-B5E0-15F49F69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9B1A-7101-42F1-BCEB-E8C2F654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C8EB-9699-40AA-9DB7-AFD0EF88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CBED-CE7D-4EEC-88A2-22BC2949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11B5-4805-41CF-8752-DF76EC6B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75FF-0500-4215-9E73-C46C5A8A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2118-8DBD-4D32-BDD8-DE837DC1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C79E-CBEF-4767-A394-417CFCC3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C810-3A85-4DC8-B562-410CDD08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3294-4941-4E74-9730-C8E8EEFA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F139-D5E4-4F2B-A8BE-D5AB8586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41BC-BC39-4A24-8A4B-46EFB3D6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B28F-92A0-4282-A486-48349DBC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6370-0FE4-4D39-ABD0-8A2CBE90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71A3-1967-4870-89EB-524B698C976E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60C3-D9D1-4F7A-AED9-66F21377992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9BA9-AB17-413E-927D-8B3F5EC4B544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1BD9-72B3-4E30-9394-CF753F2FFA0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1.wmf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51460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PROSES PEMBELAJARA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88D9-0CE4-4519-825C-5116A1D414A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89242B0-72E8-4F2F-98C4-252063A234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66720" y="685440"/>
            <a:ext cx="8477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is .............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............……....about providing ……opportunities for students ………………………...to learn</a:t>
            </a:r>
            <a:r>
              <a:rPr b="0" lang="en-US" sz="6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4876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(TIW Batch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403848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Jone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ed. . [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2000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], “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Times New Roman"/>
              </a:rPr>
              <a:t>CURRICULUM DEVELOPMENT, S1 Engineering Programs in Indonesi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”, page 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547FFBC-D81B-482D-B33D-298F5D7F1D42}" type="datetime1">
              <a:rPr lang="en-US"/>
              <a:t>07/31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590920" cy="1847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ses Pembelajar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219320"/>
            <a:ext cx="8001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2 (dua) kategori proses pembelajaran kurikuler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proses pembelajaran di 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) melalui tatap-muka yang dijadwalkan secara reguler dalam semester-seme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non-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non-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), yang tidak terjadwal secara reguler, misalnya matakuliah Seminar, Kerja Praktek, Praktikum, Skripsi, Praktek Lapang, Kuliah Kerja Nyata, dan lain-lain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57150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+ proses pembelajaran non-kurikul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CA69-CA17-49E7-B3CB-894DA07C329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64574-1A71-4E63-BD2F-83C51978C241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2148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 Formats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(examples)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95440" y="1828440"/>
            <a:ext cx="494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STER-APPRENT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Y CIRCLE (TUTOR-NOVIC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K and CHAL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EE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RILL (PRACTICE, TEST, EXA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C3994-0CA3-4479-BB9A-AD62AC5C85B4}" type="datetime1">
              <a:rPr lang="en-US"/>
              <a:t>07/31/26</a:t>
            </a:fld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45720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aching is a </a:t>
            </a: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SKILL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!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per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y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chniq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a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............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ids ...............TECHN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724280" y="1828800"/>
            <a:ext cx="3733920" cy="3733920"/>
            <a:chOff x="4724280" y="1828800"/>
            <a:chExt cx="3733920" cy="3733920"/>
          </a:xfrm>
        </p:grpSpPr>
        <p:sp>
          <p:nvSpPr>
            <p:cNvPr id="118" name=""/>
            <p:cNvSpPr/>
            <p:nvPr/>
          </p:nvSpPr>
          <p:spPr>
            <a:xfrm>
              <a:off x="4724280" y="1828800"/>
              <a:ext cx="3733920" cy="373392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52880" y="3200400"/>
              <a:ext cx="32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EDUCATIONAL TECHNOLOGY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309840" y="1828800"/>
            <a:ext cx="2479680" cy="2666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76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8803F-6627-4B1D-A2C6-3A004CAF461E}" type="datetime1">
              <a:rPr lang="en-US"/>
              <a:t>07/31/26</a:t>
            </a:fld>
          </a:p>
        </p:txBody>
      </p:sp>
    </p:spTree>
  </p:cSld>
  <p:transition spd="slow">
    <p:wipe dir="r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086600" y="4572000"/>
          <a:ext cx="1736640" cy="188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457200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648320" y="4191120"/>
          <a:ext cx="1538280" cy="21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4191120"/>
                    <a:ext cx="153828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590920" y="4876920"/>
          <a:ext cx="188424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487692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92160" y="259056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as a teaching tool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for HIGHER EDUCATION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why ??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31D94-96DB-41C6-8562-7F952C81279F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bd189"/>
                </a:solidFill>
                <a:uFillTx/>
                <a:latin typeface="Arial"/>
              </a:rPr>
              <a:t>Available Options: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ANALISIS dan DESAIN (iterasi, simulasi, praktikum, dll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proses pembelajaran (presentasi, animasi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udio-visual aid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ll. --------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ULTIMEDI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838080"/>
            <a:ext cx="3810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Aided Engineering ...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019920" y="380880"/>
          <a:ext cx="2590560" cy="24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80880"/>
                    <a:ext cx="259056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AA7C1-DE18-46D9-B7E2-FDD72FBE1C9A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toh-contoh aplikasi dalam proses pembelajaran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“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generik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, seperti Microsoft Office: Word, Excell, Power Poi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khusus untuk pemodelan, analisis, animasi, seperti MATLAB, SPICE, Macromedia, d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3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pembelajaran menggunakan jaringan komputer dan Internet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distant learn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web-based interactiv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sb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4241-6E96-45DF-A849-130D2ACE140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76339-D284-4AAB-9055-C19F5DC2BB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4796-D7F1-4251-8C41-05F531765F7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0835268-F6C9-4A5B-AD8E-9EB4DCA3370B}" type="datetime1">
              <a:rPr lang="en-US"/>
              <a:t>07/31/26</a:t>
            </a:fld>
          </a:p>
        </p:txBody>
      </p:sp>
    </p:spTree>
  </p:cSld>
  <p:transition spd="slow" advTm="31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Xp</cp:lastModifiedBy>
  <dcterms:modified xsi:type="dcterms:W3CDTF">2005-09-21T03:03:30Z</dcterms:modified>
  <cp:revision>55</cp:revision>
  <dc:subject/>
  <dc:title>PowerPoint Presentation</dc:title>
</cp:coreProperties>
</file>