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24.png" ContentType="image/png"/>
  <Override PartName="/ppt/media/image1.png" ContentType="image/png"/>
  <Override PartName="/ppt/media/CHIMES.WAV" ContentType="audio/x-wav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E0B-8C49-46FE-A176-09506A05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526-08E5-4D65-85CB-0E133F83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4EB-6C1D-4074-B08F-5881C5FD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306-B863-4F05-8CAE-B914CCC9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FA3-3767-4CBA-9CB1-A7DB46E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8C99-76D2-4830-80A5-CD7DAC8D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5FA9-873C-4503-A556-979DD84A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FD17-8B54-4DD5-A46B-07634332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A1BD-837B-46F2-83BC-C43CD088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43E5-C12B-479C-AB04-6623361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3652-E60F-48CE-8161-8D19504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DCF-A0C1-4C54-ADEB-5671ABE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685A-0CD8-4DAD-8B95-C3D3755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07F7-7A12-413B-9DD3-5BB7F27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B045-C2B8-4ED4-B2BC-07E3AF7C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06C1-6448-497D-AA9F-FAA68E0F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7BE8-E145-457E-B184-FBFE5B5D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201-F5CC-4346-96C4-BAE6F3B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B9D-4479-4228-BDD4-838F9170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241-20E9-4DCE-BC2A-84C54069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E46-3772-49DD-AA01-3794F9CB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FBF1-3A00-4385-AAAF-1B6CB73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FF2-D239-4F82-9E06-0532A288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5FB-CF0B-407C-A290-43960B2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91F-6641-44DD-A6BE-3ED53C85C533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4A7B-5398-4562-A54C-B87FA1043F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F52A-46D0-4D9F-A824-E1AAB6E225A8}" type="datetime">
              <a:rPr b="0" lang="en-US" sz="1400" spc="-1" strike="noStrike">
                <a:solidFill>
                  <a:srgbClr val="ebd189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1DC4-33E6-49B2-932A-6E416ACB34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image" Target="../media/image7.wmf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1371240"/>
            <a:ext cx="63993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Tahoma"/>
              </a:rPr>
              <a:t>PROSES  PEMBELAJARAN MENGGUNAKAN </a:t>
            </a:r>
            <a:br>
              <a:rPr sz="2800"/>
            </a:br>
            <a:r>
              <a:rPr b="0" lang="en-US" sz="6000" spc="-1" strike="noStrike">
                <a:solidFill>
                  <a:srgbClr val="ebd189"/>
                </a:solidFill>
                <a:latin typeface="Tahoma"/>
              </a:rPr>
              <a:t>MULTIMEDIA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4920" y="43434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ebd189"/>
                </a:solidFill>
                <a:latin typeface="Tahoma"/>
                <a:ea typeface="Times New Roman"/>
              </a:rPr>
              <a:t>rhiza @ unhas.ac.id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URL: http: //www.unhas.ac.id/~rhiza/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A664-7C63-41F3-B0F5-51257890659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AC12AA-25AD-4AAD-99CE-645ACCD27A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 Formats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(examples)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STER-APPRENT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CIRCLE (TUTOR-NOVIC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K and CHAL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EE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RILL (PRACTICE, TEST, EXA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5CB1DB-098B-4DD1-A385-C20C8E3750C7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eaching is a </a:t>
            </a: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SKILL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l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xper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y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iq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e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............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ids ...............TECHNOLOG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72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fcab4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aeaea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602F7-1B1B-4E98-A415-E406E58AB40A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c1c1c"/>
                </a:solidFill>
                <a:latin typeface="Arial"/>
              </a:rPr>
              <a:t>Today’s Situation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5019-2E5D-4A9A-BBC3-9F0F58512FCA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COMPUT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as a teaching tool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for ENGINEERING EDUCATION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...... why ??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1E694-12A0-4B41-9C6B-500CD6349EA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ebd189"/>
                </a:solidFill>
                <a:uFillTx/>
                <a:latin typeface="Arial"/>
              </a:rPr>
              <a:t>Available Options: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ANALISIS dan DESAIN (iterasi, simulasi, praktikum, dll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uter sebagai alat bantu proses pembelajaran (presentasi, animasi,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udio-visual ai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, dll. --------</a:t>
            </a:r>
            <a:r>
              <a:rPr b="0" lang="en-US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MULTIMEDI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53930-25F8-4FFF-A421-1DE49D25778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UTU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8640" y="2437920"/>
            <a:ext cx="5715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enggunaan MULTIMED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lam proses pembelajara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lebiha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ekur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0" name="bd05515_" descr=""/>
          <p:cNvPicPr/>
          <p:nvPr/>
        </p:nvPicPr>
        <p:blipFill>
          <a:blip r:embed="rId1"/>
          <a:stretch/>
        </p:blipFill>
        <p:spPr>
          <a:xfrm>
            <a:off x="0" y="304920"/>
            <a:ext cx="3181320" cy="34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D7DF-51F9-4C6B-A9DC-7AA6209CF8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C7567-DEC3-48F7-8398-C09A245B9953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9816-423F-4949-8FBD-A78B2CD3DCE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EEA1526-B3C3-4444-99CF-2F03B42B1179}" type="datetime1">
              <a:rPr lang="en-US"/>
              <a:t>07/28/26</a:t>
            </a:fld>
          </a:p>
        </p:txBody>
      </p:sp>
    </p:spTree>
  </p:cSld>
  <p:transition spd="slow" advTm="31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bd189"/>
                </a:solidFill>
                <a:uFillTx/>
                <a:latin typeface="Arial"/>
              </a:rPr>
              <a:t>Teaching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is ............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1447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Arial"/>
              </a:rPr>
              <a:t>.................about providing opportunities for students to learn</a:t>
            </a:r>
            <a:r>
              <a:rPr b="0" lang="en-US" sz="6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eaeaea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B021A7-E8B8-4DAA-834A-F28B519DBF50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ENGANT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gapa kurikulum harus disusun dan diubah-ubah selalu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yang senantiasa berubah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Dunia Pendidikan dan Dunia Kerj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</a:rPr>
              <a:t>Gambaran situasi GLOBAL masa kini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Persaingan Global di era pasar beb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Meningkatnya kekerasan dan kerusuh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-56340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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cepat, serba jalan pintas,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634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          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ahoma"/>
                <a:ea typeface="Times New Roman"/>
              </a:rPr>
              <a:t>serba  STRESSSSSS ………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3F6-2500-463F-A619-2F9A5A9A36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F7915-7393-4BC4-B9F9-BA7CCA684B43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EAA0-8861-4604-8E19-C7B768C9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5FF9-5B8D-4511-AD7A-A31A75A965F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MDISAST" descr=""/>
          <p:cNvPicPr/>
          <p:nvPr/>
        </p:nvPicPr>
        <p:blipFill>
          <a:blip r:embed="rId1"/>
          <a:stretch/>
        </p:blipFill>
        <p:spPr>
          <a:xfrm>
            <a:off x="1905120" y="1592280"/>
            <a:ext cx="6906960" cy="5265720"/>
          </a:xfrm>
          <a:prstGeom prst="rect">
            <a:avLst/>
          </a:prstGeom>
          <a:ln w="0">
            <a:noFill/>
          </a:ln>
        </p:spPr>
      </p:pic>
      <p:pic>
        <p:nvPicPr>
          <p:cNvPr id="113" name="AMCONFUS" descr=""/>
          <p:cNvPicPr/>
          <p:nvPr/>
        </p:nvPicPr>
        <p:blipFill>
          <a:blip r:embed="rId2"/>
          <a:stretch/>
        </p:blipFill>
        <p:spPr>
          <a:xfrm>
            <a:off x="914400" y="11430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kassar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 Marriot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OM………BOM…….. BOM……BO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61000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752480"/>
          <a:ext cx="8381880" cy="38340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ra Peradab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ssue Sentral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ERTANIAN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LAHAN TANAM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DUSTR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ENERG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IROSHIMA NAGASAK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FORMAS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TC 91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E11-1C1E-42D6-A715-CD56EC4AC31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E530F-7415-4495-BA63-3C07A9109473}" type="datetime1">
              <a:rPr lang="en-US"/>
              <a:t>07/28/26</a:t>
            </a:fld>
          </a:p>
        </p:txBody>
      </p:sp>
    </p:spTree>
  </p:cSld>
  <p:transition spd="slow" advTm="6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93120" y="5398920"/>
          <a:ext cx="155088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3120" y="5398920"/>
                    <a:ext cx="155088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33920" y="685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600200"/>
            <a:ext cx="80010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Um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(ditetapkan pada tingkat Perguruan Tingg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(ditetapkan pada tingkat Fakultas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(ditetapkan pada tingkat Program Studi atau Jurusa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buClr>
                <a:srgbClr val="ebd18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189"/>
                </a:solidFill>
                <a:latin typeface="Tahoma"/>
              </a:rPr>
              <a:t>Sasaran Perilaku Khusus</a:t>
            </a: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 (ditetapkan pada tingkat Program Studi atau Konsrentrasi/Sub-Program Stdi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ENERG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TELEKOMUNIKAS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01680" indent="-231840"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d189"/>
                </a:solidFill>
                <a:latin typeface="Tahoma"/>
              </a:rPr>
              <a:t>SARJANA TEKNIK ELEKTRO Bidang TEKNIK KOMPUTER, KENDALI DAN  ELEKTRON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d18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62040" cy="1889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0" y="4427640"/>
            <a:ext cx="1965240" cy="24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7467480" y="304920"/>
          <a:ext cx="1676520" cy="113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304920"/>
                    <a:ext cx="167652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0" y="4576680"/>
          <a:ext cx="2286000" cy="228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57668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595-24D1-4298-8070-ACEE6DC4063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675D2-340C-464C-98FA-70DD857336FD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416640" y="0"/>
            <a:ext cx="2727360" cy="2100240"/>
          </a:xfrm>
          <a:prstGeom prst="rect">
            <a:avLst/>
          </a:prstGeom>
          <a:ln w="0">
            <a:noFill/>
          </a:ln>
        </p:spPr>
      </p:pic>
      <p:pic>
        <p:nvPicPr>
          <p:cNvPr id="130" name="AMORGANI" descr=""/>
          <p:cNvPicPr/>
          <p:nvPr/>
        </p:nvPicPr>
        <p:blipFill>
          <a:blip r:embed="rId2"/>
          <a:stretch/>
        </p:blipFill>
        <p:spPr>
          <a:xfrm>
            <a:off x="0" y="3867120"/>
            <a:ext cx="2130480" cy="2990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asaran Perilaku Umu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600200"/>
            <a:ext cx="74678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bd189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bd189"/>
                </a:solidFill>
                <a:latin typeface="Tahoma"/>
              </a:rPr>
              <a:t>Sarjana Teknik yang “memiliki kemampuan bekerja atau meneruskan pendidikan ke jenjang pendidikan yang lebih tinggi setelah menyelesaikan pendidikan sarjana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04812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d189"/>
                </a:solidFill>
                <a:latin typeface="Arial Narrow"/>
              </a:rPr>
              <a:t>Sasaran Perilaku Khusu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267080"/>
            <a:ext cx="7543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CONTOH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Sarjana Teknik yang “menguasai pemakaian paket-paket perangkat-lunak komputer (misalnya MATLAB, PROTEL, ORCAD, Electronic Workbench [EWB], SPICE dan lain-lain) untuk pemodelan dan simulasi masalah-masalah Teknik Elektro khususnya dan masalah rekayasa pada umumnya”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758000" y="2971800"/>
          <a:ext cx="1386000" cy="15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8000" y="2971800"/>
                    <a:ext cx="1386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7E2-613A-4358-81DA-087E2246DF5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A2181-F688-41F1-9D8B-F9FB4E4BA4B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7440" y="399600"/>
            <a:ext cx="7213680" cy="6476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bd189"/>
                </a:solidFill>
                <a:latin typeface="Tahoma"/>
              </a:rPr>
              <a:t>Proses Pendidikan Teknik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0640" y="2260440"/>
            <a:ext cx="21337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EMODELA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1771560"/>
            <a:ext cx="0" cy="4730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2379600"/>
            <a:ext cx="1218960" cy="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15920" y="2228760"/>
            <a:ext cx="1828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SIMUL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56080" y="2629080"/>
            <a:ext cx="127008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629080"/>
            <a:ext cx="1218960" cy="39996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30320" y="3089160"/>
            <a:ext cx="1930320" cy="3574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NALIS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3086280"/>
            <a:ext cx="1523880" cy="35532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ESAI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3429000"/>
            <a:ext cx="111744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76920" y="3486240"/>
            <a:ext cx="1218960" cy="22860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60640" y="3200400"/>
            <a:ext cx="1625760" cy="7920"/>
          </a:xfrm>
          <a:prstGeom prst="line">
            <a:avLst/>
          </a:prstGeom>
          <a:ln w="28440">
            <a:solidFill>
              <a:srgbClr val="ebd18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56080" y="3800520"/>
            <a:ext cx="2539800" cy="355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PROTOTYPI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75040" y="4172040"/>
            <a:ext cx="0" cy="28584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8360" y="4511520"/>
            <a:ext cx="2286000" cy="35424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OPTIMISAS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880" y="4156200"/>
            <a:ext cx="2463840" cy="79668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Faktor-faktor non-tekn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064040" y="1428840"/>
            <a:ext cx="1828800" cy="355680"/>
            <a:chOff x="4064040" y="1428840"/>
            <a:chExt cx="1828800" cy="355680"/>
          </a:xfrm>
        </p:grpSpPr>
        <p:sp>
          <p:nvSpPr>
            <p:cNvPr id="154" name=""/>
            <p:cNvSpPr/>
            <p:nvPr/>
          </p:nvSpPr>
          <p:spPr>
            <a:xfrm>
              <a:off x="4064040" y="142884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MASALAH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64040" y="142884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759120" y="5200560"/>
            <a:ext cx="1828800" cy="355680"/>
            <a:chOff x="3759120" y="5200560"/>
            <a:chExt cx="1828800" cy="355680"/>
          </a:xfrm>
        </p:grpSpPr>
        <p:sp>
          <p:nvSpPr>
            <p:cNvPr id="157" name=""/>
            <p:cNvSpPr/>
            <p:nvPr/>
          </p:nvSpPr>
          <p:spPr>
            <a:xfrm>
              <a:off x="3759120" y="5200560"/>
              <a:ext cx="1828800" cy="355680"/>
            </a:xfrm>
            <a:prstGeom prst="rect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eaeaea"/>
                  </a:solidFill>
                  <a:latin typeface="Tahoma"/>
                </a:rPr>
                <a:t>SOLUSI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5200560"/>
              <a:ext cx="1828800" cy="355680"/>
            </a:xfrm>
            <a:prstGeom prst="ellipse">
              <a:avLst/>
            </a:prstGeom>
            <a:noFill/>
            <a:ln w="28440">
              <a:solidFill>
                <a:srgbClr val="ebd18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75040" y="4857840"/>
            <a:ext cx="0" cy="34272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16200000">
            <a:off x="4625640" y="1653480"/>
            <a:ext cx="4260600" cy="3352680"/>
          </a:xfrm>
          <a:custGeom>
            <a:avLst/>
            <a:gdLst>
              <a:gd name="textAreaLeft" fmla="*/ 0 w 4260600"/>
              <a:gd name="textAreaRight" fmla="*/ 4260960 w 4260600"/>
              <a:gd name="textAreaTop" fmla="*/ -360 h 3352680"/>
              <a:gd name="textAreaBottom" fmla="*/ 3352680 h 3352680"/>
            </a:gdLst>
            <a:ahLst/>
            <a:rect l="textAreaLeft" t="textAreaTop" r="textAreaRight" b="textAreaBottom"/>
            <a:pathLst>
              <a:path w="21600" h="21600">
                <a:moveTo>
                  <a:pt x="1660" y="8504"/>
                </a:moveTo>
                <a:arcTo wR="-9424" hR="-9424" stAng="-9954022" swAng="-12888934"/>
                <a:lnTo>
                  <a:pt x="698" y="14620"/>
                </a:lnTo>
                <a:arcTo wR="10800" hR="10800" stAng="9557044" swAng="12888934"/>
                <a:lnTo>
                  <a:pt x="23893" y="14089"/>
                </a:lnTo>
                <a:lnTo>
                  <a:pt x="19782" y="16549"/>
                </a:lnTo>
                <a:lnTo>
                  <a:pt x="17321" y="12438"/>
                </a:lnTo>
                <a:close/>
              </a:path>
            </a:pathLst>
          </a:custGeom>
          <a:noFill/>
          <a:ln w="28440">
            <a:solidFill>
              <a:srgbClr val="ebd18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36760" y="5813280"/>
            <a:ext cx="4572000" cy="473400"/>
          </a:xfrm>
          <a:prstGeom prst="rect">
            <a:avLst/>
          </a:prstGeom>
          <a:noFill/>
          <a:ln w="28440">
            <a:solidFill>
              <a:srgbClr val="ebd1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Gambar 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ahoma"/>
              </a:rPr>
              <a:t>Bagan Alir Proses Pendidikan Tekni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4480" y="4629240"/>
            <a:ext cx="1523880" cy="0"/>
          </a:xfrm>
          <a:prstGeom prst="line">
            <a:avLst/>
          </a:prstGeom>
          <a:ln w="28440">
            <a:solidFill>
              <a:srgbClr val="ebd1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A15-0D57-47BD-A85B-DB0B04F5482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3CF2F-D94C-4303-B31D-4C67DCBF1E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ses Pembelajar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AA8-6A8C-4555-8FE2-365B14DD12A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5BD30-9AB6-46BA-BF1F-074E82516E16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4-12-13T01:08:56Z</dcterms:modified>
  <cp:revision>30</cp:revision>
  <dc:subject/>
  <dc:title>PowerPoint Presentation</dc:title>
</cp:coreProperties>
</file>