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A32-55CB-4EAB-8F3E-432D6942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F01-E427-4603-8F5A-2D01DE82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7C4-9A8F-43E9-B72F-7CFA80C7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A11-FD35-40AD-A2C9-9CA6AAAA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6AC8-FB09-4555-B5E7-B18B4654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6272-AB2F-4354-BD62-94E99E2E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8EE8-1F55-4197-8B89-C380E1DB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E23F-0354-4874-AD55-2F4D1890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6C16-3E43-4116-AA70-D71938A6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CC9-ABB0-4A90-8CC1-9DB810D7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20E3-F392-4505-88AB-E9A36E2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780-00F8-4741-9CEB-DDCAD3C9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0F3F-EC7A-4275-BAC6-A900D8A0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A35A-073F-4B47-936F-AD194133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8D0C-A777-4789-9210-8FF0C1C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523B-5AF1-4EF4-96E2-8E18C295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8A6F-4D16-4E83-9DAD-44E20ADA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EAC-2F72-453C-B5F7-470E6831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191-CAA5-4D73-B93C-84A88528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B85-478E-43E6-A513-24F32A0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142-A7E2-4DA5-BEA1-29736E42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704-2C1E-4300-9B92-31306607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E42-D081-4508-8675-A68105B2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B6C-1678-411A-8B5E-B4FACE6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8FC2-79A5-426A-9A14-52D52D08E75B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2BB7-C46D-4EF1-A47C-9BE84467E180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70AF-448D-476A-B3F9-B313B36D5698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4BE7-E6B9-4EC0-BB8A-73FB910EA75B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tani.ac.id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INFORMATIKA </a:t>
            </a:r>
            <a:br>
              <a:rPr sz="5400"/>
            </a:b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DI </a:t>
            </a:r>
            <a:br>
              <a:rPr sz="5400"/>
            </a:b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AKADEMIA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@unhas.ac.id     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8A17-93E2-4FA6-A5AB-BCF39F7D0BB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1CD8237-3DC9-48D6-8DF3-6B49A03D40AC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ayanan INTERNET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atis” dalam kam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silita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e-mai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untuk staf, mahasiswa dan alumni (Nama_pemakai@bi.unhas.ac.i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silita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rows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akses ke Internet) yang cukup cep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bsi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fficial Homepag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http://www.unhas.ac.id/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/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 yang dapat di-akses DARI seluruh penjuru dunia, dan selalu di-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upda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etiap sa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n lain-lain ………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E58-0730-4D38-8823-DC84F03D2B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9DBBC-6EFF-46E3-B716-EAED2128F6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INFORMASI Terpad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MANAJEME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Akademi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Keuang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Kemahasisw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Manajemen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ss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SD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PENJAMINAN MUTU, MONEV, AKREDITASI, HIBAH KOMPETI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03A-CE75-4F9E-A4C2-15AD0964A1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36A03-78FB-4DF2-8BC7-E5DC6EDB2C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E-learning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dan 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Distant Learning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tudent-centered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elf-acces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belajar mandiri, sumber tak terba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ultimedia-bas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Production House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gital Libra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ajar secara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on-lin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, credit earning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Learning Management Syst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F89-C8D0-465D-8CF3-C65DD3240F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62CB2-F095-4854-8990-CFD664E986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5208-85C4-4CF5-8B1D-853D99A39F1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32B6153-5050-4311-B598-F62F7ADD6668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A7B-2963-43E7-A33F-6307F43705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67C50-D088-4910-8E39-04EE27A9B242}" type="datetime1">
              <a:rPr lang="en-US"/>
              <a:t>07/31/26</a:t>
            </a:fld>
          </a:p>
        </p:txBody>
      </p:sp>
    </p:spTree>
  </p:cSld>
  <p:transition spd="slow" advTm="6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6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08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064-1D03-4C35-9A20-D025C807C60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FFC5B-E2F0-459E-82C3-5258F5F342A5}" type="datetime1">
              <a:rPr lang="en-US"/>
              <a:t>07/31/26</a:t>
            </a:fld>
          </a:p>
        </p:txBody>
      </p:sp>
    </p:spTree>
  </p:cSld>
  <p:transition spd="slow" advTm="25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attack03" descr=""/>
          <p:cNvPicPr/>
          <p:nvPr/>
        </p:nvPicPr>
        <p:blipFill>
          <a:blip r:embed="rId1"/>
          <a:stretch/>
        </p:blipFill>
        <p:spPr>
          <a:xfrm>
            <a:off x="0" y="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10" name="wtc_collapse1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11" name="wtc_collapse2" descr=""/>
          <p:cNvPicPr/>
          <p:nvPr/>
        </p:nvPicPr>
        <p:blipFill>
          <a:blip r:embed="rId3"/>
          <a:stretch/>
        </p:blipFill>
        <p:spPr>
          <a:xfrm>
            <a:off x="6676920" y="3219480"/>
            <a:ext cx="2467080" cy="3638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05360" y="380880"/>
            <a:ext cx="2438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56E-1B20-4958-A8A8-6D38A0D1371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401F5-012C-4A9B-9DD3-D1370AD2B9DE}" type="datetime1">
              <a:rPr lang="en-US"/>
              <a:t>07/31/26</a:t>
            </a:fld>
          </a:p>
        </p:txBody>
      </p:sp>
    </p:spTree>
  </p:cSld>
  <p:transition spd="slow" advTm="51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wtc_collapse3" descr=""/>
          <p:cNvPicPr/>
          <p:nvPr/>
        </p:nvPicPr>
        <p:blipFill>
          <a:blip r:embed="rId1"/>
          <a:stretch/>
        </p:blipFill>
        <p:spPr>
          <a:xfrm>
            <a:off x="304920" y="1146240"/>
            <a:ext cx="7543800" cy="5711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86600" y="304920"/>
            <a:ext cx="2057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26B-5BC4-44FC-B999-F8A489B654C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7F46D-300F-4298-96A7-2DCDB7C63C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slow" advTm="6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143000" y="6840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40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FCF-467B-4FB2-95EC-750349A6735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D0901-A5AC-4AD1-B986-8BC6019ACBE0}" type="datetime1">
              <a:rPr lang="en-US"/>
              <a:t>07/31/26</a:t>
            </a:fld>
          </a:p>
        </p:txBody>
      </p:sp>
    </p:spTree>
  </p:cSld>
  <p:transition spd="slow" advTm="6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3660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5608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792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791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Contoh: dosen, gurubesar, sekretaris, manajer, 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EKNOLOGI INFOKOM (</a:t>
            </a:r>
            <a:r>
              <a:rPr b="0" i="1" lang="en-US" sz="2400" spc="-1" strike="noStrike">
                <a:solidFill>
                  <a:srgbClr val="ebd189"/>
                </a:solidFill>
                <a:latin typeface="Arial"/>
              </a:rPr>
              <a:t>ICT</a:t>
            </a: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di 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PERGURUAN TINGGI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523880"/>
            <a:ext cx="8610480" cy="5334120"/>
            <a:chOff x="304920" y="1523880"/>
            <a:chExt cx="8610480" cy="5334120"/>
          </a:xfrm>
        </p:grpSpPr>
        <p:grpSp>
          <p:nvGrpSpPr>
            <p:cNvPr id="140" name=""/>
            <p:cNvGrpSpPr/>
            <p:nvPr/>
          </p:nvGrpSpPr>
          <p:grpSpPr>
            <a:xfrm>
              <a:off x="304920" y="1523880"/>
              <a:ext cx="8610480" cy="5334120"/>
              <a:chOff x="304920" y="1523880"/>
              <a:chExt cx="8610480" cy="5334120"/>
            </a:xfrm>
          </p:grpSpPr>
          <p:sp>
            <p:nvSpPr>
              <p:cNvPr id="141" name=""/>
              <p:cNvSpPr/>
              <p:nvPr/>
            </p:nvSpPr>
            <p:spPr>
              <a:xfrm>
                <a:off x="685800" y="1523880"/>
                <a:ext cx="8010360" cy="1859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19320" y="1554120"/>
                <a:ext cx="7162560" cy="65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54"/>
                    </a:solidFill>
                    <a:latin typeface="Arial Narrow"/>
                  </a:rPr>
                  <a:t>PENGELOLA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54"/>
                    </a:solidFill>
                    <a:latin typeface="Arial Narrow"/>
                  </a:rPr>
                  <a:t>SISTEM INFORMASI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10040" y="2438280"/>
                <a:ext cx="1257120" cy="57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Pelayanan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INTERNET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562720" y="2413080"/>
                <a:ext cx="1447560" cy="89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54"/>
                    </a:solidFill>
                    <a:latin typeface="Verdana"/>
                  </a:rPr>
                  <a:t>Sistem INFORMASI TERPADU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24560" y="2438280"/>
                <a:ext cx="1257480" cy="86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E-Learning </a:t>
                </a: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dan </a:t>
                </a: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Distance Learning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6040" y="220968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36600" y="2324160"/>
                <a:ext cx="681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1036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9584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4920" y="3086280"/>
                <a:ext cx="1846080" cy="12110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Sub-Bag Teknik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Teknisi Kepala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000054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54"/>
                    </a:solidFill>
                    <a:latin typeface="Verdana"/>
                  </a:rPr>
                  <a:t>Teknisi </a:t>
                </a:r>
                <a:r>
                  <a:rPr b="0" i="1" lang="en-US" sz="1000" spc="-1" strike="noStrike">
                    <a:solidFill>
                      <a:srgbClr val="000054"/>
                    </a:solidFill>
                    <a:latin typeface="Verdana"/>
                  </a:rPr>
                  <a:t>Hardwar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000054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54"/>
                    </a:solidFill>
                    <a:latin typeface="Verdana"/>
                  </a:rPr>
                  <a:t>Teknisi</a:t>
                </a:r>
                <a:r>
                  <a:rPr b="0" i="1" lang="en-US" sz="1000" spc="-1" strike="noStrike">
                    <a:solidFill>
                      <a:srgbClr val="000054"/>
                    </a:solidFill>
                    <a:latin typeface="Verdana"/>
                  </a:rPr>
                  <a:t> Softwar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lvl="1" marL="174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680" y="342900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51000" y="3086280"/>
                <a:ext cx="1714680" cy="11174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Sub-Bag 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Adm. &amp; Keu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Ka-Sub-Bag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+STAF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51000" y="354348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3660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5128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81280" y="2971800"/>
                <a:ext cx="2057400" cy="13716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86200" y="3200400"/>
                <a:ext cx="125748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Internet 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&amp; 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Jaringan Kampus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181480" y="3154320"/>
                <a:ext cx="2057400" cy="1371600"/>
                <a:chOff x="5181480" y="3154320"/>
                <a:chExt cx="2057400" cy="13716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181480" y="3154320"/>
                  <a:ext cx="2057400" cy="13716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38680" y="3497040"/>
                  <a:ext cx="1257120" cy="6858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54"/>
                      </a:solidFill>
                      <a:latin typeface="Verdana"/>
                    </a:rPr>
                    <a:t>Sistem Informasi Terpadu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1236600" y="5715000"/>
                <a:ext cx="7221600" cy="11430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81280" y="4525920"/>
                <a:ext cx="3429000" cy="343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DIGITAL LIBRARY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79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370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942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514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086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65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7120" y="4906800"/>
                <a:ext cx="2036520" cy="292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Production House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86600" y="5364000"/>
                <a:ext cx="343080" cy="457200"/>
              </a:xfrm>
              <a:prstGeom prst="upArrow">
                <a:avLst>
                  <a:gd name="adj1" fmla="val 50000"/>
                  <a:gd name="adj2" fmla="val 3331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7391520" y="3230640"/>
                <a:ext cx="1523880" cy="960480"/>
                <a:chOff x="7391520" y="3230640"/>
                <a:chExt cx="1523880" cy="9604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391520" y="3230640"/>
                  <a:ext cx="1523880" cy="96048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729920" y="3422520"/>
                  <a:ext cx="1072080" cy="511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54"/>
                      </a:solidFill>
                      <a:latin typeface="Arial Narrow"/>
                    </a:rPr>
                    <a:t>Self Learning Facilities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705720" y="3611520"/>
                <a:ext cx="1523880" cy="914400"/>
                <a:chOff x="6705720" y="3611520"/>
                <a:chExt cx="1523880" cy="914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705720" y="3611520"/>
                  <a:ext cx="1523880" cy="9144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044120" y="3794400"/>
                  <a:ext cx="1072080" cy="4874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54"/>
                      </a:solidFill>
                      <a:latin typeface="Verdana"/>
                    </a:rPr>
                    <a:t>Learning Management Systems</a:t>
                  </a:r>
                  <a:endParaRPr b="0" lang="en-US" sz="9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608880" y="4457880"/>
                <a:ext cx="1790640" cy="533160"/>
                <a:chOff x="6608880" y="4457880"/>
                <a:chExt cx="1790640" cy="5331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608880" y="4457880"/>
                  <a:ext cx="1790640" cy="53316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006680" y="4564440"/>
                  <a:ext cx="1260000" cy="2840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54"/>
                      </a:solidFill>
                      <a:latin typeface="Verdana"/>
                    </a:rPr>
                    <a:t>MULTIMEDIA</a:t>
                  </a:r>
                  <a:endParaRPr b="0" lang="en-US" sz="10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2133720" y="6019920"/>
              <a:ext cx="5562360" cy="495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54"/>
                  </a:solidFill>
                  <a:latin typeface="Verdana"/>
                </a:rPr>
                <a:t>5C: Computer, Communication, Contents, ……………….COMMITMENT and CARE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14E-9FE9-4DD9-A886-258744BAC64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EE245-0A9A-44E9-A57C-63CD0C2325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6-11-21T00:43:53Z</dcterms:modified>
  <cp:revision>82</cp:revision>
  <dc:subject/>
  <dc:title>PowerPoint Presentation</dc:title>
</cp:coreProperties>
</file>