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F92-63FE-4DA8-BEEA-86B67235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593-3C03-4132-A64D-C328AFA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B3F-5675-436E-B621-D48F4E4C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208-9100-4943-AE7F-DB14BC06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C83-857B-4AE8-A664-47442EBA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458C-005F-46E6-8E5A-C6788BB0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441F-8385-4C27-8E3D-8FAA2FC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F440-0D38-45BB-9D16-9E27BB50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FC2-A196-4644-A661-CE3E8D7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2BC7-FE73-43FB-8D01-964E723D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B78A-EC81-451F-BF5B-87D9890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BA4-BCB6-40C9-8D02-1E469B45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B50-ED07-4185-AFFB-1B2F5A78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B2B5-3BD2-494C-9665-ADEB5D8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265-718A-449B-9747-2082155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2B8-A9C3-470A-8CD3-F1BEEF6D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9367-3CDA-4E66-828D-CB246D04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FE0-2BDB-4DC4-A799-D83CDA4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BF5-0BD1-4B66-A021-4FC8C8D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A6C-6D47-4B70-8FC4-BBC6379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2F3-4BBB-466B-9A1D-5F522459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99E-0A59-4638-B1E5-6627F01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CCF-206F-49B8-8B43-1812898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D67-2592-4A6E-997A-9C73474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CBE-0996-4359-A8EB-89EFFF32E4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E319-4F30-422A-AAEA-AFF48678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CCD-9052-4CAC-87C5-43240B889E9F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DE8-1AE6-478A-B0B7-BA9E54EECE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698-B36A-4FBD-A489-C58B61A859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01D263A-079E-4BEE-A938-CCA4B5F381E3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4C2-2624-4E08-9479-F67A7CF53D2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99A31-CAB9-4B43-9F79-38E200A68E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A50-A91A-44EC-A261-CC4F923DDA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BE238-57AA-43F7-80CB-3CA4BC46D7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3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794-314E-4DFC-9F40-8581D66330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40DDC-717D-49D3-8C76-0BB1BB949E4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5B6-86D6-499D-953E-51AC7B0544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620AB-E4C7-4E4F-AA4D-570576AF9EDC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0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2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611-D20A-4704-9F0F-50E366B46B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98F38-62E9-49AB-8CAB-52CEEB432E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4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5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165-D87C-457E-901E-10C8FF5A68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24353-4F28-4035-AD60-E491E31CDBDD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51B-7E33-4397-8AA7-5AB87F0F4B7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0C8C9-9E95-48AA-AD4C-F29E6244C4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83D-6B88-4736-BD59-2FE671B95A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85298-D11E-4E0F-8E74-72AAAF1B47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A55-AFFA-4898-A6CF-BD2BDB04C28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390AA-6F9D-46DC-9BAF-676454EB9F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ECB-3FD3-4FFF-962C-FDA266CD9F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75C45-574D-4C03-AA83-49A7CF770B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6A8-426D-4014-B03B-22FCC98AB8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42B6D9-EC7D-486C-B7A0-B07CF59B2B42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612-8528-42E3-804E-CCE56B307CE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21609-5C80-4E57-B7AA-EB4FB8D88F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15B-8777-4DEB-98A8-5F7CF68F10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E4D68-3715-4F86-A7C4-3E644B62D2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C0F-65AB-4F7D-967A-4245B857395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1F41-6760-44BC-BD01-7D03C0E0D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7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D0E-7365-4D9F-8060-70917042D5B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FE160-7621-4E0D-B011-4E3FE5158C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7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730760"/>
            <a:ext cx="15238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282-28F9-4DA8-BD7D-E5784BA7BC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54482-5C4B-48A1-9281-232E97EF6C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848-0F0C-43BD-AA03-2CA41C8553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E794D-6561-4840-95AF-B855BCC5DE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297-5752-4407-8FE3-8E506D34FC4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781C7-0C4B-4DA6-B626-AE4EB43E16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3T16:05:46Z</dcterms:modified>
  <cp:revision>127</cp:revision>
  <dc:subject/>
  <dc:title>PowerPoint Presentation</dc:title>
</cp:coreProperties>
</file>