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7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5A6-1691-4065-8DF0-E7C9724B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1C3-B170-4530-8D3C-E5EAE7F3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1C1-BA92-4B8F-A23E-2095CAAB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799-EAC1-4003-A729-20D12333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4D61-717C-4F6E-9FED-A7BEFD7C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84C3-1F62-4DCA-8D59-D4939DEB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B7D2-0CCE-439B-843D-83434D87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BA21-9240-4237-ADD5-15C1E066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357F-98F9-4C32-9716-50036727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17E6-3772-40E7-BAD0-CE947161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0E59-762E-47F0-83D6-DF4B144D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C7C-9C2B-4F85-9B09-F0973C6F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3558-9D1F-49B3-A9D1-E0E22C83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3EFA-2573-40FA-9CD7-2331ECBC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F31D-3762-4771-8F86-36043A87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58B1-9D8D-45C9-BFD8-E045ED81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FCED-DF2F-44B3-A8B6-722F33C4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6D1-B156-4A41-A61B-002C1C88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922-3829-4C2B-A98F-1414FA47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F9D-9BA9-448D-889D-FE44BD07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238-18AD-4CBD-BB11-A97A31A8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E0C-0F79-4162-A5D5-1C141CFB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A0A-3DC1-40DD-918A-2BCF8963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8B3-3ED7-40AB-9611-0279E98E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7885-DBB8-4FEC-BA79-8F49AE6909F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4E1D-C2C1-4253-B2C5-54AD2C73F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E6AC-40B8-4065-A42E-F984C5044CFA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1C16-4C82-44F8-939B-3810C8C55A6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Selamat Datang </a:t>
            </a: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Mahasiswa Baru </a:t>
            </a:r>
            <a:br>
              <a:rPr sz="3200"/>
            </a:br>
            <a:r>
              <a:rPr b="0" lang="en-US" sz="3600" spc="-1" strike="noStrike">
                <a:solidFill>
                  <a:srgbClr val="786950"/>
                </a:solidFill>
                <a:latin typeface="Verdana"/>
              </a:rPr>
              <a:t>Fakultas Teknik</a:t>
            </a: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Universitas Hasanuddin</a:t>
            </a:r>
            <a:br>
              <a:rPr sz="3200"/>
            </a:b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MAKASSAR</a:t>
            </a:r>
            <a:br>
              <a:rPr sz="3200"/>
            </a:b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Angkatan 2006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Rhiza  S. Sadjad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0360-1653-4FD3-B4B3-CBCD8CAA247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91A2159-86B7-498D-B4DB-A409269BF6C3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71600" y="3049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irarkhi Akadem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828800" y="1295280"/>
            <a:ext cx="3200400" cy="44960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1295280"/>
            <a:ext cx="3657600" cy="4572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1981080"/>
            <a:ext cx="11430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666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350532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457200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 Kepala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ociate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istant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3809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Ahli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Research Assistant, Teaching Assis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5029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Under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22096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Doctor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048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648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Lab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Lab. Assistant, Gra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AA2-9C35-454C-A992-C846D540993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43F52-07CA-4121-BAB6-6004282C0C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Verdana"/>
              </a:rPr>
              <a:t>PROGRAM STUDI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ranti Lunak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rikulum, Silabus, GBPP, 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P (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andard of Procedur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ja Praktek, Tugas Akhir, Seminar,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Praktik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ranti Keras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ang Kelas, Kanto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borat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ngan seluruh peralatan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mber Daya Manusia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UMAN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or, Lektor Kepala, Lektor, Assisten Ahli, Assisten Dosen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isten Laborato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tua Jurusan, Sekretaris Jurusan, Sekr. Bid. Kemahasiswaan, Ketua Konsentrasi, Kepala Lab,, Ketua Program D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pala Tata Usaha, staf administrasi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bor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enaga har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31F-C8E2-4C1C-8B9C-A614752199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6D435-271B-43A7-A165-1FE08E93CA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AMDISAST" descr=""/>
          <p:cNvPicPr/>
          <p:nvPr/>
        </p:nvPicPr>
        <p:blipFill>
          <a:blip r:embed="rId1"/>
          <a:stretch/>
        </p:blipFill>
        <p:spPr>
          <a:xfrm>
            <a:off x="2236680" y="1981080"/>
            <a:ext cx="6907320" cy="4876920"/>
          </a:xfrm>
          <a:prstGeom prst="rect">
            <a:avLst/>
          </a:prstGeom>
          <a:ln w="0">
            <a:noFill/>
          </a:ln>
        </p:spPr>
      </p:pic>
      <p:pic>
        <p:nvPicPr>
          <p:cNvPr id="201" name="AMCONFUS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uasi Hari Ini ………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ri Hiroshima-Nagasa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 WTC 91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ai Bom di B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………………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dan Makass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F67-F3F8-449C-831F-B9B33093E7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74407-664B-47F0-9E6B-3AD109C4A564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Sekilas Sejarah Peradab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762120" y="1828800"/>
          <a:ext cx="8001000" cy="357840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762280"/>
              </a:tblGrid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Era Peradab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ssue S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Peristiwa Dahsy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PERTAN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LAHAN TAN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REVOLUSI SOSIAL dan KEMERDEK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DUST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ENER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HIROSHIMA NAGASA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FORM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FORM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WTC 9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C0F-A834-4B59-8F50-9651444E86E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5F04E-6658-4D44-9162-2C79AC951EA4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08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210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787-1077-409D-B9B0-C9176A64E40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B5DB5-20EA-4860-826D-8669D819D9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attack03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212" name="wtc_collapse1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213" name="wtc_collapse2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0D1-E3B4-42DE-B1AF-514F6C2C50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A87FB-7C7B-4B41-8D4A-A6907CEF7133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wtc_collapse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6B5-D366-4DE6-9DCF-5B74E0C5F83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5CB2D-A1B4-4CFF-88F4-730FDDD258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62120" y="1752480"/>
            <a:ext cx="3886200" cy="297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81952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78695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762120"/>
            <a:ext cx="3810240" cy="33526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144792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9828800">
            <a:off x="3429000" y="19047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9544400">
            <a:off x="3352680" y="3504960"/>
            <a:ext cx="3299040" cy="709560"/>
          </a:xfrm>
          <a:custGeom>
            <a:avLst/>
            <a:gdLst>
              <a:gd name="textAreaLeft" fmla="*/ 515520 w 3299040"/>
              <a:gd name="textAreaRight" fmla="*/ 2886840 w 329904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SISI TENAGA KERJA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D6E-FC6D-4CB0-92E4-CAF22CB09A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75744-AB15-456E-915E-E483EF06DD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ahoma"/>
              </a:rPr>
              <a:t>DUNIA INDUS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J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Pelay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er-Bank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ariwi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Jasa Transport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676520"/>
            <a:ext cx="380988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Manu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Ba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Min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am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(peralatan)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190-1C82-4E67-9A4B-0B85F3050D1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FC044-C278-4E86-81EC-EE5F53DEA8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219320"/>
            <a:ext cx="6858000" cy="434340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5960" y="647640"/>
            <a:ext cx="0" cy="54864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AMCONFUS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138096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0968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AM GA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80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usia dan Dunia IP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AM NY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510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U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4AC8-E3F0-4434-86C6-1D03E96C58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87945-AF6C-426B-9969-7ED75348FD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486400"/>
            <a:ext cx="70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8840" y="609480"/>
            <a:ext cx="6730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00"/>
                </a:solidFill>
                <a:latin typeface="Times New Roman"/>
              </a:rPr>
              <a:t>Pekerja informasi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F290-272C-4770-A413-4D92A4AC6D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FF775A4-9631-4C40-B361-123D8ED17C03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971800" y="3359160"/>
            <a:ext cx="3657600" cy="2743200"/>
            <a:chOff x="2971800" y="3359160"/>
            <a:chExt cx="3657600" cy="2743200"/>
          </a:xfrm>
        </p:grpSpPr>
        <p:pic>
          <p:nvPicPr>
            <p:cNvPr id="93" name="AMCONFUS" descr=""/>
            <p:cNvPicPr/>
            <p:nvPr/>
          </p:nvPicPr>
          <p:blipFill>
            <a:blip r:embed="rId1"/>
            <a:stretch/>
          </p:blipFill>
          <p:spPr>
            <a:xfrm>
              <a:off x="4425840" y="4609440"/>
              <a:ext cx="614160" cy="12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71800" y="3359160"/>
              <a:ext cx="3657600" cy="2743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8280" y="3399120"/>
              <a:ext cx="43920" cy="270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4240" y="4327200"/>
              <a:ext cx="105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86080" y="4286160"/>
              <a:ext cx="10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90920" y="380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990720"/>
            <a:ext cx="838080" cy="3429000"/>
          </a:xfrm>
          <a:prstGeom prst="downArrow">
            <a:avLst>
              <a:gd name="adj1" fmla="val 50000"/>
              <a:gd name="adj2" fmla="val 102287"/>
            </a:avLst>
          </a:prstGeom>
          <a:solidFill>
            <a:srgbClr val="aff1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34F-BC3A-4BBA-930D-CE5C5A079C4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AF303-A497-4807-B845-B0DE378E27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9880" y="1295280"/>
            <a:ext cx="4057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NY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ptaan al-Khal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usia, makhluk hidup, benda-benda, zat-zat, langit dan b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662280"/>
            <a:ext cx="1752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immaterial: interaksi sosial, hubungan antar manusia, negara, ipoleksosbud, filsa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219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TRANCENDENTAL: ma’rifatullah, d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355-CD91-48BF-96AE-7DFD7F5DBF1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847A1-FE90-478E-864B-5D293C6BDD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388620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’RIFATULLAH, TH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68580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AGAMA WAHYU/SAM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1676520"/>
            <a:ext cx="3276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HUKUM dan SOSIAL –BUDAYA KEMASYARAKA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3200400"/>
            <a:ext cx="289584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 KESEHATAN dan PSIKOLO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4191120"/>
            <a:ext cx="3124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TEMATIK dan 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8006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3716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81B-56D2-488B-9A22-32B45F12080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D4954-57FD-468A-81D2-FD504BF151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928880" y="3267000"/>
            <a:ext cx="3159000" cy="2448000"/>
            <a:chOff x="1928880" y="3267000"/>
            <a:chExt cx="3159000" cy="2448000"/>
          </a:xfrm>
        </p:grpSpPr>
        <p:pic>
          <p:nvPicPr>
            <p:cNvPr id="135" name="AMCONFUS" descr=""/>
            <p:cNvPicPr/>
            <p:nvPr/>
          </p:nvPicPr>
          <p:blipFill>
            <a:blip r:embed="rId1"/>
            <a:stretch/>
          </p:blipFill>
          <p:spPr>
            <a:xfrm>
              <a:off x="3184920" y="4382640"/>
              <a:ext cx="53028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928880" y="3267000"/>
              <a:ext cx="3159000" cy="244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89120" y="3302640"/>
              <a:ext cx="37800" cy="24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33080" y="4131000"/>
              <a:ext cx="913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4080" y="4094280"/>
              <a:ext cx="91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14300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12920" y="1154160"/>
            <a:ext cx="723960" cy="3058920"/>
          </a:xfrm>
          <a:prstGeom prst="downArrow">
            <a:avLst>
              <a:gd name="adj1" fmla="val 50000"/>
              <a:gd name="adj2" fmla="val 105632"/>
            </a:avLst>
          </a:prstGeom>
          <a:solidFill>
            <a:srgbClr val="aff1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21080" y="1289160"/>
            <a:ext cx="177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3886200"/>
            <a:ext cx="3124440" cy="155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2819520"/>
            <a:ext cx="3124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1295280"/>
            <a:ext cx="312444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330-E5EF-4957-BC12-E08F86B1C81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3A614-0388-452D-9D86-1AC6FD4D09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15920" y="329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</a:rPr>
              <a:t>Engineering Education……………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362320"/>
            <a:ext cx="2133720" cy="35712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MODE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11960" y="1873080"/>
            <a:ext cx="0" cy="4734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481120"/>
            <a:ext cx="1218960" cy="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057400"/>
            <a:ext cx="2082960" cy="62856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190760" y="2730600"/>
            <a:ext cx="1269720" cy="3999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11960" y="2730600"/>
            <a:ext cx="1218960" cy="3999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65360" y="3191040"/>
            <a:ext cx="1930320" cy="35712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NA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3187800"/>
            <a:ext cx="152388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83160" y="3530520"/>
            <a:ext cx="1117440" cy="2858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11960" y="3587760"/>
            <a:ext cx="1218960" cy="2286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495680" y="3301920"/>
            <a:ext cx="1625760" cy="792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02040"/>
            <a:ext cx="253980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O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4273560"/>
            <a:ext cx="0" cy="2858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4613400"/>
            <a:ext cx="2286000" cy="3538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257720"/>
            <a:ext cx="2463840" cy="79704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aktor-faktor non-tek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99080" y="1530360"/>
            <a:ext cx="182880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SAL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99080" y="1530360"/>
            <a:ext cx="1828800" cy="35568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94160" y="5302080"/>
            <a:ext cx="1828800" cy="355680"/>
            <a:chOff x="4394160" y="5302080"/>
            <a:chExt cx="1828800" cy="355680"/>
          </a:xfrm>
        </p:grpSpPr>
        <p:sp>
          <p:nvSpPr>
            <p:cNvPr id="165" name=""/>
            <p:cNvSpPr/>
            <p:nvPr/>
          </p:nvSpPr>
          <p:spPr>
            <a:xfrm>
              <a:off x="4394160" y="5302080"/>
              <a:ext cx="1828800" cy="355680"/>
            </a:xfrm>
            <a:prstGeom prst="rect">
              <a:avLst/>
            </a:prstGeom>
            <a:noFill/>
            <a:ln w="28440">
              <a:solidFill>
                <a:srgbClr val="99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OLU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5302080"/>
              <a:ext cx="1828800" cy="355680"/>
            </a:xfrm>
            <a:prstGeom prst="ellipse">
              <a:avLst/>
            </a:prstGeom>
            <a:noFill/>
            <a:ln w="28440">
              <a:solidFill>
                <a:srgbClr val="99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10080" y="4959360"/>
            <a:ext cx="0" cy="34272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 rot="16200000">
            <a:off x="5260320" y="1755720"/>
            <a:ext cx="4260960" cy="3352680"/>
          </a:xfrm>
          <a:custGeom>
            <a:avLst/>
            <a:gdLst>
              <a:gd name="textAreaLeft" fmla="*/ 0 w 4260960"/>
              <a:gd name="textAreaRight" fmla="*/ 4261320 w 4260960"/>
              <a:gd name="textAreaTop" fmla="*/ -360 h 3352680"/>
              <a:gd name="textAreaBottom" fmla="*/ 3352680 h 3352680"/>
            </a:gdLst>
            <a:ahLst/>
            <a:rect l="textAreaLeft" t="textAreaTop" r="textAreaRight" b="textAreaBottom"/>
            <a:pathLst>
              <a:path w="21600" h="21600">
                <a:moveTo>
                  <a:pt x="1660" y="8504"/>
                </a:moveTo>
                <a:arcTo wR="-9424" hR="-9424" stAng="-9954022" swAng="-12888934"/>
                <a:lnTo>
                  <a:pt x="698" y="14620"/>
                </a:lnTo>
                <a:arcTo wR="10800" hR="10800" stAng="9557044" swAng="12888934"/>
                <a:lnTo>
                  <a:pt x="23893" y="14089"/>
                </a:lnTo>
                <a:lnTo>
                  <a:pt x="19782" y="16549"/>
                </a:lnTo>
                <a:lnTo>
                  <a:pt x="17321" y="12438"/>
                </a:lnTo>
                <a:close/>
              </a:path>
            </a:pathLst>
          </a:cu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4724280"/>
            <a:ext cx="762120" cy="648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E03-54FD-4E0A-914E-EC1FB8FBA8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5A3F3-37AF-4DD3-9762-930A152F40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Verdana"/>
              </a:rPr>
              <a:t>MANAJEME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dosen, mahasiswa, pegaw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CHIN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alat-alat lab, alat bantu pengajaran, komputer, d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TERIAL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mahasiswa ba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anggaran, proyek, S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RKE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lapangan ker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F39-AE39-4CCA-860F-60DBE00337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BC113-55EF-4D39-A1B7-FA7B689001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66880" y="76212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asana Aka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cademic Atmosphe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1905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051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ruktural-birokr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342900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Faku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44197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Juru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51460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Univers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2971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495288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tua Program St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5410080"/>
            <a:ext cx="350532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tua-Ketua Konsentr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4952880"/>
            <a:ext cx="350532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pala-Kepala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443-A109-436B-A730-4941F21D6C8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FCFDB-B4C1-4D11-B396-AFF079976E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6-08-24T08:04:57Z</dcterms:modified>
  <cp:revision>131</cp:revision>
  <dc:subject/>
  <dc:title>PowerPoint Presentation</dc:title>
</cp:coreProperties>
</file>