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B88-5B00-4B27-96D6-509D4D66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CFE-4CD0-4925-B3EB-2726A643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955-A706-44C7-99DB-C450A66A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FB6-117A-49E1-ABE4-019F39A1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078DC-CC7D-45E2-A516-D0FB65A9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CB21A-A2CF-454C-88E4-2948FC0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64EED-8CDA-4093-B29C-B5C78711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80506-A360-468A-AB1D-92CBE24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5556-C61C-41B8-9F97-A5013781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5C0AB-1D46-41F3-BAEC-40CA4FE2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5C33-D6B1-45B1-85CF-686B43E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60B-3EBA-4585-9864-AC500EC5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118D-E43D-4ACA-8519-C8168C7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459DA-87DB-42E2-96F6-1EAFB4E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E1B10-0A8D-44B4-8427-7E7B9682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38EF3-0EDF-474B-BB8C-88626D6F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CA36A-06A4-47A7-AE93-267B847B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001-0BC5-4A33-B7B0-F12FD2A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7F0-F9F9-4A1E-BC98-94E9FA58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095-342F-4954-BB1C-C694E203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8FA-15B4-4FED-A8B9-F0FB8D7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BCC-F657-40F8-B040-073A6E8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7D5-6012-452C-B713-1560960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369-5A7F-4F90-A8DE-422676F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5DD-BBF9-4981-B246-9120A32E2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2AA2-2F80-4180-AD71-AF8580538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762120"/>
            <a:ext cx="46479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RE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371600"/>
            <a:ext cx="46479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AKIL DIRE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81952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590920"/>
            <a:ext cx="2361960" cy="398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KRET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590920"/>
            <a:ext cx="2361960" cy="398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SI KEP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352680"/>
            <a:ext cx="213372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M TEKNI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048120"/>
            <a:ext cx="2133360" cy="642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F SEKRETARI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495680"/>
            <a:ext cx="6019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952880"/>
            <a:ext cx="2286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2388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952880"/>
            <a:ext cx="2286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4340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4952880"/>
            <a:ext cx="266688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54380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62120"/>
            <a:ext cx="7848360" cy="235476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ENGEMBANG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ISTEM INFORMASI TERPADU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Integrated Information System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429000"/>
            <a:ext cx="7848360" cy="181800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Akadem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Keu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………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762120"/>
            <a:ext cx="7848360" cy="263484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PELAYANAN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JARINGAN KAM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</a:rPr>
              <a:t>Internet Services and  Campus Network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429000"/>
            <a:ext cx="7848360" cy="289332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ngelolaan Situs UN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meliharaan Jaringan Internal Kampus dan Link ke lu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ailing-list and Public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OP Server, Proxy Server,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457200"/>
            <a:ext cx="7848360" cy="263484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I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PENGEMBANGAN </a:t>
            </a: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E-LEARNING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MULTI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</a:rPr>
              <a:t>E-Learning and Multi Media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124080"/>
            <a:ext cx="7848360" cy="332712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ngelolaan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roduction Ho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manfaatan fasilitas “gratis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GD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INH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Kerjasama dengan lembaga-lembaga internal/eksternal: LP3AI, Konsorsium, Perpustakaan UNHAS, dll. untuk pengembang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ATA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rektur/Wakil Direkt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rtanggungjawab ke Rektor melalui PR-PR (tergantu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keduanya musti kompak, sali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ack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atu sama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knisi Kepa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orang ya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unya tim teknisi yang menangan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ard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inimal 1 orang) dan yang menangan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oftw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inimal 1 orang lag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kretar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yang cantik (dan/atau ganteng), cerdas, dan ramah-tamah (kalo’ ada yang datang “marah-matah” baru ngelihat sudah langsung reda marahny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visi-divi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kerjasama erat dengan unit-unit kerja existing, misalnya Divisi I dengan Biro-biro terkait, di level UNHAS mau pun Fakultas, Divisi II dengan HUMAS, LP, LPPM, dll., d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2:21:41Z</dcterms:created>
  <dc:creator>WinXp</dc:creator>
  <dc:description/>
  <dc:language>en-US</dc:language>
  <cp:lastModifiedBy>WinXp</cp:lastModifiedBy>
  <dcterms:modified xsi:type="dcterms:W3CDTF">2006-08-04T03:21:09Z</dcterms:modified>
  <cp:revision>8</cp:revision>
  <dc:subject/>
  <dc:title>Slide 1</dc:title>
</cp:coreProperties>
</file>