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178-4670-4BD4-9DC1-747502D3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16A-9008-40BB-A03F-787418DB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D95-ABDD-4958-8E59-468169E6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F3A-2201-4E83-B1EB-75B5BA31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E7FC-342A-40D6-B2BE-7937ED11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2619-D07E-4F91-9211-9EB1BDF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B7EC-1DF0-408E-8211-5CD25C1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7D18-2F47-4471-A8EC-45474627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FB5D-E5D0-425E-8957-9DB3C182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A29-AEFF-4E5B-A442-1CF40D55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0820-C8ED-4C21-A499-9191E98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41F-5E75-4085-8786-681B3E64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FA41-4AD3-4650-90D0-6442630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B430-5544-4086-809E-A6527E19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F404-A882-4C79-B4EC-56FA720F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F712-D5DB-482C-8EF7-B90D4C44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9522-E420-436A-B46A-00BAF70E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1D4-B147-4468-AFBF-1C543BB5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D98-DD2A-46F3-A1D1-B7993352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878-C1D3-4388-9A33-3B582B4A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FA0-9598-458C-9777-09A1F97C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50F-C1DF-44AC-820A-DA453612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DA0-40DC-4633-B6D5-79F45AEE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EF9-4919-4163-9E68-D27B8987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5542-780D-4C4D-A84B-549D348E2C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1B5F-184F-4802-8362-5E6515D961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6633"/>
                </a:solidFill>
                <a:latin typeface="Garamond"/>
              </a:rPr>
              <a:t>Hasanuddin University Engineering Faculty Department Projec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553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Equipment Discussion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Jul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SAPROF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8B81-3186-471E-B9C7-CFF704F6CB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urement Poli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age for Bidding (by ICB, LC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CB: International Competitive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CB: Local Competitive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urement schedule by Package (By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347-4148-40C6-8F49-D178849C77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discussion proced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eparation and confirmation of Equipment list (Draft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rget schedule: By July 17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cussion based on “Equipment reference sheet” with Department,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b812f"/>
                </a:solidFill>
                <a:latin typeface="Arial"/>
              </a:rPr>
              <a:t>format is prepared by SAPROF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b812f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rget schedule: By August 12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st estimation (SAPROF team in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rget schedule: By Middle of Sept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21F-1A5B-4DB7-8D04-54ACBAA314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Necessary information on Equipment Discuss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ease provide information as bel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ipment lis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ajor Existing Equipment to be mov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ratory list (new camp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iculum </a:t>
            </a:r>
            <a:r>
              <a:rPr b="0" i="1" lang="en-US" sz="2000" spc="-1" strike="noStrike">
                <a:solidFill>
                  <a:srgbClr val="3b812f"/>
                </a:solidFill>
                <a:latin typeface="Arial"/>
              </a:rPr>
              <a:t>(It is necessary to finish discussion about curriculum with SAPROF team in advanc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topics </a:t>
            </a:r>
            <a:r>
              <a:rPr b="0" i="1" lang="en-US" sz="2000" spc="-1" strike="noStrike">
                <a:solidFill>
                  <a:srgbClr val="3b812f"/>
                </a:solidFill>
                <a:latin typeface="Arial"/>
              </a:rPr>
              <a:t>(It is necessary to finish discussion about research topics with SAPROF team in advanc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om assignment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tion and maintenance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20C-1065-4443-8974-C7D7329B1E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asic Policy on Equipment Selection-1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. Planned Equipment shall be based on Research and education curricul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quip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evaluated and examined linkage with research and education curr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linkage between equipment and curriculum will be summarized into “Equipment reference sheet”. </a:t>
            </a: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(SAPROF team support to prepare this shee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4653000"/>
            <a:ext cx="1944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ity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522936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869000"/>
            <a:ext cx="30974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items and Quant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3C2-7F4B-402C-B1DA-0B5C2FDFDA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asic Policy on Equipment Selection-2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2. Planned Equipment shall be secured necessary installation s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d laboratory and/or room shall be specified.  </a:t>
            </a: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It will be link with facility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linkage between equipment and laboratory and/or room will be summarized into “Equipment reference sheet”. </a:t>
            </a: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(SAPROF team support to prepare this matrix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4653000"/>
            <a:ext cx="1513080" cy="151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5229360"/>
            <a:ext cx="432000" cy="431640"/>
          </a:xfrm>
          <a:prstGeom prst="rightArrow">
            <a:avLst>
              <a:gd name="adj1" fmla="val 50000"/>
              <a:gd name="adj2" fmla="val 2502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4724280"/>
            <a:ext cx="43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and room assign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layou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632-8BDD-4727-808E-E98EE67D3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Selection Cri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clusion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ary for research and education curriculum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ary for administrative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ary for University capacity enhan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clusion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necessary for University’s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ge/purpose not clearly def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items, such as glass w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consumables and spare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565-5082-4A09-9FD3-DD21C91B53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Planning Strate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vision on Category of equipment into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49360"/>
          <a:ext cx="7427880" cy="3165480"/>
        </p:xfrm>
        <a:graphic>
          <a:graphicData uri="http://schemas.openxmlformats.org/drawingml/2006/table">
            <a:tbl>
              <a:tblPr/>
              <a:tblGrid>
                <a:gridCol w="1800360"/>
                <a:gridCol w="5627520"/>
              </a:tblGrid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jor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bviously necessary to implement research and education (with curriculum evide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arge equipment, which is necessary to secure installation sp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xpensive equipment and high priority for research and educ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Minor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ecessary in the 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etailed specifications are not spec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t spec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20A-9358-4E50-8E4F-650A0085D2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list prepa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844640"/>
            <a:ext cx="180036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3932280"/>
            <a:ext cx="1800360" cy="151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349360"/>
            <a:ext cx="505080" cy="503280"/>
          </a:xfrm>
          <a:prstGeom prst="rightArrow">
            <a:avLst>
              <a:gd name="adj1" fmla="val 50000"/>
              <a:gd name="adj2" fmla="val 250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508640"/>
            <a:ext cx="505080" cy="502920"/>
          </a:xfrm>
          <a:prstGeom prst="rightArrow">
            <a:avLst>
              <a:gd name="adj1" fmla="val 50000"/>
              <a:gd name="adj2" fmla="val 2510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1844640"/>
            <a:ext cx="4895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cluding “Equipment Reference she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 a “</a:t>
            </a:r>
            <a:r>
              <a:rPr b="1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item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ed room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4005360"/>
            <a:ext cx="489564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uding “Equipment Reference she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 a “</a:t>
            </a:r>
            <a:r>
              <a:rPr b="1" i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general description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making a pile of equipment such 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for Civil engineering A laborat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for Energy engineering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5491080"/>
            <a:ext cx="431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805360"/>
            <a:ext cx="489564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specified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2C9-6336-4A03-8911-74054405E3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quipment reference shee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96360" cy="438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183-F04D-4FA9-B59A-A61E99CACB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01:48:27Z</dcterms:created>
  <dc:creator>インテムコンサルティング株式会社自然環境部</dc:creator>
  <dc:description/>
  <dc:language>en-US</dc:language>
  <cp:lastModifiedBy>tk</cp:lastModifiedBy>
  <dcterms:modified xsi:type="dcterms:W3CDTF">2006-08-01T05:02:48Z</dcterms:modified>
  <cp:revision>9</cp:revision>
  <dc:subject/>
  <dc:title>Hasanuddin University Engineering Faculty Department Project</dc:title>
</cp:coreProperties>
</file>