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3FF-3D97-492E-BC52-29C85ADB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A2C-88F2-4ACA-8C70-BA956C40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014-80A2-4321-93A6-F9C9F891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2F7-A52E-4AC3-BE7D-ECE6A0A5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52F9-E34D-411F-A6F4-F515F4EC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D131-7DB3-427C-A486-DDAD4CD1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DF25-686A-4A01-A88B-7C0AB34C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703D-EBE5-47CC-A9F0-520472B2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968D-2345-4172-B531-A7D8ED14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09DC-8E69-457C-93F1-3F4A6A44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1764-422A-40C1-ACE1-75873C18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F02-28CA-4C79-8317-161581F7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64A3-5B41-4A95-9F85-872FF12A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F053-01B4-44FF-8ACC-BD8055CE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17CC-A657-4146-82C8-7F4C234C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86AC-0939-4E65-AD24-52B8B1BC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5F7E-6DD4-4543-8ACD-C1C3F92F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425-B114-4434-94A0-2C7F55EA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D94-7390-4753-B673-1699B1F2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C3D-70B8-46BC-99E1-A8F0C643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174-5309-4BD4-8067-07EE6E92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D2A-7FE9-4DDB-B292-2030BFBF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BED-91BF-4D8D-908C-1014DCCD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5C6-E1B2-4D79-A085-3F887AC3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51D3-4220-4B80-8E35-AD367D5D9250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3908-3357-4F25-91BD-3DC563497887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61E3-4EC4-4734-A00E-23C095EF7BA6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23CC-3DC5-4F46-8EDB-E2CF3659CCF0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4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4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4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4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10.wmf"/><Relationship Id="rId3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4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4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4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8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0.wmf"/><Relationship Id="rId33" Type="http://schemas.openxmlformats.org/officeDocument/2006/relationships/image" Target="../media/image9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4.wmf"/><Relationship Id="rId3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  <a:ea typeface="Times New Roman"/>
              </a:rPr>
              <a:t>DARI WARNET KE PUSAT PELAYANAN INFORMASI TERPADU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@unhas.ac.id     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18E2-E760-42D0-90DE-C027DEA4ADA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6761835-3442-4F30-BE70-654DD338B1C8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EF48-2F0C-4A03-BC40-5AFC01C4904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BDC44E8-1C39-4697-A0F9-970E563AABED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752480"/>
          <a:ext cx="8381880" cy="38340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7D8-AA54-459F-A4C5-24EC60CB12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C5978-6FDC-4D2E-88E4-D0D718EAB956}" type="datetime1">
              <a:rPr lang="en-US"/>
              <a:t>07/31/26</a:t>
            </a:fld>
          </a:p>
        </p:txBody>
      </p:sp>
    </p:spTree>
  </p:cSld>
  <p:transition spd="slow" advTm="6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slow" advTm="6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143000" y="6840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40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BAF-9085-433A-9D9C-EA27B389177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26D1F-D035-4987-BA5E-CDB2FD59E3A4}" type="datetime1">
              <a:rPr lang="en-US"/>
              <a:t>07/31/26</a:t>
            </a:fld>
          </a:p>
        </p:txBody>
      </p:sp>
    </p:spTree>
  </p:cSld>
  <p:transition spd="slow" advTm="6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3660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5608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6792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791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Contoh: sekretaris, manajer, 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78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2438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ARNET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755880"/>
            <a:ext cx="132264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Pengguna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38080" y="990720"/>
            <a:ext cx="8305560" cy="4952520"/>
            <a:chOff x="838080" y="990720"/>
            <a:chExt cx="8305560" cy="4952520"/>
          </a:xfrm>
        </p:grpSpPr>
        <p:sp>
          <p:nvSpPr>
            <p:cNvPr id="133" name=""/>
            <p:cNvSpPr/>
            <p:nvPr/>
          </p:nvSpPr>
          <p:spPr>
            <a:xfrm>
              <a:off x="838080" y="990720"/>
              <a:ext cx="8305560" cy="495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1921320" y="4009680"/>
            <a:ext cx="542160" cy="71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1320" y="4009680"/>
                      <a:ext cx="54216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4630320" y="2752560"/>
            <a:ext cx="1443960" cy="79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30320" y="2752560"/>
                      <a:ext cx="1443960" cy="7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2463480" y="4512960"/>
            <a:ext cx="721080" cy="304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63480" y="4512960"/>
                      <a:ext cx="721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"/>
            <p:cNvGraphicFramePr/>
            <p:nvPr/>
          </p:nvGraphicFramePr>
          <p:xfrm>
            <a:off x="6074280" y="990720"/>
            <a:ext cx="3008880" cy="1904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74280" y="990720"/>
                      <a:ext cx="3008880" cy="190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4991040" y="1493640"/>
            <a:ext cx="1979280" cy="1859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991040" y="1493640"/>
                      <a:ext cx="1979280" cy="18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4" name="" descr=""/>
            <p:cNvPicPr/>
            <p:nvPr/>
          </p:nvPicPr>
          <p:blipFill>
            <a:blip r:embed="rId11"/>
            <a:stretch/>
          </p:blipFill>
          <p:spPr>
            <a:xfrm>
              <a:off x="3366720" y="1242360"/>
              <a:ext cx="885240" cy="23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2"/>
            <a:stretch/>
          </p:blipFill>
          <p:spPr>
            <a:xfrm>
              <a:off x="4268160" y="1998360"/>
              <a:ext cx="599760" cy="1576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6" name=""/>
            <p:cNvGraphicFramePr/>
            <p:nvPr/>
          </p:nvGraphicFramePr>
          <p:xfrm>
            <a:off x="2704680" y="4848840"/>
            <a:ext cx="721080" cy="304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04680" y="4848840"/>
                      <a:ext cx="721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6647760" y="4233600"/>
            <a:ext cx="722520" cy="304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647760" y="4233600"/>
                      <a:ext cx="72252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6814440" y="4566240"/>
            <a:ext cx="722520" cy="303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14440" y="4566240"/>
                      <a:ext cx="7225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1380240" y="4512960"/>
            <a:ext cx="540720" cy="712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380240" y="4512960"/>
                      <a:ext cx="540720" cy="71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2101680" y="4658400"/>
            <a:ext cx="542160" cy="710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101680" y="4658400"/>
                      <a:ext cx="54216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7480080" y="4233600"/>
            <a:ext cx="542160" cy="710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480080" y="4233600"/>
                      <a:ext cx="54216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7063920" y="4899240"/>
            <a:ext cx="542160" cy="7106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063920" y="4899240"/>
                      <a:ext cx="54216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"/>
            <p:cNvGraphicFramePr/>
            <p:nvPr/>
          </p:nvGraphicFramePr>
          <p:xfrm>
            <a:off x="7729560" y="4982760"/>
            <a:ext cx="540720" cy="7106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729560" y="4982760"/>
                      <a:ext cx="54072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8312040" y="4399920"/>
            <a:ext cx="540720" cy="7106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312040" y="4399920"/>
                      <a:ext cx="54072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1988640" y="3151440"/>
            <a:ext cx="1979280" cy="1858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988640" y="3151440"/>
                      <a:ext cx="1979280" cy="18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1156680" y="3900600"/>
              <a:ext cx="2495880" cy="199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98280" y="3817080"/>
              <a:ext cx="2745360" cy="2080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5649480" y="2818440"/>
            <a:ext cx="1979280" cy="18590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5649480" y="2818440"/>
                      <a:ext cx="1979280" cy="18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3403080" y="4566240"/>
              <a:ext cx="391032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WARNET-WARNET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02400" y="1236960"/>
              <a:ext cx="1663920" cy="7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aeaea"/>
                  </a:solidFill>
                  <a:latin typeface="Arial"/>
                </a:rPr>
                <a:t>ISP</a:t>
              </a:r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98280" y="1653120"/>
              <a:ext cx="266256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aeaea"/>
                  </a:solidFill>
                  <a:latin typeface="Arial"/>
                </a:rPr>
                <a:t>INTERNET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 spd="slow" advTm="78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ARNET, masalah ketidak-seimbangan aliran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755880"/>
            <a:ext cx="132264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Pengguna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219320"/>
            <a:ext cx="830592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20960" y="4010040"/>
          <a:ext cx="54288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4010040"/>
                    <a:ext cx="542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63840" y="4513320"/>
          <a:ext cx="7207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3840" y="4513320"/>
                    <a:ext cx="7207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276720" y="1219320"/>
          <a:ext cx="3009960" cy="190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219320"/>
                    <a:ext cx="30099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705040" y="4849920"/>
          <a:ext cx="72072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5040" y="4849920"/>
                    <a:ext cx="7207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648480" y="4233960"/>
          <a:ext cx="72216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48480" y="4233960"/>
                    <a:ext cx="7221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815160" y="4567320"/>
          <a:ext cx="722160" cy="303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15160" y="4567320"/>
                    <a:ext cx="7221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380960" y="4513320"/>
          <a:ext cx="540000" cy="712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80960" y="4513320"/>
                    <a:ext cx="5400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101680" y="4659480"/>
          <a:ext cx="543240" cy="709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01680" y="4659480"/>
                    <a:ext cx="5432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7480440" y="4233960"/>
          <a:ext cx="542880" cy="71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80440" y="4233960"/>
                    <a:ext cx="542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064280" y="4898880"/>
          <a:ext cx="542880" cy="711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64280" y="4898880"/>
                    <a:ext cx="542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729560" y="4983120"/>
          <a:ext cx="541440" cy="711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29560" y="4983120"/>
                    <a:ext cx="5414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8312040" y="4400640"/>
          <a:ext cx="541440" cy="711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312040" y="4400640"/>
                    <a:ext cx="5414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157400" y="3900600"/>
            <a:ext cx="2495520" cy="199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99360" y="3817800"/>
            <a:ext cx="2744640" cy="208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03440" y="4567320"/>
            <a:ext cx="39103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WARNET-WARN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1828800"/>
            <a:ext cx="26622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7410000">
            <a:off x="2894760" y="2590560"/>
            <a:ext cx="1752840" cy="190476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476280 h 1904760"/>
              <a:gd name="textAreaBottom" fmla="*/ 1428840 h 1904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rot="13242000">
            <a:off x="5694120" y="2183760"/>
            <a:ext cx="1914480" cy="1904760"/>
          </a:xfrm>
          <a:custGeom>
            <a:avLst/>
            <a:gdLst>
              <a:gd name="textAreaLeft" fmla="*/ 299520 w 1914480"/>
              <a:gd name="textAreaRight" fmla="*/ 1675800 w 1914480"/>
              <a:gd name="textAreaTop" fmla="*/ 476280 h 1904760"/>
              <a:gd name="textAreaBottom" fmla="*/ 1428840 h 1904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38280" y="2362320"/>
            <a:ext cx="1067040" cy="1371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105160" y="2895480"/>
            <a:ext cx="1904760" cy="1371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78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ARNET: http://www.nama_warnet.or.id/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73920" y="990720"/>
          <a:ext cx="300960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3920" y="990720"/>
                    <a:ext cx="300960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838080" y="1236600"/>
            <a:ext cx="8305920" cy="5011920"/>
            <a:chOff x="838080" y="1236600"/>
            <a:chExt cx="8305920" cy="5011920"/>
          </a:xfrm>
        </p:grpSpPr>
        <p:sp>
          <p:nvSpPr>
            <p:cNvPr id="216" name=""/>
            <p:cNvSpPr/>
            <p:nvPr/>
          </p:nvSpPr>
          <p:spPr>
            <a:xfrm>
              <a:off x="1066680" y="3755880"/>
              <a:ext cx="1322640" cy="6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Times New Roman"/>
                </a:rPr>
                <a:t>Pengguna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080" y="1295280"/>
              <a:ext cx="8305920" cy="495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1920960" y="4010040"/>
            <a:ext cx="542880" cy="71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4010040"/>
                      <a:ext cx="5428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4630680" y="2752560"/>
            <a:ext cx="1443240" cy="79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30680" y="2752560"/>
                      <a:ext cx="1443240" cy="7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2463840" y="4513320"/>
            <a:ext cx="720720" cy="30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63840" y="4513320"/>
                      <a:ext cx="72072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4991040" y="1494000"/>
            <a:ext cx="1979640" cy="185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991040" y="1494000"/>
                      <a:ext cx="1979640" cy="18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6" name="" descr=""/>
            <p:cNvPicPr/>
            <p:nvPr/>
          </p:nvPicPr>
          <p:blipFill>
            <a:blip r:embed="rId11"/>
            <a:stretch/>
          </p:blipFill>
          <p:spPr>
            <a:xfrm>
              <a:off x="1371600" y="3048120"/>
              <a:ext cx="824040" cy="12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2"/>
            <a:stretch/>
          </p:blipFill>
          <p:spPr>
            <a:xfrm>
              <a:off x="4268880" y="1998720"/>
              <a:ext cx="598320" cy="1576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8" name=""/>
            <p:cNvGraphicFramePr/>
            <p:nvPr/>
          </p:nvGraphicFramePr>
          <p:xfrm>
            <a:off x="2705040" y="4849920"/>
            <a:ext cx="720720" cy="304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05040" y="4849920"/>
                      <a:ext cx="72072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0" name=""/>
            <p:cNvGraphicFramePr/>
            <p:nvPr/>
          </p:nvGraphicFramePr>
          <p:xfrm>
            <a:off x="6648480" y="4233960"/>
            <a:ext cx="722160" cy="304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648480" y="4233960"/>
                      <a:ext cx="7221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2" name=""/>
            <p:cNvGraphicFramePr/>
            <p:nvPr/>
          </p:nvGraphicFramePr>
          <p:xfrm>
            <a:off x="6815160" y="4567320"/>
            <a:ext cx="722160" cy="303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15160" y="4567320"/>
                      <a:ext cx="72216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4" name=""/>
            <p:cNvGraphicFramePr/>
            <p:nvPr/>
          </p:nvGraphicFramePr>
          <p:xfrm>
            <a:off x="1380960" y="4513320"/>
            <a:ext cx="540000" cy="7128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380960" y="4513320"/>
                      <a:ext cx="54000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2101680" y="4659480"/>
            <a:ext cx="543240" cy="709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101680" y="4659480"/>
                      <a:ext cx="54324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"/>
            <p:cNvGraphicFramePr/>
            <p:nvPr/>
          </p:nvGraphicFramePr>
          <p:xfrm>
            <a:off x="7064280" y="4898880"/>
            <a:ext cx="542880" cy="711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64280" y="4898880"/>
                      <a:ext cx="5428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7729560" y="4983120"/>
            <a:ext cx="541440" cy="7113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729560" y="4983120"/>
                      <a:ext cx="54144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8312040" y="4400640"/>
            <a:ext cx="541440" cy="7110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8312040" y="4400640"/>
                      <a:ext cx="54144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1989000" y="2655720"/>
            <a:ext cx="2506680" cy="23544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1989000" y="2655720"/>
                      <a:ext cx="2506680" cy="23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1157400" y="3900600"/>
              <a:ext cx="2495520" cy="199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47" name=""/>
            <p:cNvGraphicFramePr/>
            <p:nvPr/>
          </p:nvGraphicFramePr>
          <p:xfrm>
            <a:off x="5649840" y="2817720"/>
            <a:ext cx="1979640" cy="18604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649840" y="2817720"/>
                      <a:ext cx="1979640" cy="18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9" name=""/>
            <p:cNvSpPr/>
            <p:nvPr/>
          </p:nvSpPr>
          <p:spPr>
            <a:xfrm>
              <a:off x="3403440" y="4191120"/>
              <a:ext cx="200664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WARNET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-WARNET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02040" y="1236600"/>
              <a:ext cx="166356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aeaea"/>
                  </a:solidFill>
                  <a:latin typeface="Arial"/>
                </a:rPr>
                <a:t>ISP</a:t>
              </a:r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99360" y="1652760"/>
              <a:ext cx="26622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aeaea"/>
                  </a:solidFill>
                  <a:latin typeface="Arial"/>
                </a:rPr>
                <a:t>INTERNET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3"/>
            <a:stretch/>
          </p:blipFill>
          <p:spPr>
            <a:xfrm>
              <a:off x="7391520" y="3048120"/>
              <a:ext cx="8236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219320" y="1600200"/>
              <a:ext cx="228600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web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mail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proxy 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file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0080" y="4038480"/>
              <a:ext cx="2286000" cy="167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web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mail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proxy 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file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99360" y="3817800"/>
              <a:ext cx="2744640" cy="2081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56" name=""/>
            <p:cNvGraphicFramePr/>
            <p:nvPr/>
          </p:nvGraphicFramePr>
          <p:xfrm>
            <a:off x="7480440" y="4233960"/>
            <a:ext cx="542880" cy="71100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7480440" y="4233960"/>
                      <a:ext cx="54288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 advTm="78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sat Pelayanan Informasi Terpadu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mbayaran telepon, listrik, air minum, PBB, perpanjangan STNK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ansaksi per-bank-an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lsa isi ulang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, SMS, MMS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untuk yang tidak bawa HP,misalnya)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si perjalanan pesawat, kapal laut, bus, kereta api,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ticketing 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ervasi hotel, penginapan restoran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atkabar, Radio, Televisi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ko Buku dan Perpustakaan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n-line, e-boo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kolah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n-line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D, SMP, SMU, Universitas Terbuka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 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e-learning………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8D7-0203-47F7-AD01-73E20109B2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FC536-C918-4102-AA96-8F4B00603B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6-06-12T15:27:27Z</dcterms:modified>
  <cp:revision>93</cp:revision>
  <dc:subject/>
  <dc:title>PowerPoint Presentation</dc:title>
</cp:coreProperties>
</file>