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CF9-6267-4723-A56F-4B627AFB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363-E712-4C31-9306-694D884B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D162-1458-43E7-B318-9448E351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2F5-0AF9-40CE-ABCF-8A3765F6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6328-8A3A-4687-8AE8-78ACD24E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1B5E-499F-4DE9-9506-D2858352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BFCA-71D7-4405-B139-26FAA953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AA6D-E102-4E7B-BDAF-09037FA6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5167-83CF-4335-95EE-F7C0574C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93B2-9F14-409A-9148-A7C24CF5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7426-B4BC-405F-9180-72E034BD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DA6-AFAE-4A7C-A666-E9FF0FE9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5224-939B-4938-B974-4E94EBCE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D84D-5187-4F04-8F56-80464DB7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CE1D-F9D4-49E2-9178-EFDBBB73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0040-29FA-4BE3-AE13-6D2C5455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FAF1-1388-443B-A558-A558E718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B36-55DB-4846-98E1-A260DCC6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15B-AA23-406E-9A25-0245736F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769-964B-408D-8597-036D8AA3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416-DF4C-4241-B454-F2F811CE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80D-7039-45ED-91BE-505C99BB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C1CC-1D02-4FB1-99FE-FA04503E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BEF6-113A-4A20-9A15-C11CD7E6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7907-289F-431C-83F1-88D69B36D2E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4E55-CDF1-416D-B853-C7FDABD95F5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914400" y="1523880"/>
            <a:ext cx="731520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gram Studi Teknik Elektro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828800" y="2590920"/>
            <a:ext cx="556272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Jurusan Elektroteknik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752480" y="4800600"/>
            <a:ext cx="5738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Universitas Hasanuddin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Kurikulu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takuliah Dasar Umu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takuliah Tahun Pertama Bersa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takuliah Teknik Elektr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takuliah Keahli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takuliah Pilihan (Penunjang Keahlia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7696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4c3aa"/>
                </a:solidFill>
                <a:latin typeface="Arial"/>
              </a:rPr>
              <a:t>Jurusan Elektrotekni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77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77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4c3aa"/>
                </a:solidFill>
                <a:latin typeface="Arial"/>
              </a:rPr>
              <a:t>Jurusan Teknik Elektr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filiasi Dengan Industri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rtami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T. TELKOM, Tb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T. Indos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T. LEN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33520" y="5181480"/>
            <a:ext cx="7962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nk and Match Uni dan Industr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Jurusan Elektroteknik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3581280" cy="24382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Sampai Ketemu di Perkuliahan Teknik Elektro UNHAS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4038480" cy="35816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5886360" y="2552760"/>
            <a:ext cx="24195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erima kasi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ISI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: Program Studi Teknik Elektro PT-UNHAS adalah menjadi Pusat Pengembangan dan Penerapan Teknologi Elektroteknik dan menjadi suatu lembaga pendidikan tinggi keteknikan yang terkemuka di negeri in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ISI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Program Studi Teknik Elektro PT-UNHAS adalah menghasilkan lulusan propesional yang mampu mengembangkan sendiri keterampilan teknis dan pengetahuannya, sehingga mampu menyesuaikan diri dengan perkembangan teknolog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Overview UNHA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HAS terdiri atas 13 Fakult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kultas Teknik terdiri atas Jurus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knik Elektr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knik Sipi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knik Mesi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knik Arsitektu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knik Geolog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knik Perkapa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ktroteknik memiliki jumlah mahasiswa 708 + Reso 28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5227560" y="1762200"/>
            <a:ext cx="2879640" cy="18651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4038840" cy="23623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Overview UNHA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has memiliki asrama bagi mahasiswa yg tdk berdomisili di makassa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ekitar kampus juga terdapat banyak kos2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505320" cy="37335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7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7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Overview UNHA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rdapat fasilitas perpustakaan lengkap (Pusat dan Jurusan) serta pusat informas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911920" y="1600200"/>
            <a:ext cx="2927160" cy="31240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1523880" y="3733920"/>
            <a:ext cx="4191120" cy="26463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Overview UNHA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has memiliki auditorium utk pertemuan kemahasiswa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lengkapi dengan sport cen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rta ada pusat konse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076720" y="1600200"/>
            <a:ext cx="3179880" cy="21891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3276720" cy="22860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685800" y="4572000"/>
            <a:ext cx="3657600" cy="22096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c3aa"/>
                </a:solidFill>
                <a:latin typeface="Arial"/>
              </a:rPr>
              <a:t>Jurusan Elektroteknik</a:t>
            </a:r>
            <a:br>
              <a:rPr sz="4000"/>
            </a:br>
            <a:r>
              <a:rPr b="1" lang="en-US" sz="3200" spc="-1" strike="noStrike">
                <a:solidFill>
                  <a:srgbClr val="c4c3aa"/>
                </a:solidFill>
                <a:latin typeface="Arial"/>
              </a:rPr>
              <a:t>Ketua Jurusan Ir. Andani Achmad MT</a:t>
            </a: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erdiri atas 3 sub-program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knik Energi (TE)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196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etua : Ir. Toyib Raharjo MS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knik Telekomunikasi dan Informasi (TT)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198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etua : Ir. Dewiani  M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knik Komputer / Kendali / Elektronika (TK)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199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etua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r.Ir. H. Riza S Sadjaad MSE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asca Sarjana 199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PS 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r.Ir. Salama Manjang M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ahun 2007 Program Teknik Informati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6"/>
          <a:stretch/>
        </p:blipFill>
        <p:spPr>
          <a:xfrm>
            <a:off x="5486400" y="1981080"/>
            <a:ext cx="3505320" cy="38102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7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3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Jurusan Elektrotekni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mpunyai  54  Dos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fessor   :   3  ora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ktror     :   3  Ora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ster      :  37 Ora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1            :  11 Ora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kolah Program Doktor : LN 9 / DN 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4c3aa"/>
                </a:solidFill>
                <a:latin typeface="Arial"/>
              </a:rPr>
              <a:t>Jurusan Elektrotekni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empunyai 13 Laboratorium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strik Das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ley dan Pengukur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sin Listri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stalasi Listrik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gangan Tingg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ansmisi dan Distribusi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ktronika Day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komunikasi Radio &amp; Microwa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mati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ktronika diva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ontr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omput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angkat Luna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0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9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4" dur="2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9" dur="2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4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3:56:59Z</dcterms:created>
  <dc:creator> naufal</dc:creator>
  <dc:description/>
  <dc:language>en-US</dc:language>
  <cp:lastModifiedBy>ADMIN</cp:lastModifiedBy>
  <dcterms:modified xsi:type="dcterms:W3CDTF">2006-08-25T22:12:14Z</dcterms:modified>
  <cp:revision>26</cp:revision>
  <dc:subject/>
  <dc:title>Slide 1</dc:title>
</cp:coreProperties>
</file>