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6CD-9434-49E6-A592-CE7512AC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04F-C714-4B06-AE5A-D397ED37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338-17AA-4993-8493-FBCD5BD1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981-28CE-4E91-B6EB-FB0CCD7D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93AF-0321-4E47-A419-559AF539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7356-F985-41D2-9390-1DD55982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2E7F-69DC-4874-9A19-6E6AD606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B03B-B01F-4747-AE5C-3DF72305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CB2B-31EB-47F9-B61A-A31DDFE4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94D7-ABF3-463D-BBAA-3C7F5309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369E-A429-4F13-9853-5A9DDBB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B89-16BC-400A-B409-FAD6F231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EAB8-1679-4000-A748-E37514CF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B2F2-BD67-40CC-88F8-DFC7A37A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5266-A849-4F88-8BC0-84172127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D037-53CC-4601-9C99-7D754B2B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F008-E6DC-4E5D-93C5-E5A5E28B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8AE-83B9-4F92-8E18-DD2703E9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DEA-D553-441E-8CD5-DE22F168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797-278E-4FE1-9759-5E725782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F8C-83B6-425F-A3C1-9197566E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D5A-EA3D-4805-A656-B202EB2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7C3-A1B9-4143-9CFE-17CDB47E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DAA-22E9-4408-8935-64494A16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F5AB-9E48-4F7E-A49C-A89DCAC2EE2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D86D-AF07-4234-9540-D6B72AF6C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3BCF-588B-46CB-8426-6CEDE6C3B49B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57D1-9012-41CF-BD7A-9459C70B8FD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6950"/>
                </a:solidFill>
                <a:latin typeface="Times New Roman"/>
              </a:rPr>
              <a:t>Konsentrasi</a:t>
            </a:r>
            <a:br>
              <a:rPr sz="4000"/>
            </a:br>
            <a:r>
              <a:rPr b="0" lang="en-US" sz="4000" spc="-1" strike="noStrike">
                <a:solidFill>
                  <a:srgbClr val="786950"/>
                </a:solidFill>
                <a:latin typeface="Times New Roman"/>
              </a:rPr>
              <a:t>TEKNIK KOMPUTER,</a:t>
            </a:r>
            <a:br>
              <a:rPr sz="4000"/>
            </a:br>
            <a:r>
              <a:rPr b="0" lang="en-US" sz="4000" spc="-1" strike="noStrike">
                <a:solidFill>
                  <a:srgbClr val="786950"/>
                </a:solidFill>
                <a:latin typeface="Times New Roman"/>
              </a:rPr>
              <a:t>KENDALI</a:t>
            </a:r>
            <a:br>
              <a:rPr sz="4000"/>
            </a:br>
            <a:r>
              <a:rPr b="0" lang="en-US" sz="4000" spc="-1" strike="noStrike">
                <a:solidFill>
                  <a:srgbClr val="786950"/>
                </a:solidFill>
                <a:latin typeface="Times New Roman"/>
              </a:rPr>
              <a:t>dan </a:t>
            </a:r>
            <a:br>
              <a:rPr sz="4000"/>
            </a:br>
            <a:r>
              <a:rPr b="0" lang="en-US" sz="4000" spc="-1" strike="noStrike">
                <a:solidFill>
                  <a:srgbClr val="786950"/>
                </a:solidFill>
                <a:latin typeface="Times New Roman"/>
              </a:rPr>
              <a:t>ELEKTRONIKA</a:t>
            </a: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Rhiza  S. Sadjad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A29C-3CD6-46D2-8AD6-D3EEF47D16D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A08B7D2-1CBB-43DE-8B1E-967B08B8E2D5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ASARAN PERILAK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guasai pemakaian paket-paket perangkat-lunak komputer (misalny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LAB/Simulin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CA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Workben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EWB]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 lain-lain) untuk pemodelan dan simulasi masalah-masalah Teknik Elektro khususnya dan masalah rekayasa pada umumny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AC7-D1D4-4228-A8B8-0CA927864E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50013-31AA-402F-8B53-532CEB0C52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ASARAN PERILAK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. Menguasai pemakaian bahasa-bahasa pemrograman yang umumnya digunakan dalam dunia rekayasa, seper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RAN, C++, Visual Basic, Turbo-Pascal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 lain-l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EE4-2C3C-403E-BCFE-8783D6AD01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8C0BE-6D98-452C-A563-E46FD28522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ASARAN PERILAK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guasai konsep, rancangan dan aplikasi perangkat-keras komputer digital, dari sistem bilangan, aljabar Boolean, gerbang-gerbang logika, mesin sekuensial sampai sistem digital yang lebih besar dan rumit seper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process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yang akan dikembangkan adalah sistem 8085) serta komputer digital lainny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DBE-D2CF-432F-9B21-14B9A63B51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ED9B1-24B8-4A18-A01D-E34A8473FF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ASARAN PERILAK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guasai perencanaan dan perancangan arsitektur jaringan komputer serta pengetahuan dasar (perangkat lunak dan perangkat keras) untuk meng-administrasi-kan suatu jaringan komputer terpa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C98-2642-4EBE-95BB-80EE87351D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58353-9594-49ED-B41F-8DDEF25445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ASARAN PERILAK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. Menguasai dasar-dasar Teori Sistem Kendali, baik yang “klasik” maupun “modern” serta aplikasinya dalam analisis dan perancangan sistem kendali. Dikembangkan juga penguasaan skala laboratorium dari sistem-sistem kendali besar yang umumnya digunakan di dunia industri seperti piranti-piranti antar-muk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terfaces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controll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yang akan dikembangkan adalah sist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controll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rbasis 8031/8051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DA, PLC, DC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n sebagainya dalam aplikasi sistem-sistem kendali digital, instrumentasi elektronika dan pengolahan isyarat dig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609-F625-4366-8578-A2309F5490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806CC-D592-4681-BC9C-FDA43C4E64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ASARAN PERILAK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6. Menguasai pengetahuan tentang perancangan, fabrikasi dan aplikasi berbagai piran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vices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rangkai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ircuits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an sis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ystem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elektronika dan mikroelektroni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rmasuk penggunaan paket-paket perangkat lun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DL dan Verilo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design tools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innya untuk merancang tata-let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ay-out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angkaian terintegra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BAF-2E69-47B4-9F7E-79BBF9EB0A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667DB-E2CC-4F78-8079-39E503D116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901A-4CE9-42A2-ADD3-8FBDE5071A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F5962EB-7414-4149-B68E-BB7D0EAFDA15}" type="datetime1">
              <a:rPr lang="en-US"/>
              <a:t>07/29/26</a:t>
            </a:fld>
          </a:p>
        </p:txBody>
      </p:sp>
    </p:spTree>
  </p:cSld>
  <p:transition spd="slow" advTm="31000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6-08-26T01:38:35Z</dcterms:modified>
  <cp:revision>120</cp:revision>
  <dc:subject/>
  <dc:title>PowerPoint Presentation</dc:title>
</cp:coreProperties>
</file>