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image18.wmf" ContentType="image/x-wmf"/>
  <Override PartName="/ppt/media/CHIMES.WAV" ContentType="audio/x-wav"/>
  <Override PartName="/ppt/media/image6.wmf" ContentType="image/x-wmf"/>
  <Override PartName="/ppt/media/image11.wmf" ContentType="image/x-wmf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43B0A-2B7E-432D-9E4D-97930C89F1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49705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8200" y="4239360"/>
            <a:ext cx="49705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52655-55FB-4E70-9BEA-A251624ECD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8200" y="423936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175200" y="423936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C1E8F-6FDB-4EF8-9B30-C2A94F4C86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308680" y="317160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989520" y="317160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28200" y="423936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308680" y="423936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3989520" y="423936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176F3-BBDC-44B8-859C-3556CC29BA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DA3B9-DCDC-42C7-B2A7-6E9D55171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28200" y="3171600"/>
            <a:ext cx="4970520" cy="20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F9164-AAFD-4435-A331-043AFEA2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49705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3562F-30A0-4245-9ACB-927C8ECC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F4B74-6270-4555-9608-D95BE26B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2430B-3447-4968-997F-DF67E6DD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19040" y="1523880"/>
            <a:ext cx="8477280" cy="635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756CD-C75A-49EA-9A0B-FB08DBDF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8200" y="423936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73B6F-F688-4637-8870-ABEC8CA6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28200" y="3171600"/>
            <a:ext cx="4970520" cy="20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B2B44-EEFF-4725-930E-206446F2B8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175200" y="423936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CB5F0-1CBD-492A-B6DD-0A2B37CF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8200" y="4239360"/>
            <a:ext cx="49705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A2C0D9-02D4-49B5-A44A-C49F1597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49705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8200" y="4239360"/>
            <a:ext cx="49705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804B2-B5EA-4689-9FE2-96BF9B1F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8200" y="423936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3175200" y="423936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076BB-2C91-43D8-AC4A-839F9C8CA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308680" y="317160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989520" y="317160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28200" y="423936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308680" y="423936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3989520" y="423936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D6153-792E-4B8F-B303-CB4FCBFC0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49705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05FAB-028F-4ED4-B142-1F3DDF3876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5FD86-779C-4741-8B53-174F175F11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39543-783D-4D84-8FFE-CDCBF4C3F7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19040" y="1523880"/>
            <a:ext cx="8477280" cy="635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BF6E4-8081-4EAD-A193-CCA99488B1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8200" y="423936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A511B-3261-4385-AB64-0962CA5846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175200" y="423936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5E26F-B980-4C94-98DE-7837197D70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200" y="4239360"/>
            <a:ext cx="49705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28D39-5E8A-41AA-BCCF-36DED4AE7A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64960"/>
            <a:ext cx="8915400" cy="6589800"/>
          </a:xfrm>
          <a:prstGeom prst="rtTriangle">
            <a:avLst/>
          </a:prstGeom>
          <a:gradFill rotWithShape="0">
            <a:gsLst>
              <a:gs pos="0">
                <a:srgbClr val="462f17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38680" y="5275440"/>
            <a:ext cx="338940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840" y="106668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568240" y="6119280"/>
            <a:ext cx="39085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827D-A623-4332-B323-EA889D64C6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5718960" y="-360"/>
            <a:ext cx="68576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V="1">
            <a:off x="6782040" y="-3200760"/>
            <a:ext cx="4723560" cy="472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89" y="7005"/>
                </a:moveTo>
                <a:arcTo wR="10800" hR="10800" stAng="-9565662" swAng="4127954"/>
                <a:lnTo>
                  <a:pt x="10800" y="10800"/>
                </a:lnTo>
                <a:close/>
              </a:path>
              <a:path fill="none" w="21600" h="21600">
                <a:moveTo>
                  <a:pt x="689" y="7005"/>
                </a:moveTo>
                <a:arcTo wR="10800" hR="10800" stAng="-9565662" swAng="4127954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flipH="1" flipV="1">
            <a:off x="6715800" y="-17280"/>
            <a:ext cx="2361960" cy="27277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243920" y="-12600"/>
            <a:ext cx="1440" cy="68119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0" y="5275440"/>
            <a:ext cx="460368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68200"/>
            <a:ext cx="8915400" cy="6589800"/>
          </a:xfrm>
          <a:prstGeom prst="rtTriangl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840" y="152388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2880" y="3228840"/>
            <a:ext cx="0" cy="3627720"/>
          </a:xfrm>
          <a:prstGeom prst="line">
            <a:avLst/>
          </a:prstGeom>
          <a:ln cap="sq"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837480" y="-9360"/>
            <a:ext cx="330120" cy="6875280"/>
            <a:chOff x="6837480" y="-9360"/>
            <a:chExt cx="330120" cy="6875280"/>
          </a:xfrm>
        </p:grpSpPr>
        <p:sp>
          <p:nvSpPr>
            <p:cNvPr id="53" name=""/>
            <p:cNvSpPr/>
            <p:nvPr/>
          </p:nvSpPr>
          <p:spPr>
            <a:xfrm>
              <a:off x="6865920" y="6721560"/>
              <a:ext cx="76320" cy="1443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37480" y="304812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142040" y="335268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37480" y="42670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37480" y="54864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42040" y="45720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142040" y="579132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37480" y="-9360"/>
              <a:ext cx="75960" cy="1029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142040" y="-7920"/>
              <a:ext cx="25560" cy="4064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837480" y="4762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37480" y="16956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42040" y="7812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142040" y="200016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dt" idx="3"/>
          </p:nvPr>
        </p:nvSpPr>
        <p:spPr>
          <a:xfrm>
            <a:off x="685440" y="5257440"/>
            <a:ext cx="390852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88C8-D735-403B-ACB9-C888F9E0C409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4"/>
          </p:nvPr>
        </p:nvSpPr>
        <p:spPr>
          <a:xfrm>
            <a:off x="685440" y="5638320"/>
            <a:ext cx="3908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5"/>
          </p:nvPr>
        </p:nvSpPr>
        <p:spPr>
          <a:xfrm>
            <a:off x="7236000" y="6356160"/>
            <a:ext cx="1908000" cy="50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lstStyle>
            <a:lvl1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8692-0AD7-4BBC-BC51-6685AC95B1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7200" y="404640"/>
            <a:ext cx="7489800" cy="5542200"/>
          </a:xfrm>
          <a:custGeom>
            <a:avLst/>
            <a:gdLst/>
            <a:ahLst/>
            <a:rect l="l" t="t" r="r" b="b"/>
            <a:pathLst>
              <a:path w="4718" h="3491">
                <a:moveTo>
                  <a:pt x="4718" y="3491"/>
                </a:moveTo>
                <a:lnTo>
                  <a:pt x="4718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20" y="167652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866560" y="-360"/>
            <a:ext cx="68576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5.wmf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7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47728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 Narrow"/>
              </a:rPr>
              <a:t>Pengantar Lokakarya</a:t>
            </a:r>
            <a:br>
              <a:rPr sz="3600"/>
            </a:br>
            <a:r>
              <a:rPr b="1" lang="en-US" sz="3600" spc="-1" strike="noStrike">
                <a:solidFill>
                  <a:srgbClr val="ff9900"/>
                </a:solidFill>
                <a:latin typeface="Arial Narrow"/>
              </a:rPr>
              <a:t>Pemanfaatan MULTIMEDIA </a:t>
            </a:r>
            <a:br>
              <a:rPr sz="3600"/>
            </a:br>
            <a:r>
              <a:rPr b="1" lang="en-US" sz="3600" spc="-1" strike="noStrike">
                <a:solidFill>
                  <a:srgbClr val="ff9900"/>
                </a:solidFill>
                <a:latin typeface="Arial Narrow"/>
              </a:rPr>
              <a:t>sebagai </a:t>
            </a:r>
            <a:br>
              <a:rPr sz="3600"/>
            </a:br>
            <a:r>
              <a:rPr b="1" lang="en-US" sz="3600" spc="-1" strike="noStrike">
                <a:solidFill>
                  <a:srgbClr val="ff9900"/>
                </a:solidFill>
                <a:latin typeface="Arial Narrow"/>
              </a:rPr>
              <a:t>ALAT PEMBELAJARAN YANG EFEKTIF</a:t>
            </a:r>
            <a:endParaRPr b="0" lang="en-US" sz="36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173120" y="3200040"/>
            <a:ext cx="49705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hiza S. Sadj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hiza@unhas.ac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ttp://www.unhas.ac.id/~rhiza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urusan Teknik Elekt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kultas Teknik Univ. Hasanudd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kass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65DDF0A-E922-4C8C-955C-6C9E4DF20707}" type="datetime1">
              <a:rPr lang="en-US"/>
              <a:t>07/28/26</a:t>
            </a:fld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800600" y="3429000"/>
            <a:ext cx="1746360" cy="24541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Komputer dalam Sistem Pembelajaran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0" i="1" lang="en-US" sz="3600" spc="-1" strike="noStrike">
                <a:solidFill>
                  <a:srgbClr val="ffffff"/>
                </a:solidFill>
                <a:latin typeface="Arial Narrow"/>
              </a:rPr>
              <a:t>Network-Based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0" y="1676520"/>
          <a:ext cx="9144000" cy="403848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ngkat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angkat Ker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angkat Luna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ri-cir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0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 JARINGAN KOMPU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MPUTER(PC, Workstation, Server), perangkat jaringan (NIC, HUB, BRIDGE, SWITCH), sistem telekomunika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ket-paket perangkat lunak berbasis jaring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ource sharing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bisa diakses dan meng-akses dari dan ke sistem informasi la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0" y="4648320"/>
          <a:ext cx="1905120" cy="190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648320"/>
                    <a:ext cx="190512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380880" y="3733920"/>
          <a:ext cx="1694160" cy="1147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3733920"/>
                    <a:ext cx="169416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 txBox="1"/>
          <p:nvPr/>
        </p:nvSpPr>
        <p:spPr>
          <a:xfrm>
            <a:off x="-380880" y="1752480"/>
            <a:ext cx="929628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rogram kita hari ini …………………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wipe dir="r"/>
    <p:sndAc>
      <p:stSnd>
        <p:snd r:embed="rId6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19040" y="2133720"/>
            <a:ext cx="84772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Arial Narrow"/>
              </a:rPr>
              <a:t>The End ............</a:t>
            </a:r>
            <a:endParaRPr b="0" lang="en-US" sz="48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410080" y="3809880"/>
            <a:ext cx="1528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The End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DC8967-70C4-4A9F-8770-6667F736F583}" type="datetime1">
              <a:rPr lang="en-US"/>
              <a:t>07/28/26</a:t>
            </a:fld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477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9900"/>
                </a:solidFill>
                <a:uFillTx/>
                <a:latin typeface="Arial Narrow"/>
              </a:rPr>
              <a:t>Teaching</a:t>
            </a: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 is ..............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752480" y="16761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.................about providing opportunities for students to learn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10080" y="4800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TIW Batch 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419112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on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ed. . [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00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, “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CURRICULUM DEVELOPMENT, S1 Engineering Programs in Indonesi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”, page 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F304C5-6C46-4E19-9264-226361419CF7}" type="datetime1">
              <a:rPr lang="en-US"/>
              <a:t>07/28/26</a:t>
            </a:fld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21480" cy="6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 Narrow"/>
              </a:rPr>
              <a:t>Teaching Formats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 (examples)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195440" y="1828440"/>
            <a:ext cx="4948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TER-APPREN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CIRCLE (TUTOR-NOVI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K and CHA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LL (PRACTICE, TEST, EXA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4006800" cy="2857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8280" y="533520"/>
            <a:ext cx="45720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Teaching is a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 Narrow"/>
              </a:rPr>
              <a:t>SKILL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 !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5410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r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hod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............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ds ...............TECHN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724280" y="1828800"/>
            <a:ext cx="3733920" cy="3733920"/>
            <a:chOff x="4724280" y="1828800"/>
            <a:chExt cx="3733920" cy="3733920"/>
          </a:xfrm>
        </p:grpSpPr>
        <p:sp>
          <p:nvSpPr>
            <p:cNvPr id="125" name=""/>
            <p:cNvSpPr/>
            <p:nvPr/>
          </p:nvSpPr>
          <p:spPr>
            <a:xfrm>
              <a:off x="4724280" y="1828800"/>
              <a:ext cx="3733920" cy="373392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952880" y="3200400"/>
              <a:ext cx="3276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EDUCATIONAL TECHNOLOGY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309840" y="1828800"/>
            <a:ext cx="2479680" cy="26668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1768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01840" y="1679400"/>
            <a:ext cx="4540320" cy="3497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2160" y="2057400"/>
            <a:ext cx="8421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Arial Narrow"/>
              </a:rPr>
              <a:t>Today’s Situation</a:t>
            </a:r>
            <a:endParaRPr b="0" lang="en-US" sz="5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1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383160" y="304920"/>
          <a:ext cx="2760840" cy="187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83160" y="304920"/>
                    <a:ext cx="276084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457200" y="4114800"/>
          <a:ext cx="2286000" cy="2281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114800"/>
                    <a:ext cx="2286000" cy="22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457200" y="304920"/>
          <a:ext cx="4724280" cy="1501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304920"/>
                    <a:ext cx="4724280" cy="15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8"/>
          <a:stretch/>
        </p:blipFill>
        <p:spPr>
          <a:xfrm>
            <a:off x="6272280" y="3886200"/>
            <a:ext cx="1965240" cy="243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3022560" y="2133720"/>
            <a:ext cx="4292640" cy="15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oday's Situa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66880" y="5790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ll kinds of HI-TECH stuffs 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1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4218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 Narrow"/>
              </a:rPr>
              <a:t>COMPUTER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236160" cy="29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..... as a teaching too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..... for ENGINEERING EDU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..... why ??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905120" y="1219320"/>
            <a:ext cx="2628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uter .....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419720" y="91440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7086600" y="990720"/>
          <a:ext cx="1550880" cy="14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990720"/>
                    <a:ext cx="155088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5638680" y="1447920"/>
          <a:ext cx="12384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447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6477120" y="3505320"/>
          <a:ext cx="1736640" cy="1887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77120" y="3505320"/>
                    <a:ext cx="173664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4648320" y="4191120"/>
          <a:ext cx="1538280" cy="2190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48320" y="4191120"/>
                    <a:ext cx="153828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0" y="5102280"/>
          <a:ext cx="2209680" cy="157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5102280"/>
                    <a:ext cx="2209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2590920" y="4876920"/>
          <a:ext cx="1884240" cy="97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90920" y="4876920"/>
                    <a:ext cx="18842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  <p:sndAc>
      <p:stSnd>
        <p:snd r:embed="rId15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8421840" cy="7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 Narrow"/>
              </a:rPr>
              <a:t>Available Options: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rbasis MAN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rbasis KOMPUTER 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mputer-Bas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rbasis JARINGAN KOMPUTER 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etwork-bas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38080" y="838080"/>
            <a:ext cx="3810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Aided Engineering ...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019920" y="380880"/>
          <a:ext cx="2590560" cy="243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80880"/>
                    <a:ext cx="259056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228600" y="1905120"/>
            <a:ext cx="83059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MPUTER dimanfaatkan dala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STEM PEMBELAJAR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  <p:sndAc>
      <p:stSnd>
        <p:snd r:embed="rId5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Komputer dalam Sistem Pembelajaran “MANUAL”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28600" y="1523880"/>
          <a:ext cx="8915400" cy="3259080"/>
        </p:xfrm>
        <a:graphic>
          <a:graphicData uri="http://schemas.openxmlformats.org/drawingml/2006/table">
            <a:tbl>
              <a:tblPr/>
              <a:tblGrid>
                <a:gridCol w="2228760"/>
                <a:gridCol w="2229120"/>
                <a:gridCol w="2228760"/>
                <a:gridCol w="2228760"/>
              </a:tblGrid>
              <a:tr h="103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ngkat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angkat Ker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angkat Luna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ri-cir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MANU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pan Tulis, Kapur, Spidol Pensil, Ballpoint, Buku Tulis, Mesin Tik sampai ke PC untuk membuat Hand-Ou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dak ada, atau paket-paket perangkat lunak “generik” yang tersedia, seperti pengolah kata,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ead-shee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ds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ngandalkan kemampuan manusiaw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3048120" y="5029200"/>
          <a:ext cx="1550880" cy="14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5029200"/>
                    <a:ext cx="155088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9" name="AMORGANI" descr=""/>
          <p:cNvPicPr/>
          <p:nvPr/>
        </p:nvPicPr>
        <p:blipFill>
          <a:blip r:embed="rId3"/>
          <a:stretch/>
        </p:blipFill>
        <p:spPr>
          <a:xfrm>
            <a:off x="304920" y="3581280"/>
            <a:ext cx="2130480" cy="2990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4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Komputer dalam Sistem Pembelajaran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0" i="1" lang="en-US" sz="3600" spc="-1" strike="noStrike">
                <a:solidFill>
                  <a:srgbClr val="ffffff"/>
                </a:solidFill>
                <a:latin typeface="Arial Narrow"/>
              </a:rPr>
              <a:t>Computer-Based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0" y="1371600"/>
          <a:ext cx="9144000" cy="41148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ngkat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angkat Ker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angkat Luna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ri-cir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STEM INFORMASI BERBASIS KOMPU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MPUTER umumnya P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ket-paket yang dibangun untuk keperluan yang spesifik, misalnya AUTOCAD, Matlab, EWB, penunjang Multimedia seperti Macromedia,dll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mputer dimanfaatkan sebagai alat bantu pembelajaran, baik oleh dosen mau pun mahasiswa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2666880" y="3200400"/>
          <a:ext cx="12384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20040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2590920" y="5105520"/>
          <a:ext cx="188424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5105520"/>
                    <a:ext cx="18842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304920" y="3505320"/>
          <a:ext cx="1736640" cy="188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3505320"/>
                    <a:ext cx="173664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  <p:sndAc>
      <p:stSnd>
        <p:snd r:embed="rId7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22:14:09Z</dcterms:created>
  <dc:creator>pc</dc:creator>
  <dc:description/>
  <dc:language>en-US</dc:language>
  <cp:lastModifiedBy>Mutiara S. Sadjad</cp:lastModifiedBy>
  <dcterms:modified xsi:type="dcterms:W3CDTF">2003-09-27T04:49:02Z</dcterms:modified>
  <cp:revision>55</cp:revision>
  <dc:subject/>
  <dc:title>Pengantar Teknologi Pendidikan</dc:title>
</cp:coreProperties>
</file>