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wmf" ContentType="image/x-wmf"/>
  <Override PartName="/ppt/media/image7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58E-BF18-441C-927C-9BDCDB46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29B-2C70-43EC-A9C5-BC34D09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925-39BE-4633-9EA5-1C552866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250-D194-4349-AE29-C0A2EBF7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740C-3AA5-4755-B189-E6B6D756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F5C2-D5CC-44D9-A224-332EC6E4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44F-8C71-4099-9C7F-9A0A44C1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671F-BCEF-4820-A7A0-847F7112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5D2C-6A1F-4539-BF75-BE0AD029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E3D5-397C-46BF-9AF8-8173B2A6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8268-0D1D-4226-81AA-8E2E9348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03D-AE8B-4CC1-AA4A-1F41214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982-0AA1-462E-9C87-CA384E2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1DEF-D430-42CD-8548-266AD6C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2378-CD9D-46A3-B23C-490B08E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22C2-B796-4F16-8705-7A099D3A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056B-84DC-4FCA-8FB6-EF85174F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836-092D-45BB-A2B6-49974E2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225-4950-4B73-9BB3-7A8A57E2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203-A375-4918-B211-BA7492E6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F63-3C9F-4B6E-8B7A-F02E9C32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E59E-8897-44CA-91C5-9F51E36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7C2-BCBF-4E12-AEF1-C80B8DE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B1C-EA4B-4615-ACA3-70D16EAA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6860-A6CF-4905-B64A-CD566109F3CE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509A-65F5-45CD-A6CE-47FA2C051551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5D56-7534-424C-8EF5-38BE5BCBC487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13A6-9845-4C2C-ADD3-EC0068887CF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LOKAKARYA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Pemanfaatan Multimedia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sebagai Alat Pembelajaran yang Efektif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 di Program Studi S1 Teknik Sipil 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Fakultas Teknik UNTAD Palu</a:t>
            </a:r>
            <a:br>
              <a:rPr sz="2800"/>
            </a:br>
            <a:r>
              <a:rPr b="1" i="1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Hari Kedua: Selasa, 1 Oktober 2003</a:t>
            </a:r>
            <a:r>
              <a:rPr b="1" i="1" lang="en-US" sz="4000" spc="-1" strike="noStrike">
                <a:solidFill>
                  <a:srgbClr val="ffcc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4495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hiza@unhas.ac.id     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0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IS BESAR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E499-BC9F-4DB7-A12A-8078993F09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B3577A9-09F1-47E1-B14B-5FE7E135DC71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2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1219320"/>
            <a:ext cx="327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66"/>
                </a:solidFill>
                <a:uFillTx/>
                <a:latin typeface="Tahoma"/>
                <a:ea typeface="Tahoma"/>
              </a:rPr>
              <a:t>Pengant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609840" y="2285640"/>
            <a:ext cx="9753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ntuk-bentuk Pembelaj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Teknologi Pendidi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Pemanfaatan Teknologi Komputer dalam 3 (tiga) tingkatan sistem informasi pembelajar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M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Kompu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7040" indent="-622440" algn="just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Courier New"/>
              </a:rPr>
              <a:t>o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  <a:ea typeface="Times New Roman"/>
              </a:rPr>
              <a:t>     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Berbasis Jaringan </a:t>
            </a:r>
            <a:r>
              <a:rPr b="1" lang="en-US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  <a:ea typeface="Tahoma"/>
              </a:rPr>
              <a:t> PROGRAM HARI INI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A6D-A0C9-4AEB-8604-047AB60578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CE10A-FFD8-41AA-AD8B-A8CDD9B85C86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ssion 1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EMBANGUN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MEPA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(ANJUNGAN ELEKTRONIK) RESMI PROGRAM STUDI TEKNIK SIPIL FT-UNTAD P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43828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Intranet dan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eb-serv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da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Web-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Berbagai manfaat dari tersediany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PR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ntoh dari Universitas lain, bagian-bagian utama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  PRO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Pengalaman di UNH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96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B59-1886-483F-9FE5-ACD3E90F99B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51247-B6BB-4060-99F5-AABA354A0626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8377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ession 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 MEMBANGU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  PRIBADI DOSEN dan STAF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590920"/>
            <a:ext cx="8839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Kegiatan-kegiatan utama seorang Dosen, contoh dari tempat l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Kegiatan Penelitia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089000" indent="-350640" algn="just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Kegiatan Mengajar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each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830E-0B18-484C-AE61-8245CC6DBE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F177A-9F13-41F1-A5BF-76A26E219151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8380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Session 3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: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MEMBANGUN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  MATA-KULIAH dan PRAKTIK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590920"/>
            <a:ext cx="883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atakuliah Kel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(Classroom Classes), Contoh-cont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Matakuliah Laboratoriu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Laboratory Classes), Contoh-Cont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089000" indent="-35064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9D-0131-4F8B-B5D8-787C16C5C33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5E9E9-EEE5-4362-B3EB-A9B563608E1A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 (DUA) “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URRENT ISSUE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” TEKNOLOGI INFORMASI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alah Hak Cipta (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pyrigh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n Pembaja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lur Hukum dan Non-Hukum: VI RU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rakan mendukung “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pen-sour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yang semakin jauh dengan sistem telekomunikasi selu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76520" y="5810400"/>
            <a:ext cx="2619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PYRIGH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0574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86400" y="5486400"/>
            <a:ext cx="2219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IRELES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450200" y="1066680"/>
          <a:ext cx="1693800" cy="114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50200" y="1066680"/>
                    <a:ext cx="16938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4648320"/>
          <a:ext cx="1905120" cy="190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648320"/>
                    <a:ext cx="190512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6E8-E88F-48B1-813F-54CCD0283E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503E3-852B-49CE-9D57-FC08F8DCEA5B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9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A2B-8841-4793-8A74-84B58D0CB0D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063C5F-294C-4263-8928-08F5D4B29F80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06:04:01Z</dcterms:modified>
  <cp:revision>67</cp:revision>
  <dc:subject/>
  <dc:title>PowerPoint Presentation</dc:title>
</cp:coreProperties>
</file>