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7C68-1CA5-4688-B435-5E26106AC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8E84-9969-407A-ACA3-15DF4256F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75B1-823A-4725-914B-E04CE35A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9A0-6717-444D-BE90-E75E4CAC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D55A-76A6-4BD7-BDFD-1E572042F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123C-768E-4159-9022-44F360980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7C3B-BC3B-42A5-941D-E828AA28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B933-736F-4A9E-933E-8F347690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0810-012C-43FF-8A28-DFDDD289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5B49-2C1F-41C2-8751-D930F756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8F19-3251-4566-B32D-BDD98167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75B8-AEBF-49BE-8D9F-6428686C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E4ED-1D3F-4C86-8610-D530CFC6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50B1-A416-4C6C-BE1E-3A887AB0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2C3F-AE82-4026-8C2E-266B6FB8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60DE-F23D-4071-A321-ECA8C6AD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449568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529200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BF38-3ABD-4305-A281-CC9FD642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6750-145F-43DC-B99C-751631A2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CF1-9CF3-4725-85DB-49D76E3C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AD8-D0B6-4BF9-9611-B38358A64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81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DA96-07CE-4C77-9ED8-0B8209FE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12D-5F60-4486-9D1A-A5CA6097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15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529200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90EE-8754-4FA2-8820-E9E5B601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449568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529200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9490-95A6-483E-AA72-B66A1AC4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0099cc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009999"/>
          </a:solidFill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EB5B-C29E-492D-906E-59391654F069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E20B-AD40-46C6-A1E8-F99060EB28BD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4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1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C258-961A-4382-87AA-CB3C5E4BB3B6}" type="datetime">
              <a:rPr b="0" lang="en-US" sz="1200" spc="-1" strike="noStrike">
                <a:solidFill>
                  <a:srgbClr val="b2b2b2"/>
                </a:solidFill>
                <a:latin typeface="Tahoma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0375-378E-4BB7-A389-6C3D0AC44EA7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hiza@unhas.ac.id" TargetMode="External"/><Relationship Id="rId2" Type="http://schemas.openxmlformats.org/officeDocument/2006/relationships/hyperlink" Target="http://www.unhas.ac.id/~rhiza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4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4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.wmf"/><Relationship Id="rId22" Type="http://schemas.openxmlformats.org/officeDocument/2006/relationships/oleObject" Target="../embeddings/oleObject11.bin"/><Relationship Id="rId23" Type="http://schemas.openxmlformats.org/officeDocument/2006/relationships/image" Target="../media/image4.wmf"/><Relationship Id="rId24" Type="http://schemas.openxmlformats.org/officeDocument/2006/relationships/oleObject" Target="../embeddings/oleObject12.bin"/><Relationship Id="rId25" Type="http://schemas.openxmlformats.org/officeDocument/2006/relationships/image" Target="../media/image4.wmf"/><Relationship Id="rId26" Type="http://schemas.openxmlformats.org/officeDocument/2006/relationships/oleObject" Target="../embeddings/oleObject13.bin"/><Relationship Id="rId27" Type="http://schemas.openxmlformats.org/officeDocument/2006/relationships/image" Target="../media/image3.wmf"/><Relationship Id="rId28" Type="http://schemas.openxmlformats.org/officeDocument/2006/relationships/oleObject" Target="../embeddings/oleObject14.bin"/><Relationship Id="rId29" Type="http://schemas.openxmlformats.org/officeDocument/2006/relationships/image" Target="../media/image5.wmf"/><Relationship Id="rId30" Type="http://schemas.openxmlformats.org/officeDocument/2006/relationships/oleObject" Target="../embeddings/oleObject15.bin"/><Relationship Id="rId31" Type="http://schemas.openxmlformats.org/officeDocument/2006/relationships/image" Target="../media/image6.wmf"/><Relationship Id="rId32" Type="http://schemas.openxmlformats.org/officeDocument/2006/relationships/image" Target="../media/image7.png"/><Relationship Id="rId3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ngr.wisc.edu/cgi/bin/show_image?2002cee_12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ngr.wisc.edu/cee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2057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Membangun </a:t>
            </a:r>
            <a:r>
              <a:rPr b="0" i="1" lang="en-US" sz="4000" spc="-1" strike="noStrike">
                <a:solidFill>
                  <a:srgbClr val="ffcc00"/>
                </a:solidFill>
                <a:latin typeface="Tahoma"/>
              </a:rPr>
              <a:t>HOMEPAGE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Program Studi</a:t>
            </a: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TEKNIK SIPIL FT-UNTAD PAL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133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hiza S. Sadjad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rhiza@unhas.ac.i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http://www.unhas.ac.id/~rhiza/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Jurusan Teknik Elektro Fakultas Teknik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UNIVERSITAS HASANUDDIN Makassar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ogram Studi Teknik Sipil FT-UNTAD Pal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7C81-C0CF-4370-BFBE-4393F08C1E9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B67F21B-3EA1-420B-A821-0DAE3B00EFA8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ERA INFORMASI GLOBAL 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828800"/>
            <a:ext cx="38862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2514600"/>
            <a:ext cx="3962520" cy="13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00"/>
                </a:solidFill>
                <a:latin typeface="Arial"/>
              </a:rPr>
              <a:t>Masyarak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i="1" lang="en-US" sz="5400" spc="-1" strike="noStrike">
                <a:solidFill>
                  <a:srgbClr val="ffcc00"/>
                </a:solidFill>
                <a:latin typeface="Arial"/>
              </a:rPr>
              <a:t>nyata”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4343400"/>
            <a:ext cx="1143000" cy="1143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47242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MASYARAKAT” MAY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00600" y="457200"/>
            <a:ext cx="3809880" cy="3352680"/>
          </a:xfrm>
          <a:prstGeom prst="ellipse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10280" y="1066680"/>
            <a:ext cx="318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MASYARAK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cc00"/>
                </a:solidFill>
                <a:latin typeface="Arial"/>
              </a:rPr>
              <a:t>INFORM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9828800">
            <a:off x="3809880" y="2361960"/>
            <a:ext cx="2133720" cy="609480"/>
          </a:xfrm>
          <a:custGeom>
            <a:avLst/>
            <a:gdLst>
              <a:gd name="textAreaLeft" fmla="*/ 333360 w 2133720"/>
              <a:gd name="textAreaRight" fmla="*/ 1867320 w 213372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9544400">
            <a:off x="3373200" y="3477960"/>
            <a:ext cx="3298680" cy="709560"/>
          </a:xfrm>
          <a:custGeom>
            <a:avLst/>
            <a:gdLst>
              <a:gd name="textAreaLeft" fmla="*/ 515160 w 3298680"/>
              <a:gd name="textAreaRight" fmla="*/ 2886480 w 3298680"/>
              <a:gd name="textAreaTop" fmla="*/ 177480 h 709560"/>
              <a:gd name="textAreaBottom" fmla="*/ 532440 h 709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am Studi Teknik Sipil FT-UNTAD Pal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7A0-3DD1-4F46-9176-32E2C1A38B2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B83A5-CA51-4341-9A84-77FC748E37D4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5105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anet dan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533520"/>
            <a:ext cx="5943600" cy="3124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2895480"/>
            <a:ext cx="5562720" cy="3429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14479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Jaringan GLOBAL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52578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Jaringan LOKAL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TRA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343400" y="2590920"/>
            <a:ext cx="1084320" cy="1523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724280" y="2666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eb-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162920" y="2819520"/>
          <a:ext cx="1066680" cy="106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2819520"/>
                    <a:ext cx="106668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3048120" y="1371600"/>
          <a:ext cx="687240" cy="762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8120" y="1371600"/>
                    <a:ext cx="687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04920" y="3505320"/>
          <a:ext cx="77148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505320"/>
                    <a:ext cx="771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380880" y="4952880"/>
          <a:ext cx="770040" cy="8384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0880" y="4952880"/>
                    <a:ext cx="7700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343400" y="5715000"/>
          <a:ext cx="771480" cy="838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43400" y="5715000"/>
                    <a:ext cx="771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5105520" y="5181480"/>
          <a:ext cx="771480" cy="83844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105520" y="5181480"/>
                    <a:ext cx="771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143000" y="3048120"/>
          <a:ext cx="771480" cy="838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1143000" y="3048120"/>
                    <a:ext cx="771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219320" y="5334120"/>
          <a:ext cx="771480" cy="838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1219320" y="5334120"/>
                    <a:ext cx="771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562720" y="4267080"/>
          <a:ext cx="771480" cy="83844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562720" y="4267080"/>
                    <a:ext cx="771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5638680" y="0"/>
          <a:ext cx="771480" cy="83808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638680" y="0"/>
                    <a:ext cx="771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553080" y="304920"/>
          <a:ext cx="771480" cy="83808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6553080" y="304920"/>
                    <a:ext cx="771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7543800" y="533520"/>
          <a:ext cx="771480" cy="838080"/>
        </p:xfrm>
        <a:graphic>
          <a:graphicData uri="http://schemas.openxmlformats.org/presentationml/2006/ole">
            <p:oleObj r:id="rId2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5"/>
                  <a:stretch/>
                </p:blipFill>
                <p:spPr>
                  <a:xfrm>
                    <a:off x="7543800" y="533520"/>
                    <a:ext cx="7714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8456760" y="1066680"/>
          <a:ext cx="687240" cy="76212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8456760" y="1066680"/>
                    <a:ext cx="687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5943600" y="5486400"/>
          <a:ext cx="914400" cy="4730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5943600" y="5486400"/>
                    <a:ext cx="9144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7543800" y="1600200"/>
          <a:ext cx="1295280" cy="87948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>
                    <a:off x="7543800" y="1600200"/>
                    <a:ext cx="129528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05_mmi_vls" descr=""/>
          <p:cNvPicPr/>
          <p:nvPr/>
        </p:nvPicPr>
        <p:blipFill>
          <a:blip r:embed="rId32"/>
          <a:stretch/>
        </p:blipFill>
        <p:spPr>
          <a:xfrm>
            <a:off x="3657600" y="2743200"/>
            <a:ext cx="844560" cy="808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251460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eb-ma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am Studi Teknik Sipil FT-UNTAD Pal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9455-1693-4A87-85F6-72122D858EE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A2BE51-0686-4B6D-A259-CF4D42D70A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Fungsi suatu </a:t>
            </a:r>
            <a:r>
              <a:rPr b="0" i="1" lang="en-US" sz="4000" spc="-1" strike="noStrike">
                <a:solidFill>
                  <a:srgbClr val="ffff00"/>
                </a:solidFill>
                <a:latin typeface="Tahoma"/>
              </a:rPr>
              <a:t>Homepage 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Program Studi, antara lain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243792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Kantor Elektronik” di “dunia maya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“</a:t>
            </a: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Papan Pengumuma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Ajang Promos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Kontak Alumn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SARANA PEMBELAJAR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MEDIA KOMUNIKASI, “Majalah Dinding Elektronik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3249720" y="27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49720" y="278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2002cee_12" descr="Click on me to find out what I'm abou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380880"/>
            <a:ext cx="2895480" cy="16527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-2017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486400" y="2971800"/>
            <a:ext cx="2819520" cy="761760"/>
            <a:chOff x="5486400" y="2971800"/>
            <a:chExt cx="2819520" cy="761760"/>
          </a:xfrm>
        </p:grpSpPr>
        <p:sp>
          <p:nvSpPr>
            <p:cNvPr id="177" name=""/>
            <p:cNvSpPr/>
            <p:nvPr/>
          </p:nvSpPr>
          <p:spPr>
            <a:xfrm>
              <a:off x="5486400" y="2971800"/>
              <a:ext cx="2819520" cy="761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86400" y="2971800"/>
              <a:ext cx="2819520" cy="761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ivil Engineering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324480" y="5257800"/>
            <a:ext cx="2819520" cy="761760"/>
            <a:chOff x="6324480" y="5257800"/>
            <a:chExt cx="2819520" cy="761760"/>
          </a:xfrm>
        </p:grpSpPr>
        <p:sp>
          <p:nvSpPr>
            <p:cNvPr id="180" name=""/>
            <p:cNvSpPr/>
            <p:nvPr/>
          </p:nvSpPr>
          <p:spPr>
            <a:xfrm>
              <a:off x="6324480" y="5257800"/>
              <a:ext cx="2819520" cy="761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24480" y="5257800"/>
              <a:ext cx="2819520" cy="76176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ivil Engineering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am Studi Teknik Sipil FT-UNTAD Pal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8FE9-C23D-465F-AFBE-539FD0B9ED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8072A4-2D47-4971-BEC5-FD963861E1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SI </a:t>
            </a:r>
            <a:r>
              <a:rPr b="0" i="1" lang="en-US" sz="3200" spc="-1" strike="noStrike">
                <a:solidFill>
                  <a:srgbClr val="ffff00"/>
                </a:solidFill>
                <a:latin typeface="Tahoma"/>
              </a:rPr>
              <a:t>HOMEPAGE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SUATU PROGRAM STUDI</a:t>
            </a:r>
            <a:br>
              <a:rPr sz="3200"/>
            </a:b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contoh: Dept. of Civil and Environmental Engineering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University of Wisconsin-MADISON WI US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2438280"/>
            <a:ext cx="7086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Faculty Profile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Profil Dosen-Do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Staff Profile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Profil Sta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Course Description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Daftar Matakulia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Research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Kegiatan Peneliti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Newsletter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Bulett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Event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Kegiatan dan Peristiw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ositions Available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Lowongan Ker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Mission and Educational Outcome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Visi dan Mis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In the New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Berita-Beri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Contacting U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Kontak, dan lain-la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905120"/>
            <a:ext cx="48006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http://www.engr.wisc.edu/cee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fountain" descr="The Fountain"/>
          <p:cNvPicPr/>
          <p:nvPr/>
        </p:nvPicPr>
        <p:blipFill>
          <a:blip r:embed="rId2"/>
          <a:stretch/>
        </p:blipFill>
        <p:spPr>
          <a:xfrm>
            <a:off x="6248520" y="1935000"/>
            <a:ext cx="2435040" cy="172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am Studi Teknik Sipil FT-UNTAD Pal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D697-3E8B-4DA4-97F9-3196B3C8F3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BC8E3-AD5B-43BE-8444-A2B17B89F7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838080" y="762120"/>
          <a:ext cx="6767640" cy="24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762120"/>
                    <a:ext cx="676764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Tahoma"/>
              </a:rPr>
              <a:t>Bagaimana membuatnya??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324480" y="304920"/>
          <a:ext cx="35719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304920"/>
                    <a:ext cx="35719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4724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embuat program dengan kode HTML (Hyper-Text Mark-up Languag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enggunakan editor, seperti 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Front-Page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dl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enggunakan aplikasi biasa seperti 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Microsoft Word, Excell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, dll., lalu dokumen di-”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save as HTML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” atau “</a:t>
            </a:r>
            <a:r>
              <a:rPr b="0" i="1" lang="en-US" sz="2400" spc="-1" strike="noStrike">
                <a:solidFill>
                  <a:srgbClr val="ffff00"/>
                </a:solidFill>
                <a:latin typeface="Tahoma"/>
              </a:rPr>
              <a:t>Web-page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eng-edit dan memodifikasi contoh yang sudah ada, ………… cari di Intern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1981080"/>
            <a:ext cx="3657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!DOCTYPE HTML PUBLIC "-//W3C//DTD HTML 4.0 Transitional//EN"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!-- saved from url=(0029)http://www.engr.wisc.edu/cee/ --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HTML&gt;&lt;HEAD&gt;&lt;TITLE&gt;Civil and Environmental Engineering at UW-Madison&lt;/TITL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META content="text/html; charset=windows-1252" http-equiv=Content-Type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META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content="civil engineering, civil, engineering, cee, wisconsin, madison, environmental engineering, construction management, geo-spatial engineering, geotechnical engineering, structural engineering"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name=keywords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META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content="Information for prospective and current students in Civil and Environmental Engineering at the University of Wisconsin-Madison.  Includes current research, recent news, upcoming events, course homepages and faculty vitaes."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name=description&gt;&lt;LINK href="civil-wisc_files/dept99.css" rel=stylesheet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type=text/css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META content="MSHTML 5.00.2614.3500" name=GENERATOR&gt;&lt;/HEAD&gt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ff99"/>
                </a:solidFill>
                <a:latin typeface="Tahoma"/>
              </a:rPr>
              <a:t>&lt;BODY aLink=#0000cc bgColor=#ffffff link=#333399 onload=focus() text=#000000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3048120"/>
            <a:ext cx="3467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ntoh HTML-code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gram Studi Teknik Sipil FT-UNTAD Palu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977D-090C-4080-BD0C-750AF05169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ACEDB-9250-46B8-B230-EE4C769BB6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3429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uat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Homepag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gram Studi Teknik Sipil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akultas Teknik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Universitas Tadulako PALU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219320"/>
            <a:ext cx="64767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ari Kita Coba Bersama................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62160" y="2995560"/>
            <a:ext cx="66196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et's start from the beginning ...........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ogram Studi Teknik Sipil FT-UNTAD Pal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B43D-4DB4-4BFD-8FE8-765AE324D08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0DE311C-BA83-41C7-8102-4F99B025A2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E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rogram Studi Teknik Sipil FT-UNTAD Palu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6470-C5CC-4CE8-834A-961F3D08528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1DB5010-11F0-4869-A8EE-BA642ED086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3-09-27T13:47:45Z</dcterms:modified>
  <cp:revision>46</cp:revision>
  <dc:subject/>
  <dc:title>PowerPoint Presentation</dc:title>
</cp:coreProperties>
</file>