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wmf" ContentType="image/x-wmf"/>
  <Override PartName="/ppt/media/image7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61D-2782-409B-BCCD-EAF32851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730-4DE9-480B-8847-12842B12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955-CB1D-4043-90A4-58C70198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7C7-3A5D-4B5C-A694-9B388795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CE28-E151-4732-80E7-513E6870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9887-40E0-4475-B668-E44AFFD2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2427-1B43-4C7C-9425-2B9702E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248-3F5C-4C9B-8FA1-B7765BC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6F7-E3EF-492F-B766-C1102E0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507B-8401-4917-BA77-F930B86B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9BE7-EEA6-42D1-87EF-D251DC5A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F6B-296C-4CB2-A2B2-8D053FF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1418-98A2-4399-BA03-CF102E0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5FD-8A08-432E-ADB4-FC8D2F11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EB8-1B77-495D-8E7D-7B4ABC82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6305-D10D-4B23-AED2-8FE45FCA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798-B89C-4FEE-9885-ABAD2079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4B5-EC48-4496-8974-19EE4582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FBB-2DD7-4FE1-AC75-9FA548E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814-938E-41AD-A7E7-B47F5D2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8EB-9B89-43BA-88A7-C4319C7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3C7-9B0F-4626-8401-27D985B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CE3-86FA-4038-BAC4-98EA684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C7E-8010-47FE-BEE7-5475A5A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63EA-27A9-43BC-BB71-28B505213221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EA61-EDCD-4948-9426-65C97825F265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32D-CD46-46B8-9E13-78DF1D37B581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307D-50D0-43BB-94A4-B94E72B2D27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LOKAKARYA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Pemanfaatan Multimedia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sebagai Alat Pembelajaran yang Efektif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 di Program Studi S1 Teknik Sipil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Fakultas Teknik UNTAD Palu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Hari Kedua: Selasa, 1 Oktober 2003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iza@unhas.ac.id     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0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IS BESA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7BD7-EC09-408B-8C93-119FA2C980C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1388BA-009C-43E8-B14F-24B015935D5E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24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121932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Tahoma"/>
                <a:ea typeface="Tahoma"/>
              </a:rPr>
              <a:t>Pengant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609840" y="2285640"/>
            <a:ext cx="9753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ntuk-bentuk Pembelaj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Teknologi Pendidi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Pemanfaatan Teknologi Komputer dalam 3 (tiga) tingkatan sistem informasi pembelajar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Courier New"/>
              </a:rPr>
              <a:t>o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rbasis M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Courier New"/>
              </a:rPr>
              <a:t>o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rbasis K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Courier New"/>
              </a:rPr>
              <a:t>o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imes New Roman"/>
              </a:rPr>
              <a:t>     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rbasis Jaringan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 PROGRAM HARI INI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0A2-7D7C-4F5E-AECD-269F20A7AD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50AC9-F5D6-4604-B11B-C9E52B7D4C76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ssion 1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MBANGUN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MEPA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ANJUNGAN ELEKTRONIK) RESMI PROGRAM STUDI TEKNIK SIPIL FT-UNTAD P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43828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tranet dan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Web-serv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da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Web-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Berbagai manfaat dari tersediany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HOMEP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PR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oh dari Universitas lain, bagian-bagian utam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HOMEP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PR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engalaman di UN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E0F-7E67-4CCD-83AD-8B3976EEF59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CB9A3-705C-4F60-BA77-59123DF3138E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ession 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: MEMBANGUN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HOMEPA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 PRIBADI DOSEN dan STA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839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9000" indent="-35064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Kegiatan-kegiatan utama seorang Dosen, contoh dari tempat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89000" indent="-35064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Kegiatan Penelitia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89000" indent="-35064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Kegiatan Mengajar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eac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BA5-8F27-427C-B8E5-8513F64C4F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FB431-91BF-408C-9596-6C30D5C0F190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8380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ession 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: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MEMBANGUN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HOMEPA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  MATA-KULIAH dan PRAKTIK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590920"/>
            <a:ext cx="883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9000" indent="-35064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atakuliah Kel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(Classroom Classes), Contoh-cont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9000" indent="-35064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takuliah Laboratoriu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Laboratory Classes), Contoh-Cont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9000" indent="-35064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2C6-A55B-4757-AEF4-4DB0385D0A1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8AF09-3A50-4C43-A471-2AC3E008919C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(DUA) “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ENT ISSU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” TEKNOLOGI INFORMASI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alah Hak Cipta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pyrigh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n Pembaja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lur Hukum dan Non-Hukum: VI RU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akan mendukung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pen-sour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yang semakin jauh dengan sistem telekomunikasi selu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00F-6A62-4BCB-BEF1-3C32B7AD45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49AF7-0131-41FB-9625-69AE04C02F09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9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D01-DB1D-4E4E-A0A7-BF6004D45EB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423389-247D-47F6-B0D3-F711C2158EBD}" type="datetime1">
              <a:rPr lang="en-US"/>
              <a:t>07/30/26</a:t>
            </a:fld>
          </a:p>
        </p:txBody>
      </p:sp>
    </p:spTree>
  </p:cSld>
  <p:transition spd="slow">
    <p:wipe dir="r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3-09-27T06:04:01Z</dcterms:modified>
  <cp:revision>67</cp:revision>
  <dc:subject/>
  <dc:title>PowerPoint Presentation</dc:title>
</cp:coreProperties>
</file>