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1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35E-1455-45E1-BF3B-B25482C9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7B5-CA1A-4916-B0B2-F65C0DE7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ED9-257F-4FF8-A9F4-33F5CD87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C01-33C5-4E30-8891-85AADFEC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C6AB-62D2-4C1F-9E99-56389E63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3857-3B24-4C02-B5F9-6F66853D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6AAD-13A4-421F-8804-E91C3642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2D1F-BD0B-4358-B46E-4D865EC3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F8DF-D8B8-4E8B-8988-DBDF8EB5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52D3-7751-4B2B-A6B0-90A77ECE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D74C-7D3C-4C6D-9C4B-71E47471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8FA-C171-4D68-8D87-D2440200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FB45-A846-43A6-962E-60EB067B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A0FB-0C40-4697-A8B2-4A9A90DC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C842-F2F6-42B0-B49D-5856D823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B6AA-DF16-4764-9171-B4E43D63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9102-E7BB-40A0-BDC2-66299588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12A4-16F4-46C4-9BEF-DF8ED5DA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969-398C-4EF0-96A1-1FA1D0CF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FED-C951-4C59-8FEE-F92246F8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FF7-5EA3-48C8-BD17-7BF88A40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281-2A51-4603-9224-E293BF12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292-2981-4D18-8A5E-1B7A17EE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374-4E48-4469-989D-411C5A45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3A2A-1539-4244-83B9-A8901806326D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4BBB-8B47-42F1-90FC-CE2724F47EAD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E9E2-BBAA-4033-9AC7-1DE334790112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ACA8-36A6-4BAC-BA0A-A30E074D3C57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hiza@unhas.ac.id" TargetMode="External"/><Relationship Id="rId2" Type="http://schemas.openxmlformats.org/officeDocument/2006/relationships/hyperlink" Target="http://www.unhas.ac.id/~rhiza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ngr.wisc.edu/cgi/bin/show_image?2002cee_12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gr.wisc.edu/cee/faculty/" TargetMode="External"/><Relationship Id="rId2" Type="http://schemas.openxmlformats.org/officeDocument/2006/relationships/hyperlink" Target="http://www.engr.wisc.edu/cee/faculty/adams_teresa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Membangun </a:t>
            </a: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HOMEPAGE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ribadi DOSEN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TEKNIK SIPIL FT-UNTAD PAL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hiza S. Sadjad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rhiza@unhas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www.unhas.ac.id/~rhiza/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rusan Teknik Elektro Fakultas Teknik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UNIVERSITAS HASANUDDIN Makassar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minar Internet di STT Baramuli Pinra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688E-247F-4E9F-A352-97EAA8D8286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A4C5509-8A18-49AA-854A-85FF722A828B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Fungsi suatu 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Homepage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ribadi Dosen, antara lain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Kantor Elektronik” di “dunia may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Papan Pengumuma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SARANA PEMBELAJARAN: </a:t>
            </a:r>
            <a:r>
              <a:rPr b="1" i="1" lang="en-US" sz="2400" spc="-1" strike="noStrike">
                <a:solidFill>
                  <a:srgbClr val="ff00ff"/>
                </a:solidFill>
                <a:latin typeface="Tahoma"/>
              </a:rPr>
              <a:t>Homepage </a:t>
            </a: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Matakuli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ARSIP KEGIATAN ILMIAH, disusun supaya memudahkan kenaikan pangkat (per kategor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Catatan alamat-alamat SITUS di INTERNET yang pe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24972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972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2002cee_12" descr="Click on me to find out what I'm abou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380880"/>
            <a:ext cx="2895480" cy="1652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017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81080" y="5105520"/>
            <a:ext cx="2819520" cy="761400"/>
            <a:chOff x="1981080" y="5105520"/>
            <a:chExt cx="2819520" cy="761400"/>
          </a:xfrm>
        </p:grpSpPr>
        <p:sp>
          <p:nvSpPr>
            <p:cNvPr id="129" name=""/>
            <p:cNvSpPr/>
            <p:nvPr/>
          </p:nvSpPr>
          <p:spPr>
            <a:xfrm>
              <a:off x="1981080" y="5105520"/>
              <a:ext cx="2819520" cy="7614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1080" y="5105520"/>
              <a:ext cx="2819520" cy="7614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ivil Engineering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24480" y="5257800"/>
            <a:ext cx="2819520" cy="761760"/>
            <a:chOff x="6324480" y="5257800"/>
            <a:chExt cx="2819520" cy="761760"/>
          </a:xfrm>
        </p:grpSpPr>
        <p:sp>
          <p:nvSpPr>
            <p:cNvPr id="132" name=""/>
            <p:cNvSpPr/>
            <p:nvPr/>
          </p:nvSpPr>
          <p:spPr>
            <a:xfrm>
              <a:off x="6324480" y="5257800"/>
              <a:ext cx="2819520" cy="761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24480" y="5257800"/>
              <a:ext cx="2819520" cy="761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ivil Engineering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 Internet di STT Baramuli Pinra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2C2C-DBA6-4DC6-87DE-3D62C485B4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321D0-F66B-4239-8705-20AD39D052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SI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HOMEPAG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Pribadi Dosen</a:t>
            </a:r>
            <a:br>
              <a:rPr sz="32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to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Fo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Nama dan Gel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Alamat e-mail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Riwayat Pendidi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Bidang Keahlian dan Min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Pengharg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Alamat Kantor/Rumah/No. Telp.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371600"/>
            <a:ext cx="83059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www.engr.wisc.edu/cee/faculty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www.engr.wisc.edu/cee/faculty/adams_teresa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http://www.engr.wisc.edu/cee/faculty/wu_chin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http://www.unhas.ac.id/~rhiza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332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adams_teresa" descr="Teresa M. Adams"/>
          <p:cNvPicPr/>
          <p:nvPr/>
        </p:nvPicPr>
        <p:blipFill>
          <a:blip r:embed="rId3"/>
          <a:stretch/>
        </p:blipFill>
        <p:spPr>
          <a:xfrm>
            <a:off x="7296120" y="3276720"/>
            <a:ext cx="1428840" cy="1904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34332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wu_chin" descr="Chin H.  Wu"/>
          <p:cNvPicPr/>
          <p:nvPr/>
        </p:nvPicPr>
        <p:blipFill>
          <a:blip r:embed="rId4"/>
          <a:stretch/>
        </p:blipFill>
        <p:spPr>
          <a:xfrm>
            <a:off x="6324480" y="4267080"/>
            <a:ext cx="120024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fountain" descr="The Fountain"/>
          <p:cNvPicPr/>
          <p:nvPr/>
        </p:nvPicPr>
        <p:blipFill>
          <a:blip r:embed="rId5"/>
          <a:stretch/>
        </p:blipFill>
        <p:spPr>
          <a:xfrm>
            <a:off x="6708600" y="4724280"/>
            <a:ext cx="2435400" cy="1722600"/>
          </a:xfrm>
          <a:prstGeom prst="rect">
            <a:avLst/>
          </a:prstGeom>
          <a:ln w="0">
            <a:noFill/>
          </a:ln>
        </p:spPr>
      </p:pic>
      <p:pic>
        <p:nvPicPr>
          <p:cNvPr id="142" name="rhiza" descr=""/>
          <p:cNvPicPr/>
          <p:nvPr/>
        </p:nvPicPr>
        <p:blipFill>
          <a:blip r:embed="rId6"/>
          <a:stretch/>
        </p:blipFill>
        <p:spPr>
          <a:xfrm>
            <a:off x="5334120" y="3352680"/>
            <a:ext cx="1104840" cy="16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 Internet di STT Baramuli Pinra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1BA-8516-45A5-B86E-F01761CA18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C77B7-D6A8-4E1F-9B63-3C4299C785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nternet" descr=""/>
          <p:cNvPicPr/>
          <p:nvPr/>
        </p:nvPicPr>
        <p:blipFill>
          <a:blip r:embed="rId1"/>
          <a:stretch/>
        </p:blipFill>
        <p:spPr>
          <a:xfrm>
            <a:off x="6881760" y="0"/>
            <a:ext cx="2262240" cy="28018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SI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HOMEPAG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Pribadi Dosen yang utam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3467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Kegiatan RISET (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RESEARCH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Kegiatan MENGAJAR (TEACH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800600" y="762120"/>
          <a:ext cx="3467160" cy="33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762120"/>
                    <a:ext cx="34671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04920" y="4191120"/>
            <a:ext cx="4419360" cy="15721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an kegiatan-kegiatan lai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engabdian pada Masyara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Hobby, Kegiatan Ekstra, d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netconfig" descr="Example"/>
          <p:cNvPicPr/>
          <p:nvPr/>
        </p:nvPicPr>
        <p:blipFill>
          <a:blip r:embed="rId4"/>
          <a:stretch/>
        </p:blipFill>
        <p:spPr>
          <a:xfrm>
            <a:off x="6729480" y="4038480"/>
            <a:ext cx="2414520" cy="1838520"/>
          </a:xfrm>
          <a:prstGeom prst="rect">
            <a:avLst/>
          </a:prstGeom>
          <a:ln w="0">
            <a:noFill/>
          </a:ln>
        </p:spPr>
      </p:pic>
      <p:pic>
        <p:nvPicPr>
          <p:cNvPr id="150" name="title_picture" descr=""/>
          <p:cNvPicPr/>
          <p:nvPr/>
        </p:nvPicPr>
        <p:blipFill>
          <a:blip r:embed="rId5"/>
          <a:stretch/>
        </p:blipFill>
        <p:spPr>
          <a:xfrm>
            <a:off x="4724280" y="2895480"/>
            <a:ext cx="2136960" cy="17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 Internet di STT Baramuli Pinra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F45-39EB-498B-BB12-FB3179FBB0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D4659-6120-40B3-995A-89BAF72BBA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838080" y="762120"/>
          <a:ext cx="6767640" cy="24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676764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ahoma"/>
              </a:rPr>
              <a:t>Bagaimana membuatnya??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324480" y="304920"/>
          <a:ext cx="35719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304920"/>
                    <a:ext cx="35719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embuat program dengan kode HTML (Hyper-Text Mark-up Languag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enggunakan editor, seperti 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Front-Page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enggunakan aplikasi biasa seperti 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Microsoft Word, Excell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, dll., lalu dokumen di-”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save as HTML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” atau “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Web-page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eng-edit dan memodifikasi contoh yang sudah ada, ………… cari di Inter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1981080"/>
            <a:ext cx="3657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!DOCTYPE HTML PUBLIC "-//W3C//DTD HTML 4.0 Transitional//EN"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!-- saved from url=(0029)http://www.engr.wisc.edu/cee/ --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HTML&gt;&lt;HEAD&gt;&lt;TITLE&gt;Civil and Environmental Engineering at UW-Madison&lt;/TITL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META content="text/html; charset=windows-1252" http-equiv=Content-Typ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META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content="civil engineering, civil, engineering, cee, wisconsin, madison, environmental engineering, construction management, geo-spatial engineering, geotechnical engineering, structural engineering"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name=keywords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META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content="Information for prospective and current students in Civil and Environmental Engineering at the University of Wisconsin-Madison.  Includes current research, recent news, upcoming events, course homepages and faculty vitaes."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name=description&gt;&lt;LINK href="civil-wisc_files/dept99.css" rel=styleshe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type=text/css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META content="MSHTML 5.00.2614.3500" name=GENERATOR&gt;&lt;/HEAD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BODY aLink=#0000cc bgColor=#ffffff link=#333399 onload=focus() text=#000000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3048120"/>
            <a:ext cx="3467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toh HTML-cod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 Internet di STT Baramuli Pinra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1B5-3DA2-4EB2-82A4-3EDCFD27C2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AE9A7-8187-4C22-9A9A-F81D40ADA0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minar Internet di STT Baramuli Pinra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763B-D0D5-47A8-97E6-5EC8726398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B41E5B3-1D12-4F9B-B301-72BA267920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3-09-27T15:24:51Z</dcterms:modified>
  <cp:revision>36</cp:revision>
  <dc:subject/>
  <dc:title>PowerPoint Presentation</dc:title>
</cp:coreProperties>
</file>