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13.jpeg" ContentType="image/jpe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png" ContentType="image/png"/>
  <Override PartName="/ppt/media/image11.wmf" ContentType="image/x-wmf"/>
  <Override PartName="/ppt/media/image12.png" ContentType="image/png"/>
  <Override PartName="/ppt/media/image8.png" ContentType="image/png"/>
  <Override PartName="/ppt/media/image9.png" ContentType="image/png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DDA4-1CCC-48F1-8306-42A85E4C9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371600" y="4495680"/>
            <a:ext cx="64008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1371600" y="5292000"/>
            <a:ext cx="64008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7B11-A863-466A-81CA-B59FADB54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4495680"/>
            <a:ext cx="312336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51560" y="4495680"/>
            <a:ext cx="312336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1371600" y="5292000"/>
            <a:ext cx="312336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51560" y="5292000"/>
            <a:ext cx="312336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5387-0700-4524-A6B2-0CD2FA7EA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4495680"/>
            <a:ext cx="206064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535560" y="4495680"/>
            <a:ext cx="206064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699880" y="4495680"/>
            <a:ext cx="206064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1371600" y="5292000"/>
            <a:ext cx="206064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535560" y="5292000"/>
            <a:ext cx="206064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699880" y="5292000"/>
            <a:ext cx="206064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BB52-7F89-4C17-BE66-061D8AE9F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310F8-E66F-4644-9F40-D6B2697D5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4495680"/>
            <a:ext cx="64008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DC58F-C22D-45C5-83A3-FAE34D4CF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71600" y="4495680"/>
            <a:ext cx="6400800" cy="15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0E826-3CE1-4E2B-9563-6486FB55D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4495680"/>
            <a:ext cx="3123360" cy="15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51560" y="4495680"/>
            <a:ext cx="3123360" cy="15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F3473-5764-4D78-A471-E847C9B28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C4E16-A9A8-4490-BAAB-93CACCDC3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85800" y="2286000"/>
            <a:ext cx="7772400" cy="81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CFE07-A288-428E-AB63-A0D787240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4495680"/>
            <a:ext cx="312336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51560" y="4495680"/>
            <a:ext cx="3123360" cy="15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371600" y="5292000"/>
            <a:ext cx="312336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2705D-5FC5-49CF-9B31-CCF59A805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1371600" y="4495680"/>
            <a:ext cx="64008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D241-D339-4B0C-850A-FFC38F253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71600" y="4495680"/>
            <a:ext cx="3123360" cy="15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51560" y="4495680"/>
            <a:ext cx="312336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51560" y="5292000"/>
            <a:ext cx="312336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980C3-C6E6-464E-8278-E22336042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1600" y="4495680"/>
            <a:ext cx="312336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51560" y="4495680"/>
            <a:ext cx="312336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371600" y="5292000"/>
            <a:ext cx="64008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1299B-0107-4C54-824D-04C6DEA35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71600" y="4495680"/>
            <a:ext cx="64008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1371600" y="5292000"/>
            <a:ext cx="64008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716DF-E256-440C-A936-DB6CD133E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4495680"/>
            <a:ext cx="312336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51560" y="4495680"/>
            <a:ext cx="312336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371600" y="5292000"/>
            <a:ext cx="312336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51560" y="5292000"/>
            <a:ext cx="312336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D798B-F33A-4574-9924-64F45D3FB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600" y="4495680"/>
            <a:ext cx="206064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535560" y="4495680"/>
            <a:ext cx="206064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699880" y="4495680"/>
            <a:ext cx="206064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1371600" y="5292000"/>
            <a:ext cx="206064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535560" y="5292000"/>
            <a:ext cx="206064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699880" y="5292000"/>
            <a:ext cx="206064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4472B-C1E2-41F3-9FF7-F3F59E3E6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4495680"/>
            <a:ext cx="6400800" cy="15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5A16-5E73-4360-B360-A7F5725F2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4495680"/>
            <a:ext cx="3123360" cy="15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1560" y="4495680"/>
            <a:ext cx="3123360" cy="15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B603-51DD-4BFC-860D-A985DF268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627C-3DB7-4238-9F81-325AA085F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2286000"/>
            <a:ext cx="7772400" cy="81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E507-7048-4945-8767-4D26F463C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4495680"/>
            <a:ext cx="312336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51560" y="4495680"/>
            <a:ext cx="3123360" cy="15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71600" y="5292000"/>
            <a:ext cx="312336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3780-7E4B-4BCA-9DD8-4C776B761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4495680"/>
            <a:ext cx="3123360" cy="15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51560" y="4495680"/>
            <a:ext cx="312336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51560" y="5292000"/>
            <a:ext cx="312336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775F-47B8-4D7F-B912-51DF5C10A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71600" y="4495680"/>
            <a:ext cx="312336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51560" y="4495680"/>
            <a:ext cx="312336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371600" y="5292000"/>
            <a:ext cx="64008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61F3-DE65-426F-BBC2-D7AAF078A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51560" indent="-210240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472040" indent="-210240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1892520" indent="-210240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1892520" indent="-2102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1892520" indent="-2102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"/>
          <p:cNvSpPr/>
          <p:nvPr/>
        </p:nvSpPr>
        <p:spPr>
          <a:xfrm>
            <a:off x="0" y="2286000"/>
            <a:ext cx="53352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33520" y="2819520"/>
            <a:ext cx="533160" cy="53316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981080" y="533520"/>
            <a:ext cx="381240" cy="38088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066680"/>
            <a:ext cx="380880" cy="38124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143000" y="685800"/>
            <a:ext cx="380880" cy="38088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2362320" y="152280"/>
            <a:ext cx="380880" cy="38124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755640"/>
            <a:ext cx="5867280" cy="763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5715000" y="609480"/>
            <a:ext cx="304920" cy="304920"/>
          </a:xfrm>
          <a:prstGeom prst="rect">
            <a:avLst/>
          </a:prstGeom>
          <a:solidFill>
            <a:srgbClr val="0099cc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5562720" y="457200"/>
            <a:ext cx="304560" cy="30492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8458200" y="3962520"/>
            <a:ext cx="380880" cy="380880"/>
          </a:xfrm>
          <a:prstGeom prst="rect">
            <a:avLst/>
          </a:prstGeom>
          <a:solidFill>
            <a:srgbClr val="0099cc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8686800" y="3657600"/>
            <a:ext cx="380880" cy="380880"/>
          </a:xfrm>
          <a:prstGeom prst="rect">
            <a:avLst/>
          </a:prstGeom>
          <a:solidFill>
            <a:srgbClr val="009999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" name=""/>
          <p:cNvGrpSpPr/>
          <p:nvPr/>
        </p:nvGrpSpPr>
        <p:grpSpPr>
          <a:xfrm>
            <a:off x="0" y="2286000"/>
            <a:ext cx="1066680" cy="1066680"/>
            <a:chOff x="0" y="2286000"/>
            <a:chExt cx="1066680" cy="1066680"/>
          </a:xfrm>
        </p:grpSpPr>
        <p:sp>
          <p:nvSpPr>
            <p:cNvPr id="13" name=""/>
            <p:cNvSpPr/>
            <p:nvPr/>
          </p:nvSpPr>
          <p:spPr>
            <a:xfrm>
              <a:off x="0" y="2286000"/>
              <a:ext cx="533520" cy="53316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33520" y="281916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" name="PlaceHolder 2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7F391-9018-42A9-BA6D-898F1CB2B883}" type="datetime">
              <a:rPr b="0" lang="en-US" sz="1200" spc="-1" strike="noStrike">
                <a:solidFill>
                  <a:srgbClr val="b2b2b2"/>
                </a:solidFill>
                <a:latin typeface="Tahoma"/>
              </a:rPr>
              <a:t>07/30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00198-366F-4C60-B353-9B854307897B}" type="slidenum">
              <a:rPr b="1" lang="en-US" sz="28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" name=""/>
          <p:cNvGrpSpPr/>
          <p:nvPr/>
        </p:nvGrpSpPr>
        <p:grpSpPr>
          <a:xfrm>
            <a:off x="762120" y="152280"/>
            <a:ext cx="1981080" cy="1295640"/>
            <a:chOff x="762120" y="152280"/>
            <a:chExt cx="1981080" cy="1295640"/>
          </a:xfrm>
        </p:grpSpPr>
        <p:sp>
          <p:nvSpPr>
            <p:cNvPr id="20" name=""/>
            <p:cNvSpPr/>
            <p:nvPr/>
          </p:nvSpPr>
          <p:spPr>
            <a:xfrm>
              <a:off x="1981440" y="533520"/>
              <a:ext cx="380880" cy="38088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62120" y="1066680"/>
              <a:ext cx="380880" cy="38124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143000" y="685800"/>
              <a:ext cx="381240" cy="38088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2362320" y="152280"/>
              <a:ext cx="380880" cy="38124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895480" y="4303800"/>
            <a:ext cx="3276720" cy="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"/>
          <p:cNvSpPr/>
          <p:nvPr/>
        </p:nvSpPr>
        <p:spPr>
          <a:xfrm>
            <a:off x="0" y="1066680"/>
            <a:ext cx="868680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533520" y="0"/>
            <a:ext cx="3276360" cy="2133720"/>
            <a:chOff x="533520" y="0"/>
            <a:chExt cx="3276360" cy="2133720"/>
          </a:xfrm>
        </p:grpSpPr>
        <p:sp>
          <p:nvSpPr>
            <p:cNvPr id="64" name=""/>
            <p:cNvSpPr/>
            <p:nvPr/>
          </p:nvSpPr>
          <p:spPr>
            <a:xfrm>
              <a:off x="1600200" y="1066680"/>
              <a:ext cx="53352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33720" y="160020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276720" y="106668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06668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533520" y="0"/>
            <a:ext cx="3276000" cy="2133720"/>
            <a:chOff x="533520" y="0"/>
            <a:chExt cx="3276000" cy="2133720"/>
          </a:xfrm>
        </p:grpSpPr>
        <p:sp>
          <p:nvSpPr>
            <p:cNvPr id="71" name=""/>
            <p:cNvSpPr/>
            <p:nvPr/>
          </p:nvSpPr>
          <p:spPr>
            <a:xfrm>
              <a:off x="1599840" y="1067040"/>
              <a:ext cx="533160" cy="53316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133360" y="160020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742840" y="53352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276360" y="1067040"/>
              <a:ext cx="533160" cy="53316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066680" y="533520"/>
              <a:ext cx="532800" cy="53352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4114800" y="4191120"/>
            <a:ext cx="210960" cy="210960"/>
          </a:xfrm>
          <a:prstGeom prst="rect">
            <a:avLst/>
          </a:prstGeom>
          <a:solidFill>
            <a:srgbClr val="0099cc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419720" y="4191120"/>
            <a:ext cx="210960" cy="210960"/>
          </a:xfrm>
          <a:prstGeom prst="rect">
            <a:avLst/>
          </a:prstGeom>
          <a:solidFill>
            <a:srgbClr val="0099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724280" y="4191120"/>
            <a:ext cx="211320" cy="210960"/>
          </a:xfrm>
          <a:prstGeom prst="rect">
            <a:avLst/>
          </a:prstGeom>
          <a:solidFill>
            <a:srgbClr val="00cc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D0F97-1EF4-4956-83DF-518E31B32FC3}" type="datetime">
              <a:rPr b="0" lang="en-US" sz="1200" spc="-1" strike="noStrike">
                <a:solidFill>
                  <a:srgbClr val="b2b2b2"/>
                </a:solidFill>
                <a:latin typeface="Tahoma"/>
              </a:rPr>
              <a:t>07/30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DD978-1FFB-4AD8-8105-25D907EE356A}" type="slidenum">
              <a:rPr b="1" lang="en-US" sz="3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rhiza@unhas.ac.id" TargetMode="External"/><Relationship Id="rId2" Type="http://schemas.openxmlformats.org/officeDocument/2006/relationships/hyperlink" Target="http://www.unhas.ac.id/~rhiza/" TargetMode="External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4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4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4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4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4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4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4.wmf"/><Relationship Id="rId22" Type="http://schemas.openxmlformats.org/officeDocument/2006/relationships/oleObject" Target="../embeddings/oleObject11.bin"/><Relationship Id="rId23" Type="http://schemas.openxmlformats.org/officeDocument/2006/relationships/image" Target="../media/image4.wmf"/><Relationship Id="rId24" Type="http://schemas.openxmlformats.org/officeDocument/2006/relationships/oleObject" Target="../embeddings/oleObject12.bin"/><Relationship Id="rId25" Type="http://schemas.openxmlformats.org/officeDocument/2006/relationships/image" Target="../media/image4.wmf"/><Relationship Id="rId26" Type="http://schemas.openxmlformats.org/officeDocument/2006/relationships/oleObject" Target="../embeddings/oleObject13.bin"/><Relationship Id="rId27" Type="http://schemas.openxmlformats.org/officeDocument/2006/relationships/image" Target="../media/image3.wmf"/><Relationship Id="rId28" Type="http://schemas.openxmlformats.org/officeDocument/2006/relationships/oleObject" Target="../embeddings/oleObject14.bin"/><Relationship Id="rId29" Type="http://schemas.openxmlformats.org/officeDocument/2006/relationships/image" Target="../media/image5.wmf"/><Relationship Id="rId30" Type="http://schemas.openxmlformats.org/officeDocument/2006/relationships/oleObject" Target="../embeddings/oleObject15.bin"/><Relationship Id="rId31" Type="http://schemas.openxmlformats.org/officeDocument/2006/relationships/image" Target="../media/image6.wmf"/><Relationship Id="rId32" Type="http://schemas.openxmlformats.org/officeDocument/2006/relationships/image" Target="../media/image7.png"/><Relationship Id="rId3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ngr.wisc.edu/cgi/bin/show_image?2002cee_12" TargetMode="Externa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ngr.wisc.edu/cee/" TargetMode="Externa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20574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Membangun </a:t>
            </a:r>
            <a:r>
              <a:rPr b="0" i="1" lang="en-US" sz="4000" spc="-1" strike="noStrike">
                <a:solidFill>
                  <a:srgbClr val="ffcc00"/>
                </a:solidFill>
                <a:latin typeface="Tahoma"/>
              </a:rPr>
              <a:t>HOMEPAGE</a:t>
            </a: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Program Studi</a:t>
            </a:r>
            <a:br>
              <a:rPr sz="4000"/>
            </a:b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TEKNIK SIPIL FT-UNTAD PALU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213372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Rhiza S. Sadjad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Tahoma"/>
                <a:hlinkClick r:id="rId1"/>
              </a:rPr>
              <a:t>rhiza@unhas.ac.id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  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ahoma"/>
                <a:hlinkClick r:id="rId2"/>
              </a:rPr>
              <a:t>http://www.unhas.ac.id/~rhiza/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Jurusan Teknik Elektro Fakultas Teknik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UNIVERSITAS HASANUDDIN Makassar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rogram Studi Teknik Sipil FT-UNTAD Pal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07D84-5EAD-4925-A3B4-6EB7564B3EFB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C2025DF8-CE67-4875-B32D-E5DC2F2B84F1}" type="datetime1">
              <a:rPr lang="en-US"/>
              <a:t>07/30/26</a:t>
            </a:fld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ERA INFORMASI GLOBAL !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1828800"/>
            <a:ext cx="3886200" cy="297180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" y="2514600"/>
            <a:ext cx="3962520" cy="13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ffcc00"/>
                </a:solidFill>
                <a:latin typeface="Arial"/>
              </a:rPr>
              <a:t>Masyarakat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ffcc00"/>
                </a:solidFill>
                <a:latin typeface="Arial"/>
              </a:rPr>
              <a:t>“</a:t>
            </a:r>
            <a:r>
              <a:rPr b="0" i="1" lang="en-US" sz="5400" spc="-1" strike="noStrike">
                <a:solidFill>
                  <a:srgbClr val="ffcc00"/>
                </a:solidFill>
                <a:latin typeface="Arial"/>
              </a:rPr>
              <a:t>nyata”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514600" y="4343400"/>
            <a:ext cx="1143000" cy="1143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04920" y="4724280"/>
            <a:ext cx="28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00"/>
                </a:solidFill>
                <a:latin typeface="Arial"/>
              </a:rPr>
              <a:t>“</a:t>
            </a:r>
            <a:r>
              <a:rPr b="1" i="1" lang="en-US" sz="2400" spc="-1" strike="noStrike">
                <a:solidFill>
                  <a:srgbClr val="ffcc00"/>
                </a:solidFill>
                <a:latin typeface="Arial"/>
              </a:rPr>
              <a:t>MASYARAKAT” MAY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800600" y="457200"/>
            <a:ext cx="3809880" cy="3352680"/>
          </a:xfrm>
          <a:prstGeom prst="ellipse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210280" y="1066680"/>
            <a:ext cx="318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00"/>
                </a:solidFill>
                <a:latin typeface="Arial"/>
              </a:rPr>
              <a:t>MASYARAKA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00"/>
                </a:solidFill>
                <a:latin typeface="Arial"/>
              </a:rPr>
              <a:t>INFORMAS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9828800">
            <a:off x="3809880" y="2361960"/>
            <a:ext cx="2133720" cy="609480"/>
          </a:xfrm>
          <a:custGeom>
            <a:avLst/>
            <a:gdLst>
              <a:gd name="textAreaLeft" fmla="*/ 333360 w 2133720"/>
              <a:gd name="textAreaRight" fmla="*/ 1867320 w 213372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rot="19544400">
            <a:off x="3373200" y="3477960"/>
            <a:ext cx="3298680" cy="709560"/>
          </a:xfrm>
          <a:custGeom>
            <a:avLst/>
            <a:gdLst>
              <a:gd name="textAreaLeft" fmla="*/ 515160 w 3298680"/>
              <a:gd name="textAreaRight" fmla="*/ 2886480 w 3298680"/>
              <a:gd name="textAreaTop" fmla="*/ 177480 h 709560"/>
              <a:gd name="textAreaBottom" fmla="*/ 532440 h 709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ram Studi Teknik Sipil FT-UNTAD Pal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CB50-D3D5-4664-8F55-65F7D87907C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AE0AB9-11D2-4574-8ED9-E46E68A7ABA5}" type="datetime1">
              <a:rPr lang="en-US"/>
              <a:t>07/30/26</a:t>
            </a:fld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560" y="533160"/>
            <a:ext cx="5105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ntranet dan Interne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3200400" y="533520"/>
            <a:ext cx="5943600" cy="31240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80880" y="2895480"/>
            <a:ext cx="5562720" cy="34290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724280" y="14479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Jaringan GLOBAL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INTERN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523880" y="5257800"/>
            <a:ext cx="312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Jaringan LOKAL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INTRAN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343400" y="2590920"/>
            <a:ext cx="1084320" cy="15238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4724280" y="26668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Web-ser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7162920" y="2819520"/>
          <a:ext cx="1066680" cy="1063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162920" y="2819520"/>
                    <a:ext cx="1066680" cy="106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"/>
          <p:cNvGraphicFramePr/>
          <p:nvPr/>
        </p:nvGraphicFramePr>
        <p:xfrm>
          <a:off x="3048120" y="1371600"/>
          <a:ext cx="687240" cy="762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8120" y="1371600"/>
                    <a:ext cx="68724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2" name=""/>
          <p:cNvGraphicFramePr/>
          <p:nvPr/>
        </p:nvGraphicFramePr>
        <p:xfrm>
          <a:off x="304920" y="3505320"/>
          <a:ext cx="771480" cy="8380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505320"/>
                    <a:ext cx="77148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" name=""/>
          <p:cNvGraphicFramePr/>
          <p:nvPr/>
        </p:nvGraphicFramePr>
        <p:xfrm>
          <a:off x="380880" y="4952880"/>
          <a:ext cx="770040" cy="8384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80880" y="4952880"/>
                    <a:ext cx="77004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4343400" y="5715000"/>
          <a:ext cx="771480" cy="838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343400" y="5715000"/>
                    <a:ext cx="77148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" name=""/>
          <p:cNvGraphicFramePr/>
          <p:nvPr/>
        </p:nvGraphicFramePr>
        <p:xfrm>
          <a:off x="5105520" y="5181480"/>
          <a:ext cx="771480" cy="8384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105520" y="5181480"/>
                    <a:ext cx="77148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" name=""/>
          <p:cNvGraphicFramePr/>
          <p:nvPr/>
        </p:nvGraphicFramePr>
        <p:xfrm>
          <a:off x="1143000" y="3048120"/>
          <a:ext cx="771480" cy="83808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1143000" y="3048120"/>
                    <a:ext cx="77148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1219320" y="5334120"/>
          <a:ext cx="771480" cy="83808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1219320" y="5334120"/>
                    <a:ext cx="77148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5562720" y="4267080"/>
          <a:ext cx="771480" cy="83844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5562720" y="4267080"/>
                    <a:ext cx="77148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" name=""/>
          <p:cNvGraphicFramePr/>
          <p:nvPr/>
        </p:nvGraphicFramePr>
        <p:xfrm>
          <a:off x="5638680" y="0"/>
          <a:ext cx="771480" cy="83808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5638680" y="0"/>
                    <a:ext cx="77148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6553080" y="304920"/>
          <a:ext cx="771480" cy="83808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6553080" y="304920"/>
                    <a:ext cx="77148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7543800" y="533520"/>
          <a:ext cx="771480" cy="83808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7543800" y="533520"/>
                    <a:ext cx="77148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2" name=""/>
          <p:cNvGraphicFramePr/>
          <p:nvPr/>
        </p:nvGraphicFramePr>
        <p:xfrm>
          <a:off x="8456760" y="1066680"/>
          <a:ext cx="687240" cy="762120"/>
        </p:xfrm>
        <a:graphic>
          <a:graphicData uri="http://schemas.openxmlformats.org/presentationml/2006/ole">
            <p:oleObj r:id="rId26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7"/>
                  <a:stretch/>
                </p:blipFill>
                <p:spPr>
                  <a:xfrm>
                    <a:off x="8456760" y="1066680"/>
                    <a:ext cx="68724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" name=""/>
          <p:cNvGraphicFramePr/>
          <p:nvPr/>
        </p:nvGraphicFramePr>
        <p:xfrm>
          <a:off x="5943600" y="5486400"/>
          <a:ext cx="914400" cy="473040"/>
        </p:xfrm>
        <a:graphic>
          <a:graphicData uri="http://schemas.openxmlformats.org/presentationml/2006/ole">
            <p:oleObj r:id="rId28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9"/>
                  <a:stretch/>
                </p:blipFill>
                <p:spPr>
                  <a:xfrm>
                    <a:off x="5943600" y="5486400"/>
                    <a:ext cx="914400" cy="4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7543800" y="1600200"/>
          <a:ext cx="1295280" cy="879480"/>
        </p:xfrm>
        <a:graphic>
          <a:graphicData uri="http://schemas.openxmlformats.org/presentationml/2006/ole">
            <p:oleObj r:id="rId30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31"/>
                  <a:stretch/>
                </p:blipFill>
                <p:spPr>
                  <a:xfrm>
                    <a:off x="7543800" y="1600200"/>
                    <a:ext cx="1295280" cy="87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8" name="05_mmi_vls" descr=""/>
          <p:cNvPicPr/>
          <p:nvPr/>
        </p:nvPicPr>
        <p:blipFill>
          <a:blip r:embed="rId32"/>
          <a:stretch/>
        </p:blipFill>
        <p:spPr>
          <a:xfrm>
            <a:off x="3657600" y="2743200"/>
            <a:ext cx="844560" cy="8082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2514600" y="35053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Web-mas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ram Studi Teknik Sipil FT-UNTAD Pal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9B85-6A41-45D4-85F6-57A81AB24606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171AFA-7B79-4260-BEB3-CFF55351ED9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-360" y="60912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Fungsi suatu </a:t>
            </a:r>
            <a:r>
              <a:rPr b="0" i="1" lang="en-US" sz="4000" spc="-1" strike="noStrike">
                <a:solidFill>
                  <a:srgbClr val="ffff00"/>
                </a:solidFill>
                <a:latin typeface="Tahoma"/>
              </a:rPr>
              <a:t>Homepage </a:t>
            </a: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Program Studi, antara lain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09120" y="2437920"/>
            <a:ext cx="76201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Tahoma"/>
              </a:rPr>
              <a:t>“</a:t>
            </a:r>
            <a:r>
              <a:rPr b="1" lang="en-US" sz="2800" spc="-1" strike="noStrike">
                <a:solidFill>
                  <a:srgbClr val="ff00ff"/>
                </a:solidFill>
                <a:latin typeface="Tahoma"/>
              </a:rPr>
              <a:t>Kantor Elektronik” di “dunia maya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Tahoma"/>
              </a:rPr>
              <a:t>“</a:t>
            </a:r>
            <a:r>
              <a:rPr b="1" lang="en-US" sz="2800" spc="-1" strike="noStrike">
                <a:solidFill>
                  <a:srgbClr val="ff00ff"/>
                </a:solidFill>
                <a:latin typeface="Tahoma"/>
              </a:rPr>
              <a:t>Papan Pengumuman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Tahoma"/>
              </a:rPr>
              <a:t>Ajang Promos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Tahoma"/>
              </a:rPr>
              <a:t>Kontak Alumn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Tahoma"/>
              </a:rPr>
              <a:t>SARANA PEMBELAJAR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Tahoma"/>
              </a:rPr>
              <a:t>MEDIA KOMUNIKASI, “Majalah Dinding Elektronik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"/>
          <p:cNvSpPr/>
          <p:nvPr/>
        </p:nvSpPr>
        <p:spPr>
          <a:xfrm>
            <a:off x="3249720" y="278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49720" y="278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2002cee_12" descr="Click on me to find out what I'm abou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48520" y="380880"/>
            <a:ext cx="2895480" cy="165276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-201780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486400" y="2971800"/>
            <a:ext cx="2819520" cy="761760"/>
            <a:chOff x="5486400" y="2971800"/>
            <a:chExt cx="2819520" cy="761760"/>
          </a:xfrm>
        </p:grpSpPr>
        <p:sp>
          <p:nvSpPr>
            <p:cNvPr id="177" name=""/>
            <p:cNvSpPr/>
            <p:nvPr/>
          </p:nvSpPr>
          <p:spPr>
            <a:xfrm>
              <a:off x="5486400" y="2971800"/>
              <a:ext cx="2819520" cy="76176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486400" y="2971800"/>
              <a:ext cx="2819520" cy="76176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ivil Engineering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6324480" y="5257800"/>
            <a:ext cx="2819520" cy="761760"/>
            <a:chOff x="6324480" y="5257800"/>
            <a:chExt cx="2819520" cy="761760"/>
          </a:xfrm>
        </p:grpSpPr>
        <p:sp>
          <p:nvSpPr>
            <p:cNvPr id="180" name=""/>
            <p:cNvSpPr/>
            <p:nvPr/>
          </p:nvSpPr>
          <p:spPr>
            <a:xfrm>
              <a:off x="6324480" y="5257800"/>
              <a:ext cx="2819520" cy="76176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324480" y="5257800"/>
              <a:ext cx="2819520" cy="76176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ivil Engineering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ram Studi Teknik Sipil FT-UNTAD Pal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7DCB-B48A-4002-83C4-BC00F7EF0B8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035045-82E0-4FC4-9BC3-E40A0B954BF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ISI </a:t>
            </a:r>
            <a:r>
              <a:rPr b="0" i="1" lang="en-US" sz="3200" spc="-1" strike="noStrike">
                <a:solidFill>
                  <a:srgbClr val="ffff00"/>
                </a:solidFill>
                <a:latin typeface="Tahoma"/>
              </a:rPr>
              <a:t>HOMEPAGE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 SUATU PROGRAM STUDI</a:t>
            </a:r>
            <a:br>
              <a:rPr sz="3200"/>
            </a:b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contoh: Dept. of Civil and Environmental Engineering 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University of Wisconsin-MADISON WI US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66320" y="2438280"/>
            <a:ext cx="7086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Faculty Profiles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/Profil Dosen-Dos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Staff Profiles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/Profil Staf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Course Descriptions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/Daftar Matakuliah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Research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/Kegiatan Penelitia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Newsletter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/Buletti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Events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/Kegiatan dan Peristiw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Positions Available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/Lowongan Kerj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Mission and Educational Outcomes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/Visi dan Mis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In the News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/Berita-Berit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Contacting Us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/Kontak, dan lain-lai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1905120"/>
            <a:ext cx="480060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Tahoma"/>
                <a:hlinkClick r:id="rId1"/>
              </a:rPr>
              <a:t>http://www.engr.wisc.edu/cee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fountain" descr="The Fountain"/>
          <p:cNvPicPr/>
          <p:nvPr/>
        </p:nvPicPr>
        <p:blipFill>
          <a:blip r:embed="rId2"/>
          <a:stretch/>
        </p:blipFill>
        <p:spPr>
          <a:xfrm>
            <a:off x="6248520" y="1935000"/>
            <a:ext cx="2435040" cy="1722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ram Studi Teknik Sipil FT-UNTAD Pal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5CCC-7325-4864-999E-F0E5C8C6CBC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E77897-F7F1-46BA-BF5E-C2F13F3F728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6" name=""/>
          <p:cNvGraphicFramePr/>
          <p:nvPr/>
        </p:nvGraphicFramePr>
        <p:xfrm>
          <a:off x="838080" y="762120"/>
          <a:ext cx="6767640" cy="244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762120"/>
                    <a:ext cx="6767640" cy="24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Tahoma"/>
              </a:rPr>
              <a:t>Bagaimana membuatnya??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6324480" y="304920"/>
          <a:ext cx="3571920" cy="2438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24480" y="304920"/>
                    <a:ext cx="3571920" cy="24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4724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Membuat program dengan kode HTML (Hyper-Text Mark-up Languag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Menggunakan editor, seperti </a:t>
            </a:r>
            <a:r>
              <a:rPr b="0" i="1" lang="en-US" sz="2400" spc="-1" strike="noStrike">
                <a:solidFill>
                  <a:srgbClr val="ffff00"/>
                </a:solidFill>
                <a:latin typeface="Tahoma"/>
              </a:rPr>
              <a:t>Front-Page, 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dl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Menggunakan aplikasi biasa seperti </a:t>
            </a:r>
            <a:r>
              <a:rPr b="0" i="1" lang="en-US" sz="2400" spc="-1" strike="noStrike">
                <a:solidFill>
                  <a:srgbClr val="ffff00"/>
                </a:solidFill>
                <a:latin typeface="Tahoma"/>
              </a:rPr>
              <a:t>Microsoft Word, Excell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, dll., lalu dokumen di-”</a:t>
            </a:r>
            <a:r>
              <a:rPr b="0" i="1" lang="en-US" sz="2400" spc="-1" strike="noStrike">
                <a:solidFill>
                  <a:srgbClr val="ffff00"/>
                </a:solidFill>
                <a:latin typeface="Tahoma"/>
              </a:rPr>
              <a:t>save as HTML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” atau “</a:t>
            </a:r>
            <a:r>
              <a:rPr b="0" i="1" lang="en-US" sz="2400" spc="-1" strike="noStrike">
                <a:solidFill>
                  <a:srgbClr val="ffff00"/>
                </a:solidFill>
                <a:latin typeface="Tahoma"/>
              </a:rPr>
              <a:t>Web-page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Meng-edit dan memodifikasi contoh yang sudah ada, ………… cari di Intern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"/>
          <p:cNvSpPr/>
          <p:nvPr/>
        </p:nvSpPr>
        <p:spPr>
          <a:xfrm>
            <a:off x="5105520" y="1981080"/>
            <a:ext cx="36576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ff99"/>
                </a:solidFill>
                <a:latin typeface="Tahoma"/>
              </a:rPr>
              <a:t>&lt;!DOCTYPE HTML PUBLIC "-//W3C//DTD HTML 4.0 Transitional//EN"&gt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ff99"/>
                </a:solidFill>
                <a:latin typeface="Tahoma"/>
              </a:rPr>
              <a:t>&lt;!-- saved from url=(0029)http://www.engr.wisc.edu/cee/ --&gt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ff99"/>
                </a:solidFill>
                <a:latin typeface="Tahoma"/>
              </a:rPr>
              <a:t>&lt;HTML&gt;&lt;HEAD&gt;&lt;TITLE&gt;Civil and Environmental Engineering at UW-Madison&lt;/TITLE&gt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ff99"/>
                </a:solidFill>
                <a:latin typeface="Tahoma"/>
              </a:rPr>
              <a:t>&lt;META content="text/html; charset=windows-1252" http-equiv=Content-Type&gt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ff99"/>
                </a:solidFill>
                <a:latin typeface="Tahoma"/>
              </a:rPr>
              <a:t>&lt;META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ff99"/>
                </a:solidFill>
                <a:latin typeface="Tahoma"/>
              </a:rPr>
              <a:t>content="civil engineering, civil, engineering, cee, wisconsin, madison, environmental engineering, construction management, geo-spatial engineering, geotechnical engineering, structural engineering"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ff99"/>
                </a:solidFill>
                <a:latin typeface="Tahoma"/>
              </a:rPr>
              <a:t>name=keywords&gt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ff99"/>
                </a:solidFill>
                <a:latin typeface="Tahoma"/>
              </a:rPr>
              <a:t>&lt;META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ff99"/>
                </a:solidFill>
                <a:latin typeface="Tahoma"/>
              </a:rPr>
              <a:t>content="Information for prospective and current students in Civil and Environmental Engineering at the University of Wisconsin-Madison.  Includes current research, recent news, upcoming events, course homepages and faculty vitaes."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ff99"/>
                </a:solidFill>
                <a:latin typeface="Tahoma"/>
              </a:rPr>
              <a:t>name=description&gt;&lt;LINK href="civil-wisc_files/dept99.css" rel=stylesheet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ff99"/>
                </a:solidFill>
                <a:latin typeface="Tahoma"/>
              </a:rPr>
              <a:t>type=text/css&gt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ff99"/>
                </a:solidFill>
                <a:latin typeface="Tahoma"/>
              </a:rPr>
              <a:t>&lt;META content="MSHTML 5.00.2614.3500" name=GENERATOR&gt;&lt;/HEAD&gt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ff99"/>
                </a:solidFill>
                <a:latin typeface="Tahoma"/>
              </a:rPr>
              <a:t>&lt;BODY aLink=#0000cc bgColor=#ffffff link=#333399 onload=focus() text=#000000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3048120"/>
            <a:ext cx="34671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Contoh HTML-code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ram Studi Teknik Sipil FT-UNTAD Pal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FDFA-31A6-4A5D-9D99-E5C2EE6C6DA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B0A80A-7FA0-477E-AF09-50EA501B60E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480" y="34290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Membuat </a:t>
            </a:r>
            <a:r>
              <a:rPr b="0" i="1" lang="en-US" sz="4000" spc="-1" strike="noStrike">
                <a:solidFill>
                  <a:srgbClr val="ffffff"/>
                </a:solidFill>
                <a:latin typeface="Tahoma"/>
              </a:rPr>
              <a:t>Homepage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rogram Studi Teknik Sipil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Fakultas Teknik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Universitas Tadulako PALU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04920" y="1219320"/>
            <a:ext cx="647676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Mari Kita Coba Bersama................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1262160" y="2995560"/>
            <a:ext cx="66196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Let's start from the beginning ...........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rogram Studi Teknik Sipil FT-UNTAD Pal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1EC5A-97D0-42F3-88B8-2529CE515998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2DE06D82-9EDD-4709-945B-35BA84BBDF7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2133720" y="1219320"/>
            <a:ext cx="4647960" cy="154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SELESAI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657600" y="3352680"/>
            <a:ext cx="17524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The END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952520" y="3657240"/>
            <a:ext cx="3581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E END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rogram Studi Teknik Sipil FT-UNTAD Pal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D1070-AE5E-4689-8DBC-33DB6DC7B978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CB719BA2-0A11-4BF7-ACB9-C466A45D631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utiara S. Sadjad</cp:lastModifiedBy>
  <dcterms:modified xsi:type="dcterms:W3CDTF">2003-09-27T13:47:45Z</dcterms:modified>
  <cp:revision>46</cp:revision>
  <dc:subject/>
  <dc:title>PowerPoint Presentation</dc:title>
</cp:coreProperties>
</file>