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55E-D292-4D86-8EA6-F7548F8D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DFC-3787-41A3-B47A-58AA6968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583-3A4C-492D-9E7E-6B1BF628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A70-C6C6-4F5C-917C-FA8E9A39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FCF9-76C4-4390-9181-D41040A5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17C7-7051-4780-A958-806A85B4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B4E2-8F2B-4A96-B5E7-3DC73422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2C3D-464F-4985-BB7E-5668E21A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CB4F-6FB6-4486-AB35-A9D0AED2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79CD-03A5-4162-99BF-51D8839A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E7B2-5209-41FD-896D-7667C715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218-662B-43F8-A101-C08C8D24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5ADC-BDBF-48B6-9B7C-609F7B5A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7178-4AFD-47E2-BC5A-E5F98D4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A1EC-3099-4BF6-9C7A-7A604887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10F8-E4AE-482E-9B02-3C49D978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68CA-6CA4-421C-B690-B89F7B5C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AD9-8F75-4686-8D19-54373253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805-CC26-4736-A4F1-249D7371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BBD-4974-48BB-BF59-2E1BD531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836-FC2A-4A0B-BEBB-1365BE39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A6C-95AA-4229-8ABD-8BD99F3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C08-22EE-480D-ABB2-1FB6C833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024-C151-4D45-95B4-ACD375D6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0288-4BAD-4119-9586-030E9F78D788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DE25-72A7-4402-AD12-4542DD9E23B5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BC8A-A7DC-476B-9A52-D3E049C306BF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4BD7-C248-4FCD-8182-3D54648BAC89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Membangun 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HOMEPAGE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MATAKULIAH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gram Studi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EKNIK SIPIL FT-UNTAD PAL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hiza S. Sadjad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rhiza@unhas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www.unhas.ac.id/~rhiza/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rusan Teknik Elektro Fakultas Teknik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NIVERSITAS HASANUDDIN Makassar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minar Internet di STT Baramuli Pinra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A56F-6E80-4ADC-B057-F3FF0A5388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297163-7BFA-4106-B813-A5406F8876D7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Fungsi suatu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Homepage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takuliah, antara lai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Media Komunikasi antara Pengajar dan Mahasiswa: Pengumuman Jadwal Kuliah, Garis Besar Isi Kuliah, 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Menyimpan arsip-arsip perkuliahan, termasuk sumber-sumber referensi, d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Tugas, Pekerjaan Rumah, d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Catatan alamat-alamat SITUS di INTERNET yang pen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SARANA PEMBELAJARAN, contohnya: Lab. on-line, menyimpan gambar-gambar dan video-clip untuk peragaan, dll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2002cee_12" descr="Click on me to find out what I'm about"/>
          <p:cNvPicPr/>
          <p:nvPr/>
        </p:nvPicPr>
        <p:blipFill>
          <a:blip r:embed="rId1"/>
          <a:stretch/>
        </p:blipFill>
        <p:spPr>
          <a:xfrm>
            <a:off x="6248520" y="380880"/>
            <a:ext cx="2895480" cy="165276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2514600" y="6095880"/>
            <a:ext cx="2819520" cy="761760"/>
            <a:chOff x="2514600" y="6095880"/>
            <a:chExt cx="2819520" cy="761760"/>
          </a:xfrm>
        </p:grpSpPr>
        <p:sp>
          <p:nvSpPr>
            <p:cNvPr id="126" name=""/>
            <p:cNvSpPr/>
            <p:nvPr/>
          </p:nvSpPr>
          <p:spPr>
            <a:xfrm>
              <a:off x="2514600" y="609588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4600" y="609588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ivil Engineering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324480" y="1295280"/>
            <a:ext cx="2819520" cy="761760"/>
            <a:chOff x="6324480" y="1295280"/>
            <a:chExt cx="2819520" cy="761760"/>
          </a:xfrm>
        </p:grpSpPr>
        <p:sp>
          <p:nvSpPr>
            <p:cNvPr id="129" name=""/>
            <p:cNvSpPr/>
            <p:nvPr/>
          </p:nvSpPr>
          <p:spPr>
            <a:xfrm>
              <a:off x="6324480" y="129528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480" y="129528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ivil Engineering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 Internet di STT Baramuli Pinra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521-C43A-41A7-9338-D8CC59683A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689BF-44F8-4CAD-9EAE-73BC47C0C9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splash" descr=""/>
          <p:cNvPicPr/>
          <p:nvPr/>
        </p:nvPicPr>
        <p:blipFill>
          <a:blip r:embed="rId1"/>
          <a:stretch/>
        </p:blipFill>
        <p:spPr>
          <a:xfrm>
            <a:off x="0" y="5037120"/>
            <a:ext cx="2503440" cy="1820880"/>
          </a:xfrm>
          <a:prstGeom prst="rect">
            <a:avLst/>
          </a:prstGeom>
          <a:ln w="0">
            <a:noFill/>
          </a:ln>
        </p:spPr>
      </p:pic>
      <p:pic>
        <p:nvPicPr>
          <p:cNvPr id="132" name="flight" descr=""/>
          <p:cNvPicPr/>
          <p:nvPr/>
        </p:nvPicPr>
        <p:blipFill>
          <a:blip r:embed="rId2"/>
          <a:stretch/>
        </p:blipFill>
        <p:spPr>
          <a:xfrm>
            <a:off x="6940440" y="4724280"/>
            <a:ext cx="2203560" cy="1683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27428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Tujuan Instruksional Mata Kuli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Jadwal Kuliah dan semacam GBPP/S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Buku Acuan dan referensi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Catatan Kuliah dan Praktik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Pekerjaan Rumah dan Penyelesa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Alamat-alamat penting di Inter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Gambar-gambar yang menar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Dan hal-hal lain yang terkait dengan materi kuliah, langsung atau tidak langsung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http://www.cae.wisc.edu/~chinwu/CEE310_Fluid_Mechanics/CEE31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wu_chin" descr="Chin H.  Wu"/>
          <p:cNvPicPr/>
          <p:nvPr/>
        </p:nvPicPr>
        <p:blipFill>
          <a:blip r:embed="rId3"/>
          <a:stretch/>
        </p:blipFill>
        <p:spPr>
          <a:xfrm>
            <a:off x="7943760" y="0"/>
            <a:ext cx="120024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fountain" descr="The Fountain"/>
          <p:cNvPicPr/>
          <p:nvPr/>
        </p:nvPicPr>
        <p:blipFill>
          <a:blip r:embed="rId4"/>
          <a:stretch/>
        </p:blipFill>
        <p:spPr>
          <a:xfrm>
            <a:off x="0" y="0"/>
            <a:ext cx="2435400" cy="1722600"/>
          </a:xfrm>
          <a:prstGeom prst="rect">
            <a:avLst/>
          </a:prstGeom>
          <a:ln w="0">
            <a:noFill/>
          </a:ln>
        </p:spPr>
      </p:pic>
      <p:pic>
        <p:nvPicPr>
          <p:cNvPr id="137" name="title_picture" descr=""/>
          <p:cNvPicPr/>
          <p:nvPr/>
        </p:nvPicPr>
        <p:blipFill>
          <a:blip r:embed="rId5"/>
          <a:stretch/>
        </p:blipFill>
        <p:spPr>
          <a:xfrm>
            <a:off x="6665760" y="2743200"/>
            <a:ext cx="2478240" cy="1857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SI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HOMEPAG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Matakuliah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toh: Matakuliah MEKANIKA FLU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 Internet di STT Baramuli Pinra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9E5-42A8-402C-9B3A-E309253FE0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4897C-D684-450F-BF24-788C2EFD00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minar Internet di STT Baramuli Pinra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4075-CAFE-477A-826E-7582FDA80C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187C172-B892-4B8A-B478-27B8F09A41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3-09-27T16:02:20Z</dcterms:modified>
  <cp:revision>38</cp:revision>
  <dc:subject/>
  <dc:title>PowerPoint Presentation</dc:title>
</cp:coreProperties>
</file>