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EXPLODE.WAV" ContentType="audio/x-wav"/>
  <Override PartName="/ppt/media/image11.wmf" ContentType="image/x-wmf"/>
  <Override PartName="/ppt/media/image3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DRUMROLL.WAV" ContentType="audio/x-wav"/>
  <Override PartName="/ppt/media/image6.wmf" ContentType="image/x-wmf"/>
  <Override PartName="/ppt/media/image1.png" ContentType="image/png"/>
  <Override PartName="/ppt/media/CHIMES.WAV" ContentType="audio/x-wav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17B-95D3-40B9-9623-043E7B93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6DB-B6B3-433B-9AFB-B66C16D7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AB8-12AB-4792-91B7-D6FF1A1F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230-85C0-4C55-96F9-FA1D7F8A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67D8-A906-485B-BA7C-467DEFD1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C43E-DE1D-452E-8076-7373477D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3495-ED58-4695-96F6-5E9AA8D6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46B0-2165-4886-9CD6-A5A6F3D0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7CC6-2D70-4BF6-9317-DF3FCC39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D648-5388-48B9-BB49-0E203905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FC21-5C6E-4795-BF24-2B043134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5A8-A6F7-4AA1-8A82-62D3454C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ACD0-E353-4108-8EB9-BA9C1D10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77E2-6E80-4298-B227-B9934BC8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05A8-114C-4C25-B70D-87DF5808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B5DD-BB0C-452D-8F56-586E2774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F686-1B40-4C62-A8DB-EDD57906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4C2-DEF7-4586-AFB7-E673C342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EFA-4DBB-422F-B02D-BAFA7E36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6D4-012B-47AF-A6A1-5F7DBE09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FDF-76DC-4C67-A854-01020794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128-CCBE-4DAD-A14F-FC2FD1DD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388-E686-412D-A24B-239AE43B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9D7-385E-4E43-8888-6483EE31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7EFF-0C28-4918-8A84-791BDE6ADC27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C975-B461-4E8F-92D2-78F1FA2BCFA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B982-3795-4097-AA16-BD10C09C86C5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2A1A-772E-4CAC-AD59-C38E74665C7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audio" Target="../media/EXPLODE.WAV"/><Relationship Id="rId12" Type="http://schemas.openxmlformats.org/officeDocument/2006/relationships/audio" Target="../media/DRUMROLL.WAV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APL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TEKNOLOGI INFORMASI DAN KOMUNIKASI 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alam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DUNIA PENDIDIKAN TINGGI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514600"/>
            <a:ext cx="792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BERBAGAI CONTO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F016-81FA-473D-AB83-E5EAA47F180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A390FF7-C269-45F6-862D-571F03F908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7086600" y="457200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457200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92160" y="259056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HIGHER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3F92A-9D5A-42F8-87DF-17EDE8F8E61C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E68F0-9EB6-4873-8CED-CEE7768F1CCC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-contoh aplikasi dalam proses pembelajara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“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generi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”, seperti Microsoft Office: Word, Excell, Power Poi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memanfaatkan paket perangkat lunak khusus untuk pemodelan, analisis, animasi, seperti MATLAB, SPICE, Macromedia, d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Level 3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 pembelajaran menggunakan jaringan komputer dan Internet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distant learn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web-based interactiv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sb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255-38B5-4D7A-B065-D04CC8F121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F1D32-5EA9-4CB9-AA7D-D27D694B9B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1B26-907A-4009-90C7-FF9F2924EF4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FA89CC0-3B4F-41F5-8FA8-0162D1D7D37A}" type="datetime1">
              <a:rPr lang="en-US"/>
              <a:t>07/28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APLIKASI dalam </a:t>
            </a:r>
            <a:br>
              <a:rPr sz="3600"/>
            </a:br>
            <a:r>
              <a:rPr b="0" lang="en-US" sz="3600" spc="-1" strike="noStrike">
                <a:solidFill>
                  <a:srgbClr val="ebd189"/>
                </a:solidFill>
                <a:latin typeface="Arial"/>
              </a:rPr>
              <a:t>SISTEM PENDIDIKAN TINGGI: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si Pendidika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rat-menyur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gistra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jadwalan Kulia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g-arsip-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lai dan Transkr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28840" y="16761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ses Pembelaj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nyusunan materi ajar, penelusu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roses pembelajar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at bantu penelitian dan pengabdian pada masyarak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modelan/Simulas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l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352760"/>
            <a:ext cx="2330280" cy="2505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CF0-7B54-468C-8BC6-AB4709029B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87380-BB47-4E7C-B2CB-3AADEBF363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Administrasi Pendidik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057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1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generik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, seperti Microsoft Office: Word, Excell, misalnya untuk daftar nila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2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memanfaatkan paket perangkat lunak khusus untuk Sistem Informasi Manajemen (SIM) yang dirancang khusus untuk sistem pengelolaan administrasi pendidikan, dijalankan pada komputer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tand-alo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Level 3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: sistem informasi berbasis jaringan komputer, contohnya di Universitas Indonesia: bisa di-klik di alamat URL: http://akademik.ui.ac.id/ atau http://www.ui.ac.id/  lalu cari “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IAK on-line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0B3-C3E8-4657-8DDE-9D9B735CAB1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05FD9-471B-460A-8F3E-5482CECC82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toh SIAK ONLINE U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634032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3DA-5C62-4C2E-8629-3A1F7E7D0A6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ED607-7ABB-42F6-A623-23C5011AC8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6720" y="1828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……....about providing ……opportunities for students ………………………...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181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04920"/>
            <a:ext cx="7925040" cy="143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plikasi dalam proses Pembelajara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5F8CC49-28E3-481E-AF15-644DC0F0BCD7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2FC-BC54-4572-B827-8FF1C9D41D5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20A8C-DB9A-4E00-83BF-109E614FA0BB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B0BF7-7C13-4706-8374-589E93EAD970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7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3EE66-C37E-4D36-8E8B-820C82B2A802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BE576-8B56-4002-B46C-1EE5581A0394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Xp</cp:lastModifiedBy>
  <dcterms:modified xsi:type="dcterms:W3CDTF">2005-09-03T03:28:04Z</dcterms:modified>
  <cp:revision>48</cp:revision>
  <dc:subject/>
  <dc:title>PowerPoint Presentation</dc:title>
</cp:coreProperties>
</file>