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0.wmf" ContentType="image/x-wmf"/>
  <Override PartName="/ppt/media/image18.wmf" ContentType="image/x-wmf"/>
  <Override PartName="/ppt/media/CHIMES.WAV" ContentType="audio/x-wav"/>
  <Override PartName="/ppt/media/image5.jpeg" ContentType="image/jpeg"/>
  <Override PartName="/ppt/media/image25.wmf" ContentType="image/x-wmf"/>
  <Override PartName="/ppt/media/image2.wmf" ContentType="image/x-wmf"/>
  <Override PartName="/ppt/media/image26.wmf" ContentType="image/x-wmf"/>
  <Override PartName="/ppt/media/RICOCHET.WAV" ContentType="audio/x-wav"/>
  <Override PartName="/ppt/media/image3.wmf" ContentType="image/x-wmf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27.wmf" ContentType="image/x-wmf"/>
  <Override PartName="/ppt/media/image4.wmf" ContentType="image/x-wmf"/>
  <Override PartName="/ppt/media/image13.wmf" ContentType="image/x-wmf"/>
  <Override PartName="/ppt/media/EXPLODE.WAV" ContentType="audio/x-wav"/>
  <Override PartName="/ppt/media/applause.wav" ContentType="audio/x-wav"/>
  <Override PartName="/ppt/media/image1.png" ContentType="image/png"/>
  <Override PartName="/ppt/media/WHOOSH.WAV" ContentType="audio/x-wav"/>
  <Override PartName="/ppt/media/image16.wmf" ContentType="image/x-wmf"/>
  <Override PartName="/ppt/media/image15.wmf" ContentType="image/x-wmf"/>
  <Override PartName="/ppt/media/image14.jpeg" ContentType="image/jpeg"/>
  <Override PartName="/ppt/media/CAMERA.WAV" ContentType="audio/x-wav"/>
  <Override PartName="/ppt/media/image24.wmf" ContentType="image/x-wmf"/>
  <Override PartName="/ppt/media/image12.wmf" ContentType="image/x-wmf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F3CC-ECEF-4C57-B777-8967B5A2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0D1-7346-41F9-ABA0-BE5F9EC7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73F-0C71-410D-B646-367C06F4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F8F-7990-4DDF-9A6C-CE0375C1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0A6D-FE7F-4FF1-84D9-2A733026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A460-53B6-4F43-8569-8A22EEB2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4245-DA6D-43B5-8E77-F4F48C3A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A9F3-AACF-4729-A126-CFB0EED5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4933-DE6C-48AD-AC19-8B0C6464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1B6B-9698-49A3-9278-7DBA6B1C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6DB6-09EF-40C2-8E23-9BF15000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26A-9785-4AA6-BA90-E163274F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A153-A9F4-4A93-AC2F-5B713929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CD94-30C8-415E-ABBD-C3DAC75B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8FC5-F152-4625-90AC-FE19FB80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700D-21BF-4132-8A69-E0C030FB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89C2-3F02-409A-A3EB-81C139F8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7B3-E284-4FB9-9300-A2BACF4D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8A6-D758-4501-8DC2-C6F2361C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D4E-DD04-4443-8C2F-21FEC6AC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7CB-E4DD-4DF0-B3FF-D31FC2C4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6BD-5019-40EB-B3B5-92C0781B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2C7-A51E-4E36-9371-A19A0623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07B-8BF7-424D-A2B3-274BBE73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B6A7-FF7B-4B73-A95A-D6B1B0552372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B431-7BE4-444D-864A-8541F00C7E3F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2520-F0BE-41C1-8EC5-7E48FFDA5A58}" type="datetime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4F46-B7E6-4315-8F0C-A47A18227008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1.wmf"/><Relationship Id="rId17" Type="http://schemas.openxmlformats.org/officeDocument/2006/relationships/audio" Target="../media/EXPLOD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EXPLOD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1337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LATAR BELAKANG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DAN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MOTIVASI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45B0-100C-4C99-A36B-C94E14E6A50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0877283-7F92-469D-B0A2-A0A0ACB399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bd189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5627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. dosen dan peneliti, ……………pegawai administrasi ……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7543800" y="3505320"/>
          <a:ext cx="1332000" cy="14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3505320"/>
                    <a:ext cx="1332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020080" y="5029200"/>
          <a:ext cx="112392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20080" y="5029200"/>
                    <a:ext cx="11239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38280" y="5486400"/>
          <a:ext cx="188460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5486400"/>
                    <a:ext cx="1884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324480" y="5334120"/>
          <a:ext cx="137484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334120"/>
                    <a:ext cx="1374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Mesin Ketik Canggih?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HIBURAN: Games, VCD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Lemari ARSIP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KOMUNIK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...... Alat Bantu ADMINISTRASI?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B415D-1F1C-411D-A06F-E163B4E0202B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55ba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97c0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66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Tingkatan-Tingkatan Sistem Informasi (1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990720"/>
          <a:ext cx="8915400" cy="58672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5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9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nsil, Ballpoint, Buku Tulis, Mesin Tik sampai ke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engandalkan kemampuan manusiawi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kuntabilitas, ketelitian, ingatan, keuletan, dst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743200" y="5398920"/>
          <a:ext cx="1550880" cy="145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B8F-C261-4142-9DF8-98F42708D4A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251FA-F684-46DF-96A4-9B409FC518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18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2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143000"/>
          <a:ext cx="9144000" cy="45259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57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 umumnya PC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yang dibangun untuk keperluan yang spesifik, misalnya paket software untuk administrasi dan simul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kerjaan yang berulang, rutin, membosankan, memerlukan ketelitian dan ingatan kuat, yang berpeluang terjadi kesalahan manusiawi, dibantu dengan KOMPUTER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666880" y="373392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733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514600" y="525780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525780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4920" y="449568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49568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A51-1B72-4B8E-8AC0-62122D97D8A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4DFC7-703C-434A-9B9E-3B44EB3777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Tingkatan-Tingkatan Sistem Informasi (3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838080"/>
          <a:ext cx="9144000" cy="5791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ingkat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Kera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angkat Lunak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iri-ci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4956120"/>
          <a:ext cx="190512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9561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09480" y="4038480"/>
          <a:ext cx="1694160" cy="114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69416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876920" y="4114800"/>
            <a:ext cx="1746000" cy="24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F85-87C0-4091-8F22-5D6ECC5F00C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04BA2-3D61-49C5-B786-97316D7561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DUNIA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1A9-A945-411F-A3CD-48944514E8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FBFA7-A9A7-4860-AE42-0A6D297190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2 (DUA) “</a:t>
            </a:r>
            <a:r>
              <a:rPr b="0" i="1" lang="en-US" sz="4000" spc="-1" strike="noStrike">
                <a:solidFill>
                  <a:srgbClr val="ebd189"/>
                </a:solidFill>
                <a:latin typeface="Arial"/>
              </a:rPr>
              <a:t>CURRENT ISSUES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” TEKNOLOGI INFORMASI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alah Hak Cipta (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pyright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dan Pembajak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alur Hukum dan Non-Hukum: VI RUS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rakan mendukung “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open-sou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” 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0240" y="2819520"/>
            <a:ext cx="380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si yang semakin jauh dengan sistem telekomunikasi selul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420-7B8F-4185-AE7F-18F5A68A34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DCBE4-8574-4694-AF2E-9CE45C5033F2}" type="datetime1">
              <a:rPr lang="en-US"/>
              <a:t>07/28/26</a:t>
            </a:fld>
          </a:p>
        </p:txBody>
      </p:sp>
    </p:spTree>
  </p:cSld>
  <p:transition spd="slow" advTm="89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E920-CCC6-430B-97AC-76B4F68A059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7041456-D347-47A2-82C6-F64458F3FD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2234-EC9D-40EC-894E-E2332B593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0CDE-921E-407B-BB69-CAC9B126CB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ITUASI HARI IN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-5518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518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FB47-656B-4B34-A533-BC89D0FA4C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07804-BADE-4798-8B95-42B619C47CF6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534160" cy="420228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9462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A9D1-D3A9-4211-A8FC-6AB31B760E7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386D7-DAE1-4ACB-B050-A233E5EFB603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620-128E-423D-9B2F-1C23F9EBE4F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184C4-57D7-4D29-9B95-6E325981ED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6BB-5120-4E8E-9552-C32706C0C25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FF4CF-8F9E-4FFD-A92C-A0D7FA2A82EE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260-5824-4D24-B193-9322DEEFDB0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D187D-24EE-4707-BBEE-FB4A2274E5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eaeaea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54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bd189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a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823-F7A0-4663-8719-D9D16208CC0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DEC10-B57B-4C90-BCFB-D73D8CE636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9-02T13:17:03Z</dcterms:modified>
  <cp:revision>98</cp:revision>
  <dc:subject/>
  <dc:title>PowerPoint Presentation</dc:title>
</cp:coreProperties>
</file>