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EXPLODE.WAV" ContentType="audio/x-wav"/>
  <Override PartName="/ppt/media/image11.wmf" ContentType="image/x-wmf"/>
  <Override PartName="/ppt/media/image3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DRUMROLL.WAV" ContentType="audio/x-wav"/>
  <Override PartName="/ppt/media/image6.wmf" ContentType="image/x-wmf"/>
  <Override PartName="/ppt/media/image1.png" ContentType="image/png"/>
  <Override PartName="/ppt/media/CHIMES.WAV" ContentType="audio/x-wav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016-47B5-4E46-841A-053E5102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6171-F506-42A1-AC5A-B0AC2764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2250-B9C5-437D-8C21-06472A76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09C3-8046-4D86-B91C-383EEF8A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AE75-80FA-4058-BE55-F6395AC1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38AA-5EE1-44D3-BF95-F095EEA3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7C10-721A-4D7F-912A-BC9D8D79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176D-14F1-44AE-8A82-F9FE3F28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C37A-021E-49BD-B424-83299285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7F8C-E8F6-4D64-A785-8DF2F1A2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B776-CFA5-43CB-8E3D-FB98E045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48E-BCD2-4E31-9F12-4026685D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DF7B-A9A3-4D82-A35B-461F21EF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913F-3686-41F8-888F-FAA17D10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8972-4A04-421B-A1D5-A96E2382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A3CE-8FD2-4E14-83FB-930EBFF9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86B2-636D-4200-B8F9-147822DE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A3C-6B57-4E36-8009-99E21611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F7A-BCAB-4DA0-ADAE-80992E87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9E26-1016-43BF-B45D-E6904991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5B63-8E2B-495B-A409-76745944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C7F-05E6-4230-BA8D-C7404E54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A86-ABD8-432D-B4B0-DCF19A92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5FA-A30F-41F9-A474-DF60DCFF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1798-0951-4FAA-A164-F434FF744C94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601D-5B28-4733-9EFA-C6B2385671F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2E6B-2FA3-44C9-ADD8-D18254535FAF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E266-8891-44D8-9838-555775EBEF4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audio" Target="../media/EXPLODE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514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BERBAGAI CONTO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DD8C-DE9A-4BA0-85D5-5DD2D4EF0B7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12A0120-C6EA-4747-A871-B970DCBE12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7086600" y="457200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457200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92160" y="259056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as a teaching tool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for HIGHER EDUCATI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why ??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9B7E8-D45F-4689-8F66-DEB9D4B147B9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Arial"/>
              </a:rPr>
              <a:t>Available Options: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ANALISIS dan DESAIN (iterasi, simulasi, praktikum, dll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proses pembelajaran (presentasi, animasi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udio-visual ai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ll. --------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ULTIMED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EE7DF-257D-4919-8E90-9C5AA208EB6C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-contoh aplikasi dalam proses pembelajaran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“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generi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, seperti Microsoft Office: Word, Excell, Power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khusus untuk pemodelan, analisis, animasi, seperti MATLAB, SPICE, Macromedia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3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pembelajaran menggunakan jaringan komputer dan Internet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stant learn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web-based interacti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s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E61D-E807-4AC9-810B-4DD8F60894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935B8-D609-4A98-8E3A-F3E48C77B7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AB78-B402-4EE5-BB41-FC85958F1CC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E51F99A-A1D8-4000-BD22-2F0A9C251662}" type="datetime1">
              <a:rPr lang="en-US"/>
              <a:t>07/29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SISTEM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352760"/>
            <a:ext cx="2330280" cy="2505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A40-55B7-4454-89AD-25B519607FE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188B1-1862-428F-B58C-8DC3D50BC5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Administrasi Pendidik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057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1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generik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, seperti Microsoft Office: Word, Excell, misalnya untuk daftar nila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2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khusus untuk Sistem Informasi Manajemen (SIM) yang dirancang khusus untuk sistem pengelolaan administrasi pendidikan, dijalankan pada komputer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tand-alo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3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sistem informasi berbasis jaringan komputer, contohnya di Universitas Indonesia: bisa di-klik di alamat URL: http://akademik.ui.ac.id/ atau http://www.ui.ac.id/  lalu cari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IAK on-li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E01-CA46-4F43-84FC-9276962F60F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0B9BC-69A2-4FCD-AB24-B672EA0AD1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 SIAK ONLINE U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6340320" cy="475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776B-1E9A-4926-A313-8954E538C49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8FD87-E095-4F85-B99D-D50C00A25E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6720" y="1828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is ...........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............……....about providing ……opportunities for students ………………………...to learn</a:t>
            </a: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6019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181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04920"/>
            <a:ext cx="7925040" cy="1434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dalam proses Pembelajara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219B873-1EB7-4509-BA41-6F8513596401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ses Pembelajar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752480"/>
            <a:ext cx="7391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2AA-7F97-4B95-9544-9F19828A4A7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147CE-9EE9-41D7-BA09-CC1EA9552FA6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 Formats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(examples)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5EEBB-4F59-48C7-849C-0759F1FC70A1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aching is a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SKIL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27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6421C-7D12-4EC2-B285-3D6BCECB757B}" type="datetime1">
              <a:rPr lang="en-US"/>
              <a:t>07/29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Arial"/>
              </a:rPr>
              <a:t>Today’s Situation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4BA5D-3140-444A-8E5E-57F9AD9CD5F2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05-09-03T03:28:04Z</dcterms:modified>
  <cp:revision>48</cp:revision>
  <dc:subject/>
  <dc:title>PowerPoint Presentation</dc:title>
</cp:coreProperties>
</file>