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5.jpeg" ContentType="image/jpeg"/>
  <Override PartName="/ppt/media/image25.wmf" ContentType="image/x-wmf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7.wmf" ContentType="image/x-wmf"/>
  <Override PartName="/ppt/media/image4.wmf" ContentType="image/x-wmf"/>
  <Override PartName="/ppt/media/image13.wmf" ContentType="image/x-wmf"/>
  <Override PartName="/ppt/media/EXPLODE.WAV" ContentType="audio/x-wav"/>
  <Override PartName="/ppt/media/applause.wav" ContentType="audio/x-wav"/>
  <Override PartName="/ppt/media/image1.png" ContentType="image/png"/>
  <Override PartName="/ppt/media/WHOOSH.WAV" ContentType="audio/x-wav"/>
  <Override PartName="/ppt/media/image16.wmf" ContentType="image/x-wmf"/>
  <Override PartName="/ppt/media/image15.wmf" ContentType="image/x-wmf"/>
  <Override PartName="/ppt/media/image14.jpeg" ContentType="image/jpeg"/>
  <Override PartName="/ppt/media/CAMERA.WAV" ContentType="audio/x-wav"/>
  <Override PartName="/ppt/media/image24.wmf" ContentType="image/x-wmf"/>
  <Override PartName="/ppt/media/image12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DDE-4626-46C5-86B5-79053726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F51-B640-40D8-AB54-05002B1B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0F0-F1DB-4D2B-8916-C6DCFE20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C7F-F1D9-4A49-96EA-68F80FD9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1C54-1A03-4C60-AE98-9FD3B722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50B3-D819-4249-9AFA-78E0345B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C4D8-69BF-4CD6-B677-6301F862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234D-AAD9-4A07-8849-4DF30FDB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9D0C-ECAD-4A36-9C0A-72430469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30AB-3042-4C59-AA19-2EA27D15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4759-9A99-4CAC-9939-60967CB2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9E2-DBC9-456D-BCDE-A614B653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FC2F-F2AE-4E86-9308-11991E27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58D2-A8F6-46D4-AEAD-83DF4D8F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7970-AF9A-4494-ABDD-33B3B08E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2C4A-E05B-4695-87D9-A8F94897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685E-B13E-4142-990F-AA336A45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796-B08A-4444-93C2-4D342AFC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549-15CD-4DF9-823A-08EFD80D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708-816F-4DB0-A404-EED88351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5EA-3160-4C57-BDB1-6C6152B5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E29-66DE-42C0-88D3-7D8EA2FA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896-694A-4626-A220-1EF4374A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C6F-5612-4FDC-9194-89D96DB0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C9AF-6860-449D-8B9A-757D60C1A813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2B18-45D4-4175-A2B9-658212F978AD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DC02-2F2E-4D16-BF19-4E013D6CC186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0B0F-207F-4DF5-AFD3-C3ADC35A4002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TAR BELAKANG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A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B615-282C-48B7-ACC4-3C31275593F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E844672-D5B6-4B52-A1ED-0542A78194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8778A-5887-4410-952D-5493DB78FFA7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5F0-E2D2-4A3B-A330-B431E0D848A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91080-1260-4F40-99E6-F48C2FCE9F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D2B-F783-420C-A3D9-C2ABD3B11E8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D2F4A-3E4B-4CA2-AE59-DAF812D674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EBC-EFF4-461C-A096-44EAC258D7C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9F0BB-E77D-46F6-AAC0-AA885BCB1E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UNIA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A0D-F0FB-4A3D-899D-55E0C10A9C9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2A640-2F0B-44C4-86C5-094416F2F8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3A3-DA19-4374-B6FD-45F10BD3A58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DF019-1B9A-4B01-BEC5-9081DF90F3E4}" type="datetime1">
              <a:rPr lang="en-US"/>
              <a:t>07/29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10E4-3435-4201-9236-4F5DD933076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EA1F50A-C887-445F-B19E-F427C48F72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F9F3-2B45-4599-8181-EC16126EE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1BBA-E153-4E63-BE62-FB374A37723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4F8-F7AE-4E78-B0C1-DBFB202040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778FA-79E6-490E-A138-DE51218FDA97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83E-8F2B-41A3-8554-B4CBE5A5652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5E837-ACB2-45AB-9D4B-1219448F4099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A39-07EF-448E-80E6-F7D24A2DF2D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86266-A83E-4618-95E5-68DB1E6F77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248-F113-4530-B38A-0AE83CEE580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16907-7776-433B-BEE8-98668D8336EE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FEF-40B9-4E96-9D44-C93F91D579B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F4BC8-5B64-47B6-8D14-8D05494B77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781-47F7-448B-B30A-E44F7428F63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A1CB0-1F6F-407D-92E0-CE728C22D3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3:17:03Z</dcterms:modified>
  <cp:revision>98</cp:revision>
  <dc:subject/>
  <dc:title>PowerPoint Presentation</dc:title>
</cp:coreProperties>
</file>