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1.png" ContentType="image/png"/>
  <Override PartName="/ppt/media/image9.jpeg" ContentType="image/jpeg"/>
  <Override PartName="/ppt/media/image23.wmf" ContentType="image/x-wmf"/>
  <Override PartName="/ppt/media/image20.wmf" ContentType="image/x-wmf"/>
  <Override PartName="/ppt/media/image18.wmf" ContentType="image/x-wmf"/>
  <Override PartName="/ppt/media/CHIMES.WAV" ContentType="audio/x-wav"/>
  <Override PartName="/ppt/media/image5.jpeg" ContentType="image/jpeg"/>
  <Override PartName="/ppt/media/image25.wmf" ContentType="image/x-wmf"/>
  <Override PartName="/ppt/media/image2.wmf" ContentType="image/x-wmf"/>
  <Override PartName="/ppt/media/image26.wmf" ContentType="image/x-wmf"/>
  <Override PartName="/ppt/media/RICOCHET.WAV" ContentType="audio/x-wav"/>
  <Override PartName="/ppt/media/image3.wmf" ContentType="image/x-wmf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27.wmf" ContentType="image/x-wmf"/>
  <Override PartName="/ppt/media/image4.wmf" ContentType="image/x-wmf"/>
  <Override PartName="/ppt/media/image13.wmf" ContentType="image/x-wmf"/>
  <Override PartName="/ppt/media/EXPLODE.WAV" ContentType="audio/x-wav"/>
  <Override PartName="/ppt/media/applause.wav" ContentType="audio/x-wav"/>
  <Override PartName="/ppt/media/image1.png" ContentType="image/png"/>
  <Override PartName="/ppt/media/WHOOSH.WAV" ContentType="audio/x-wav"/>
  <Override PartName="/ppt/media/image16.wmf" ContentType="image/x-wmf"/>
  <Override PartName="/ppt/media/image15.wmf" ContentType="image/x-wmf"/>
  <Override PartName="/ppt/media/image14.jpeg" ContentType="image/jpeg"/>
  <Override PartName="/ppt/media/CAMERA.WAV" ContentType="audio/x-wav"/>
  <Override PartName="/ppt/media/image24.wmf" ContentType="image/x-wmf"/>
  <Override PartName="/ppt/media/image12.wmf" ContentType="image/x-wmf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0356-BA8B-4B65-845C-95B56035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344-AAC1-4A3F-8D30-E4DBECCA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2C8-4612-4DB4-9582-811BB9D9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AADE-1DCD-4A6A-8AAD-55668A05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A138-59A1-4E1E-B15E-6F59CF7A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E06C-FB7E-4959-AE62-E280C53B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4437-CA93-4E7C-9193-F8AA1253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A096-976B-4E54-B54B-48E29903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6D31-2E86-4625-95F4-3DFD0F2F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F0CD-CB82-4605-819D-345A3A5A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6254-7742-4152-ACD8-CB1BC37E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D59-8CB5-43A3-9EBB-12760160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C894-A81C-495A-9AD5-77B43DE0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0518-941C-4E06-AF98-4A0F8E30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5E11-B4AC-4414-A567-2D211255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B341-AFF1-407B-A121-DD64A55F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401C-7E92-4C53-9CBB-25D18CD7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023-03E3-4BA7-9F1A-35D900F5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0837-FD1A-45A8-A13F-F86D1505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40FD-A3DE-4AA4-ACD3-5C546BF5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058-1AFA-4142-87EA-B9EE7FDD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53F-24A4-45A6-8088-EF63B3EF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21F3-FC59-4F88-A8D9-5986BC28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CD7-D18A-44D4-A0B5-D56EB430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0E60-569A-4CF4-AF21-B1DFF4CA0095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3889-E688-4432-AC59-73CC004C0F00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EB2E-6989-4372-8A69-19127096718E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640D-7B45-4410-8275-7D16D36C95A9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1.wmf"/><Relationship Id="rId17" Type="http://schemas.openxmlformats.org/officeDocument/2006/relationships/audio" Target="../media/EXPLODE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1337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ATAR BELAKANG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AN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OTIVASI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CEA8-E674-4CEC-83A8-9440A05AC9A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9DEF5E5-A815-46C6-A7FF-929C282F9F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5627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dosen dan peneliti, ……………pegawai administrasi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Mesin Ketik Canggih?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HIBURAN: Games, VCD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Lemari ARSIP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KOMUNIK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Bantu ADMINISTR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B6A42-6DFB-4C23-B7D9-5911CADDDB7A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55ba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97c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32A-49B7-4846-B179-93A56E89A25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4FC4C-19EC-437B-896A-BE462CBB5F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143000"/>
          <a:ext cx="9144000" cy="4525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paket software untuk administrasi dan simul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721-61A6-46CC-96DA-9EA9C1200DF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6E85E-F7FD-406A-B78C-B3407C6E34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504B-515B-46E7-B3D1-8CF58624661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EE49B-807C-4370-BE74-92DD90F201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UNIA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EA3-C576-400C-A109-C7F6ACF88E0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AEA61-88FA-49F7-992B-CB311774A4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2 (DUA) “</a:t>
            </a:r>
            <a:r>
              <a:rPr b="0" i="1" lang="en-US" sz="4000" spc="-1" strike="noStrike">
                <a:solidFill>
                  <a:srgbClr val="ebd189"/>
                </a:solidFill>
                <a:latin typeface="Arial"/>
              </a:rPr>
              <a:t>CURRENT ISSUES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” TEKNOLOGI INFORMASI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4920" y="25905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alah Hak Cipta (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opyright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dan Pembajak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alur Hukum dan Non-Hukum: VI RUS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rakan mendukung 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open-sourc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” 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0240" y="2819520"/>
            <a:ext cx="380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grasi yang semakin jauh dengan sistem telekomunikasi selul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PYRIGH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676520" y="5810400"/>
            <a:ext cx="2619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PYRIGH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IREL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486400" y="5486400"/>
            <a:ext cx="2219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IRELES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234-AE06-4017-BA4E-E3E40172466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18734-3361-4ED7-A2E9-CFC45B067FA4}" type="datetime1">
              <a:rPr lang="en-US"/>
              <a:t>07/31/26</a:t>
            </a:fld>
          </a:p>
        </p:txBody>
      </p:sp>
    </p:spTree>
  </p:cSld>
  <p:transition spd="slow" advTm="89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0F6F-0497-4B4A-8FCE-EAAE310A2F4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5DA6454-0FAD-42FF-928B-E978652E9C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E483-09A1-4F4E-964A-A02615C62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5EC7-0F69-4DB8-A51B-873438610EF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SI HARI IN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E0A-37EF-436A-BDCF-91FA8608C1F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3C451-77A2-4FB3-B32C-4CB8A2E30D0B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599-BAC5-445F-BDC7-B343B5C404C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DA805-DA3C-4DC0-B5E9-335E03840F65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EB4-106C-46FF-B96B-74813A6C863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D69CD-0244-4EB7-B001-D775C0F7F6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5F05-A80A-44D4-BA70-D82D6152FA2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765AB-904E-4139-8991-AA56EEC64B3F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D45-4E4C-4F00-B947-721C4D374E2B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D8D9F-A625-4735-A499-413D54C07F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AD4B-51D3-4BE8-9BCF-B60F7464DE9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4FE3A-720A-440A-ACD5-A5C76561DB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9-02T13:17:03Z</dcterms:modified>
  <cp:revision>98</cp:revision>
  <dc:subject/>
  <dc:title>PowerPoint Presentation</dc:title>
</cp:coreProperties>
</file>