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2.wmf" ContentType="image/x-wmf"/>
  <Override PartName="/ppt/media/image21.wmf" ContentType="image/x-wmf"/>
  <Override PartName="/ppt/media/image6.jpeg" ContentType="image/jpeg"/>
  <Override PartName="/ppt/media/image19.wmf" ContentType="image/x-wmf"/>
  <Override PartName="/ppt/media/image17.wmf" ContentType="image/x-wmf"/>
  <Override PartName="/ppt/media/image11.png" ContentType="image/png"/>
  <Override PartName="/ppt/media/image9.jpeg" ContentType="image/jpeg"/>
  <Override PartName="/ppt/media/image23.wmf" ContentType="image/x-wmf"/>
  <Override PartName="/ppt/media/image20.wmf" ContentType="image/x-wmf"/>
  <Override PartName="/ppt/media/image18.wmf" ContentType="image/x-wmf"/>
  <Override PartName="/ppt/media/CHIMES.WAV" ContentType="audio/x-wav"/>
  <Override PartName="/ppt/media/image5.jpeg" ContentType="image/jpeg"/>
  <Override PartName="/ppt/media/image25.wmf" ContentType="image/x-wmf"/>
  <Override PartName="/ppt/media/image2.wmf" ContentType="image/x-wmf"/>
  <Override PartName="/ppt/media/image26.wmf" ContentType="image/x-wmf"/>
  <Override PartName="/ppt/media/RICOCHET.WAV" ContentType="audio/x-wav"/>
  <Override PartName="/ppt/media/image3.wmf" ContentType="image/x-wmf"/>
  <Override PartName="/ppt/media/image7.jpeg" ContentType="image/jpeg"/>
  <Override PartName="/ppt/media/image28.png" ContentType="image/png"/>
  <Override PartName="/ppt/media/image10.jpeg" ContentType="image/jpeg"/>
  <Override PartName="/ppt/media/image8.jpeg" ContentType="image/jpeg"/>
  <Override PartName="/ppt/media/image27.wmf" ContentType="image/x-wmf"/>
  <Override PartName="/ppt/media/image4.wmf" ContentType="image/x-wmf"/>
  <Override PartName="/ppt/media/image13.wmf" ContentType="image/x-wmf"/>
  <Override PartName="/ppt/media/EXPLODE.WAV" ContentType="audio/x-wav"/>
  <Override PartName="/ppt/media/applause.wav" ContentType="audio/x-wav"/>
  <Override PartName="/ppt/media/image1.png" ContentType="image/png"/>
  <Override PartName="/ppt/media/WHOOSH.WAV" ContentType="audio/x-wav"/>
  <Override PartName="/ppt/media/image16.wmf" ContentType="image/x-wmf"/>
  <Override PartName="/ppt/media/image15.wmf" ContentType="image/x-wmf"/>
  <Override PartName="/ppt/media/image14.jpeg" ContentType="image/jpeg"/>
  <Override PartName="/ppt/media/CAMERA.WAV" ContentType="audio/x-wav"/>
  <Override PartName="/ppt/media/image24.wmf" ContentType="image/x-wmf"/>
  <Override PartName="/ppt/media/image12.wmf" ContentType="image/x-wmf"/>
  <Override PartName="/ppt/media/TYPE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7.bin" ContentType="application/vnd.openxmlformats-officedocument.oleObjec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91FC1-8C45-4E97-A7CA-667641051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13372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9FE7A-ABBC-437C-BEAF-80E3DB110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213372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41368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AF4E6-754B-4709-9335-EE161984A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2976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620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213372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42976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620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5563C-8FD9-48D6-B510-786E5E4C6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649D4-2977-48BE-A930-D96D4E009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FDF99-77E3-4B96-AD17-D7E9F0825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2F773-7E46-4997-B238-BD83E71EE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36DAE-6DD9-4D02-B0FA-D9208AED1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50583-B0E0-4B2C-97A8-9C821B8C3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1430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EAFC3-657E-4941-8E5E-2C84372CB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13372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A6F43-610F-49A3-B81C-A08FF58E8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908D8-5840-49EC-8646-2B713626F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41368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1414E-F465-4D88-A0E9-CC95D9B21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213372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7167E-D3E7-4B47-987B-682944D9A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213372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72945-346A-4A62-BEC6-C780FB8E1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213372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41368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987B0-0020-4DDC-9B98-CA0B0771E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2976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4620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213372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42976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4620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F52BD-4F56-4D95-B19C-E0B1D7EE4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E945D-C844-44B4-B7D3-43B5F33C5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0F068-0E45-499C-B8AD-72D61886F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B6E56-8E20-4E8A-A410-D298A6C74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430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165E6-3A61-4C31-9EA2-1B89A9F96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13372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17CD5-55FE-406A-8F04-5C550342C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41368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2C918-220D-47B4-8DCC-54105E8FD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13372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25137-0764-42CF-92A3-0B6A40922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E8CEA-FFA4-4411-8DD3-0C3359A3DDAE}" type="datetime">
              <a:rPr b="0" lang="en-US" sz="1400" spc="-1" strike="noStrike">
                <a:solidFill>
                  <a:srgbClr val="ebd189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4A1D2-3031-41CC-B791-06385C9D37B9}" type="slidenum">
              <a:rPr b="0" lang="en-US" sz="1400" spc="-1" strike="noStrike">
                <a:solidFill>
                  <a:srgbClr val="ebd18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42F10-99DF-43A2-9441-B08122FD051D}" type="datetime">
              <a:rPr b="0" lang="en-US" sz="1400" spc="-1" strike="noStrike">
                <a:solidFill>
                  <a:srgbClr val="ebd189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12FF5-58AE-4878-8A53-115827A7178A}" type="slidenum">
              <a:rPr b="0" lang="en-US" sz="1400" spc="-1" strike="noStrike">
                <a:solidFill>
                  <a:srgbClr val="ebd18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audio" Target="../media/WHOOSH.WAV"/><Relationship Id="rId3" Type="http://schemas.openxmlformats.org/officeDocument/2006/relationships/audio" Target="../media/TYPE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audio" Target="../media/WHOOSH.WAV"/><Relationship Id="rId10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4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17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18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19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0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1.wmf"/><Relationship Id="rId17" Type="http://schemas.openxmlformats.org/officeDocument/2006/relationships/audio" Target="../media/EXPLODE.WAV"/><Relationship Id="rId18" Type="http://schemas.openxmlformats.org/officeDocument/2006/relationships/audio" Target="../media/WHOOSH.WAV"/><Relationship Id="rId19" Type="http://schemas.openxmlformats.org/officeDocument/2006/relationships/audio" Target="../media/WHOOSH.WAV"/><Relationship Id="rId20" Type="http://schemas.openxmlformats.org/officeDocument/2006/relationships/audio" Target="../media/WHOOSH.WAV"/><Relationship Id="rId21" Type="http://schemas.openxmlformats.org/officeDocument/2006/relationships/audio" Target="../media/CAMERA.WAV"/><Relationship Id="rId2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wmf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.wmf"/><Relationship Id="rId7" Type="http://schemas.openxmlformats.org/officeDocument/2006/relationships/audio" Target="../media/WHOOSH.WAV"/><Relationship Id="rId8" Type="http://schemas.openxmlformats.org/officeDocument/2006/relationships/audio" Target="../media/CAMERA.WAV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wmf"/><Relationship Id="rId5" Type="http://schemas.openxmlformats.org/officeDocument/2006/relationships/image" Target="../media/image26.wmf"/><Relationship Id="rId6" Type="http://schemas.openxmlformats.org/officeDocument/2006/relationships/audio" Target="../media/RICOCHET.WAV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4.jpeg"/><Relationship Id="rId3" Type="http://schemas.openxmlformats.org/officeDocument/2006/relationships/image" Target="../media/image14.jpeg"/><Relationship Id="rId4" Type="http://schemas.openxmlformats.org/officeDocument/2006/relationships/image" Target="../media/image14.jpeg"/><Relationship Id="rId5" Type="http://schemas.openxmlformats.org/officeDocument/2006/relationships/oleObject" Target="../embeddings/oleObject1.bin"/><Relationship Id="rId6" Type="http://schemas.openxmlformats.org/officeDocument/2006/relationships/image" Target="../media/image27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24.wmf"/><Relationship Id="rId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8.png"/><Relationship Id="rId3" Type="http://schemas.openxmlformats.org/officeDocument/2006/relationships/image" Target="../media/image14.jpeg"/><Relationship Id="rId4" Type="http://schemas.openxmlformats.org/officeDocument/2006/relationships/image" Target="../media/image14.jpeg"/><Relationship Id="rId5" Type="http://schemas.openxmlformats.org/officeDocument/2006/relationships/audio" Target="../media/applause.wav"/><Relationship Id="rId6" Type="http://schemas.openxmlformats.org/officeDocument/2006/relationships/audio" Target="../media/applause.wav"/><Relationship Id="rId7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audio" Target="../media/EXPLODE.WAV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EXPLODE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d189"/>
                </a:solidFill>
                <a:latin typeface="Tahoma"/>
              </a:rPr>
              <a:t>APLIKASI </a:t>
            </a:r>
            <a:br>
              <a:rPr sz="2800"/>
            </a:br>
            <a:r>
              <a:rPr b="0" lang="en-US" sz="2800" spc="-1" strike="noStrike">
                <a:solidFill>
                  <a:srgbClr val="ebd189"/>
                </a:solidFill>
                <a:latin typeface="Tahoma"/>
              </a:rPr>
              <a:t>TEKNOLOGI INFORMASI DAN KOMUNIKASI </a:t>
            </a:r>
            <a:br>
              <a:rPr sz="2800"/>
            </a:br>
            <a:r>
              <a:rPr b="0" lang="en-US" sz="2800" spc="-1" strike="noStrike">
                <a:solidFill>
                  <a:srgbClr val="ebd189"/>
                </a:solidFill>
                <a:latin typeface="Tahoma"/>
              </a:rPr>
              <a:t>dalam</a:t>
            </a:r>
            <a:br>
              <a:rPr sz="2800"/>
            </a:br>
            <a:r>
              <a:rPr b="0" lang="en-US" sz="2800" spc="-1" strike="noStrike">
                <a:solidFill>
                  <a:srgbClr val="ebd189"/>
                </a:solidFill>
                <a:latin typeface="Tahoma"/>
              </a:rPr>
              <a:t>DUNIA PENDIDIKAN TINGGI</a:t>
            </a:r>
            <a:endParaRPr b="0" lang="en-US" sz="28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762120" y="396216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oleh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Rhiza S. Sadja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rhiza@unhas.ac.i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http://www.unhas.ac.id/~rhiza/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990720" y="2133720"/>
            <a:ext cx="7924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LATAR BELAKANG 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DAN 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MOTIVASI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A018F-91E5-48D8-838B-A22B152C2157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B01BA58C-8DA1-4A7D-9EAF-9761CF24D5E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304920" y="2057400"/>
            <a:ext cx="4519440" cy="346716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4419720" y="1371600"/>
            <a:ext cx="38862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aeaea"/>
                </a:solidFill>
                <a:latin typeface="Arial"/>
              </a:rPr>
              <a:t>Mem-produksi ………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aeaea"/>
                </a:solidFill>
                <a:latin typeface="Arial"/>
              </a:rPr>
              <a:t>Mengolah……………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aeaea"/>
                </a:solidFill>
                <a:latin typeface="Arial"/>
              </a:rPr>
              <a:t>Men-distribusikan ……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943600" y="297180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aeaea"/>
                </a:solidFill>
                <a:latin typeface="Arial"/>
              </a:rPr>
              <a:t>INFORMASI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107320" y="3352680"/>
            <a:ext cx="72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aeaea"/>
                </a:solidFill>
                <a:latin typeface="Arial"/>
              </a:rPr>
              <a:t>da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029200" y="388620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aeaea"/>
                </a:solidFill>
                <a:latin typeface="Arial"/>
              </a:rPr>
              <a:t>Memproduksi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759560" y="4419720"/>
            <a:ext cx="437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aeaea"/>
                </a:solidFill>
                <a:latin typeface="Arial"/>
              </a:rPr>
              <a:t>TEKNOLOGI INFORMASI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195680" y="5486400"/>
            <a:ext cx="1174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eaeaea"/>
                </a:solidFill>
                <a:latin typeface="Arial"/>
              </a:rPr>
              <a:t>CIO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18960" y="380880"/>
            <a:ext cx="6933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ebd189"/>
                </a:solidFill>
                <a:latin typeface="Arial"/>
              </a:rPr>
              <a:t>Pekerja informasi:</a:t>
            </a:r>
            <a:endParaRPr b="0" lang="en-US" sz="36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914400" y="5562720"/>
            <a:ext cx="6019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aeaea"/>
                </a:solidFill>
                <a:latin typeface="Arial"/>
              </a:rPr>
              <a:t>…………………</a:t>
            </a:r>
            <a:r>
              <a:rPr b="1" i="1" lang="en-US" sz="2400" spc="-1" strike="noStrike">
                <a:solidFill>
                  <a:srgbClr val="eaeaea"/>
                </a:solidFill>
                <a:latin typeface="Arial"/>
              </a:rPr>
              <a:t>. dosen dan peneliti, ……………pegawai administrasi ……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42184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ebd189"/>
                </a:solidFill>
                <a:uFillTx/>
                <a:latin typeface="Arial"/>
              </a:rPr>
              <a:t>COMPUTER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1905120" y="1219320"/>
            <a:ext cx="262872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Computer ........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419720" y="914400"/>
            <a:ext cx="38098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Computer ......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7086600" y="990720"/>
          <a:ext cx="1550880" cy="145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086600" y="990720"/>
                    <a:ext cx="1550880" cy="145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0" name=""/>
          <p:cNvGraphicFramePr/>
          <p:nvPr/>
        </p:nvGraphicFramePr>
        <p:xfrm>
          <a:off x="5638680" y="1447920"/>
          <a:ext cx="1238400" cy="1371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638680" y="1447920"/>
                    <a:ext cx="1238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2" name=""/>
          <p:cNvGraphicFramePr/>
          <p:nvPr/>
        </p:nvGraphicFramePr>
        <p:xfrm>
          <a:off x="7543800" y="3505320"/>
          <a:ext cx="1332000" cy="1447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543800" y="3505320"/>
                    <a:ext cx="1332000" cy="14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8020080" y="5029200"/>
          <a:ext cx="1123920" cy="16002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8020080" y="5029200"/>
                    <a:ext cx="112392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6" name=""/>
          <p:cNvGraphicFramePr/>
          <p:nvPr/>
        </p:nvGraphicFramePr>
        <p:xfrm>
          <a:off x="0" y="5102280"/>
          <a:ext cx="2209680" cy="15732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0" y="5102280"/>
                    <a:ext cx="2209680" cy="157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8" name=""/>
          <p:cNvGraphicFramePr/>
          <p:nvPr/>
        </p:nvGraphicFramePr>
        <p:xfrm>
          <a:off x="2438280" y="5486400"/>
          <a:ext cx="1884600" cy="9730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438280" y="5486400"/>
                    <a:ext cx="1884600" cy="97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0" name=""/>
          <p:cNvGraphicFramePr/>
          <p:nvPr/>
        </p:nvGraphicFramePr>
        <p:xfrm>
          <a:off x="6324480" y="5334120"/>
          <a:ext cx="1374840" cy="15238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324480" y="5334120"/>
                    <a:ext cx="1374840" cy="152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0" y="2057040"/>
            <a:ext cx="9236160" cy="298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10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...... Mesin Ketik Canggih? 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10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...... Alat HIBURAN: Games, VCD?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10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...... Lemari ARSIP?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10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...... Alat KOMUNIKASI?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10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...... Alat Bantu ADMINISTRASI?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959441-6960-40AA-B64A-3E77AF668167}" type="datetime1">
              <a:rPr lang="en-US"/>
              <a:t>07/29/26</a:t>
            </a:fld>
          </a:p>
        </p:txBody>
      </p:sp>
    </p:spTree>
  </p:cSld>
  <p:transition spd="med">
    <p:wipe dir="r"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55ba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bd18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6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97c0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663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33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304920" y="3581280"/>
            <a:ext cx="2130480" cy="299088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d189"/>
                </a:solidFill>
                <a:latin typeface="Arial"/>
              </a:rPr>
              <a:t>Tingkatan-Tingkatan Sistem Informasi (1</a:t>
            </a:r>
            <a:r>
              <a:rPr b="0" lang="en-US" sz="4000" spc="-1" strike="noStrike">
                <a:solidFill>
                  <a:srgbClr val="ebd189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28600" y="990720"/>
          <a:ext cx="8915400" cy="5867280"/>
        </p:xfrm>
        <a:graphic>
          <a:graphicData uri="http://schemas.openxmlformats.org/drawingml/2006/table">
            <a:tbl>
              <a:tblPr/>
              <a:tblGrid>
                <a:gridCol w="2228760"/>
                <a:gridCol w="2229120"/>
                <a:gridCol w="2228760"/>
                <a:gridCol w="2228760"/>
              </a:tblGrid>
              <a:tr h="156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Tingkatan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erangkat Keras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erangkat Lunak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Ciri-ciri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429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SISTEM INFORMASI BERBASIS MANUAL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ensil, Ballpoint, Buku Tulis, Mesin Tik sampai ke PC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Tidak ada, atau paket-paket perangkat lunak “generik” yang tersedia, seperti pengolah kata, </a:t>
                      </a:r>
                      <a:r>
                        <a:rPr b="0" i="1" lang="en-US" sz="24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spread-sheet</a:t>
                      </a: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, dst.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Mengandalkan kemampuan manusiawi: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Akuntabilitas, ketelitian, ingatan, keuletan, dst.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2743200" y="5398920"/>
          <a:ext cx="1550880" cy="1459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743200" y="5398920"/>
                    <a:ext cx="1550880" cy="145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C4D71-B148-4770-80C4-81E7DE16A922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7E35BE-1C4E-4FDA-A551-ED1F2C518E5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bd18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d189"/>
                </a:solidFill>
                <a:latin typeface="Arial"/>
              </a:rPr>
              <a:t>Tingkatan-Tingkatan Sistem Informasi (2)</a:t>
            </a:r>
            <a:endParaRPr b="0" lang="en-US" sz="28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0" y="1143000"/>
          <a:ext cx="9144000" cy="4525920"/>
        </p:xfrm>
        <a:graphic>
          <a:graphicData uri="http://schemas.openxmlformats.org/drawingml/2006/table">
            <a:tbl>
              <a:tblPr/>
              <a:tblGrid>
                <a:gridCol w="2286000"/>
                <a:gridCol w="2286000"/>
                <a:gridCol w="2286000"/>
                <a:gridCol w="228600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Tingkatan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erangkat Keras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erangkat Lunak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Ciri-ciri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578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SISTEM INFORMASI BERBASIS KOMPUTER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KOMPUTER umumnya PC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aket-paket yang dibangun untuk keperluan yang spesifik, misalnya paket software untuk administrasi dan simulasi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ekerjaan yang berulang, rutin, membosankan, memerlukan ketelitian dan ingatan kuat, yang berpeluang terjadi kesalahan manusiawi, dibantu dengan KOMPUTER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2666880" y="3733920"/>
          <a:ext cx="1238400" cy="137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733920"/>
                    <a:ext cx="1238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2" name=""/>
          <p:cNvGraphicFramePr/>
          <p:nvPr/>
        </p:nvGraphicFramePr>
        <p:xfrm>
          <a:off x="2514600" y="5257800"/>
          <a:ext cx="1884240" cy="973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14600" y="5257800"/>
                    <a:ext cx="1884240" cy="97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304920" y="4495680"/>
          <a:ext cx="1736640" cy="1887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4920" y="4495680"/>
                    <a:ext cx="1736640" cy="188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F60F1-C5B3-46DA-BFFE-99AE377E3005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BE7361-B8BB-43FE-9F74-20F46DAB6A9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5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d189"/>
                </a:solidFill>
                <a:latin typeface="Arial"/>
              </a:rPr>
              <a:t>Tingkatan-Tingkatan Sistem Informasi (3)</a:t>
            </a:r>
            <a:endParaRPr b="0" lang="en-US" sz="28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0" y="838080"/>
          <a:ext cx="9144000" cy="5791320"/>
        </p:xfrm>
        <a:graphic>
          <a:graphicData uri="http://schemas.openxmlformats.org/drawingml/2006/table">
            <a:tbl>
              <a:tblPr/>
              <a:tblGrid>
                <a:gridCol w="2286000"/>
                <a:gridCol w="2286000"/>
                <a:gridCol w="2286000"/>
                <a:gridCol w="2286000"/>
              </a:tblGrid>
              <a:tr h="1067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Tingkatan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erangkat Keras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erangkat Lunak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Ciri-ciri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472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SISTEM INFORMASI BERBASIS  JARINGAN KOMPUTER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KOMPUTER(PC, Workstation, Server), perangkat jaringan (NIC, HUB, BRIDGE, SWITCH), sistem telekomunikasi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aket-paket perangkat lunak berbasis jaringan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Resource sharing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, bisa diakses dan meng-akses dari dan ke sistem informasi lain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8" name=""/>
          <p:cNvGraphicFramePr/>
          <p:nvPr/>
        </p:nvGraphicFramePr>
        <p:xfrm>
          <a:off x="228600" y="4956120"/>
          <a:ext cx="1905120" cy="190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4956120"/>
                    <a:ext cx="1905120" cy="190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609480" y="4038480"/>
          <a:ext cx="1694160" cy="1148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9480" y="4038480"/>
                    <a:ext cx="1694160" cy="114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2" name="" descr=""/>
          <p:cNvPicPr/>
          <p:nvPr/>
        </p:nvPicPr>
        <p:blipFill>
          <a:blip r:embed="rId5"/>
          <a:stretch/>
        </p:blipFill>
        <p:spPr>
          <a:xfrm>
            <a:off x="4876920" y="4114800"/>
            <a:ext cx="1746000" cy="2454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A5EA6-B88E-4BB5-BA4C-F9369F139DC1}" type="slidenum">
              <a:t>1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1DA553-07D0-4C02-BD57-E97078E6696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d189"/>
                </a:solidFill>
                <a:latin typeface="Arial"/>
              </a:rPr>
              <a:t>APLIKASI dalam </a:t>
            </a:r>
            <a:br>
              <a:rPr sz="3600"/>
            </a:br>
            <a:r>
              <a:rPr b="0" lang="en-US" sz="3600" spc="-1" strike="noStrike">
                <a:solidFill>
                  <a:srgbClr val="ebd189"/>
                </a:solidFill>
                <a:latin typeface="Arial"/>
              </a:rPr>
              <a:t>DUNIA PENDIDIKAN TINGGI:</a:t>
            </a:r>
            <a:endParaRPr b="0" lang="en-US" sz="36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dministrasi Pendidikan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urat-menyura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Registrasi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enjadwalan Kuliah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eng-arsip-a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Nilai dan Transkrip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l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28840" y="167616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ses Pembelajara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enyusunan materi ajar, penelusura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lat bantu proses pembelajara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lat bantu penelitian dan pengabdian pada masyaraka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emodelan/Simulasi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ll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88288-A549-4A4A-9CF8-D7C1D05472DF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9C5410-7DEF-43AF-9F76-D8FED045CEE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18960" y="38088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d189"/>
                </a:solidFill>
                <a:latin typeface="Arial"/>
              </a:rPr>
              <a:t>2 (DUA) “</a:t>
            </a:r>
            <a:r>
              <a:rPr b="0" i="1" lang="en-US" sz="4000" spc="-1" strike="noStrike">
                <a:solidFill>
                  <a:srgbClr val="ebd189"/>
                </a:solidFill>
                <a:latin typeface="Arial"/>
              </a:rPr>
              <a:t>CURRENT ISSUES</a:t>
            </a:r>
            <a:r>
              <a:rPr b="0" lang="en-US" sz="4000" spc="-1" strike="noStrike">
                <a:solidFill>
                  <a:srgbClr val="ebd189"/>
                </a:solidFill>
                <a:latin typeface="Arial"/>
              </a:rPr>
              <a:t>” TEKNOLOGI INFORMASI: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294920" y="2590560"/>
            <a:ext cx="3467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Masalah Hak Cipta (</a:t>
            </a:r>
            <a:r>
              <a:rPr b="0" i="1" lang="en-US" sz="2400" spc="-1" strike="noStrike">
                <a:solidFill>
                  <a:srgbClr val="eaeaea"/>
                </a:solidFill>
                <a:latin typeface="Arial"/>
              </a:rPr>
              <a:t>Copyright)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 dan Pembajaka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Jalur Hukum dan Non-Hukum: VI RUS!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rakan mendukung “</a:t>
            </a:r>
            <a:r>
              <a:rPr b="0" i="1" lang="en-US" sz="2400" spc="-1" strike="noStrike">
                <a:solidFill>
                  <a:srgbClr val="eaeaea"/>
                </a:solidFill>
                <a:latin typeface="Arial"/>
              </a:rPr>
              <a:t>open-source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” !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800240" y="2819520"/>
            <a:ext cx="38019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Integrasi yang semakin jauh dengan sistem telekomunikasi selul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219320" y="2057400"/>
            <a:ext cx="373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COPYRIGH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1676520" y="5810400"/>
            <a:ext cx="261936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COPYRIGHT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800600" y="205740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WIRELE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5486400" y="5486400"/>
            <a:ext cx="221940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WIRELESS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7450200" y="1066680"/>
          <a:ext cx="1693800" cy="1148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450200" y="1066680"/>
                    <a:ext cx="1693800" cy="114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5" name=""/>
          <p:cNvGraphicFramePr/>
          <p:nvPr/>
        </p:nvGraphicFramePr>
        <p:xfrm>
          <a:off x="0" y="4648320"/>
          <a:ext cx="1905120" cy="1901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4648320"/>
                    <a:ext cx="1905120" cy="190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DCEBD-543C-4B9A-B956-C38AE87DA6F8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3A37A3-14A2-470A-9E9A-D334B1B6BA10}" type="datetime1">
              <a:rPr lang="en-US"/>
              <a:t>07/29/26</a:t>
            </a:fld>
          </a:p>
        </p:txBody>
      </p:sp>
    </p:spTree>
  </p:cSld>
  <p:transition spd="slow" advTm="89000"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2133720" y="1219320"/>
            <a:ext cx="4647960" cy="154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SELESAI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3657600" y="3352680"/>
            <a:ext cx="175248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The END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952520" y="3657240"/>
            <a:ext cx="35816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HE END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081D3-D253-457C-86BA-8D949ED2A952}" type="slidenum">
              <a:t>1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4C3C7BB3-E4A1-442B-86C7-CA6765BA63A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88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01F46-556D-4101-BF9E-52793655D7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A7BE3-0BC5-4339-A16F-878A26B78FD0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905120" y="1592280"/>
            <a:ext cx="6906960" cy="52657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914400" y="1143000"/>
            <a:ext cx="1857240" cy="399564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Situasi Hari Ini ……….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6960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Dari Hiroshima-Nagasaki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                      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ke WTC 911,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                              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sampai Bom di Bali!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di Makassar!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di Marriott!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BOM………BOM…….. BOM……BO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6781680" y="0"/>
            <a:ext cx="1517760" cy="2743200"/>
          </a:xfrm>
          <a:prstGeom prst="rect">
            <a:avLst/>
          </a:prstGeom>
          <a:ln w="0">
            <a:noFill/>
          </a:ln>
        </p:spPr>
      </p:pic>
    </p:spTree>
  </p:cSld>
  <p:transition spd="slow" advTm="61000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SITUASI HARI INI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61760" y="1676160"/>
            <a:ext cx="83818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518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5518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Gambaran situasi GLOBAL masa kini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551880" indent="-551880" algn="just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  <a:ea typeface="Times New Roman"/>
              </a:rPr>
              <a:t>Persaingan Global di era pasar beba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551880" indent="-551880" algn="just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  <a:ea typeface="Times New Roman"/>
              </a:rPr>
              <a:t>Meningkatnya kekerasan dan kerusuha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551880" indent="-551880" algn="just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  <a:ea typeface="Times New Roman"/>
              </a:rPr>
              <a:t>Serba cepat, serba jalan pintas,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5518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  <a:ea typeface="Times New Roman"/>
              </a:rPr>
              <a:t>                       </a:t>
            </a:r>
            <a:r>
              <a:rPr b="0" lang="en-US" sz="3200" spc="-1" strike="noStrike">
                <a:solidFill>
                  <a:srgbClr val="eaeaea"/>
                </a:solidFill>
                <a:latin typeface="Tahoma"/>
                <a:ea typeface="Times New Roman"/>
              </a:rPr>
              <a:t>serba  STRESSSSSS ………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A6ECF-3DFD-47CB-AC94-8104B0CED090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60050E-FB83-40D5-9F83-E43332A52BC5}" type="datetime1">
              <a:rPr lang="en-US"/>
              <a:t>07/29/26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320" y="533520"/>
            <a:ext cx="7086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Sekilas Sejarah Peradaba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304920" y="1600200"/>
          <a:ext cx="8534160" cy="4202280"/>
        </p:xfrm>
        <a:graphic>
          <a:graphicData uri="http://schemas.openxmlformats.org/drawingml/2006/table">
            <a:tbl>
              <a:tblPr/>
              <a:tblGrid>
                <a:gridCol w="2793960"/>
                <a:gridCol w="2793960"/>
                <a:gridCol w="2946240"/>
              </a:tblGrid>
              <a:tr h="94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Era Peradaban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Issue Sentral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eristiwa Dahsyat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ERTANIAN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LAHAN TANAM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REVOLUSI SOSIAL dan KEMERDEKAAN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INDUSTRI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ENERGI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HIROSHIMA NAGASAKI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934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INFORMASI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INFORMASI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WTC 911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19BF2-25F0-49DE-B713-19D7B7C3808B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96D582-BAE2-40A6-A943-8D56FFB56BB1}" type="datetime1">
              <a:rPr lang="en-US"/>
              <a:t>07/29/26</a:t>
            </a:fld>
          </a:p>
        </p:txBody>
      </p:sp>
    </p:spTree>
  </p:cSld>
  <p:transition spd="med">
    <p:wipe dir="r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477120" y="0"/>
            <a:ext cx="26668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WTC 911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787920" cy="68580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3809880" y="3543480"/>
            <a:ext cx="5334120" cy="33145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3809880" y="1219320"/>
            <a:ext cx="3733920" cy="2306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4C659-622D-4980-AAB8-9641216DD4CD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35AB51-7B6F-4635-8D98-09178986A0F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2209680"/>
            <a:ext cx="3735360" cy="41911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3759120" y="0"/>
            <a:ext cx="2911680" cy="438156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6676920" y="1371600"/>
            <a:ext cx="2467080" cy="432432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705360" y="-360"/>
            <a:ext cx="2438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WTC 911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8037F-68E8-4DA8-A7D7-7D18C6D0AA3F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3FCA85-B70A-4DA1-8F71-616FB6057376}" type="datetime1">
              <a:rPr lang="en-US"/>
              <a:t>07/29/26</a:t>
            </a:fld>
          </a:p>
        </p:txBody>
      </p:sp>
    </p:spTree>
  </p:cSld>
  <p:transition spd="med">
    <p:wipe dir="r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762120" y="609480"/>
            <a:ext cx="7848360" cy="5940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3A79F-EABA-49EA-8571-C3B355DD6EEA}" type="slidenum">
              <a:t>7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524B38-DB47-4826-8D26-2ACD3F1BD07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457200" y="1828800"/>
            <a:ext cx="3886200" cy="2971800"/>
          </a:xfrm>
          <a:prstGeom prst="ellipse">
            <a:avLst/>
          </a:prstGeom>
          <a:noFill/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28600" y="2514600"/>
            <a:ext cx="3962520" cy="13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eaeaea"/>
                </a:solidFill>
                <a:latin typeface="Arial"/>
              </a:rPr>
              <a:t>Masyarakat</a:t>
            </a:r>
            <a:endParaRPr b="0" lang="en-US" sz="5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eaeaea"/>
                </a:solidFill>
                <a:latin typeface="Arial"/>
              </a:rPr>
              <a:t>“</a:t>
            </a:r>
            <a:r>
              <a:rPr b="0" i="1" lang="en-US" sz="5400" spc="-1" strike="noStrike">
                <a:solidFill>
                  <a:srgbClr val="eaeaea"/>
                </a:solidFill>
                <a:latin typeface="Arial"/>
              </a:rPr>
              <a:t>nyata”</a:t>
            </a:r>
            <a:endParaRPr b="0" lang="en-US" sz="5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4343400"/>
            <a:ext cx="1143000" cy="1143000"/>
          </a:xfrm>
          <a:prstGeom prst="ellipse">
            <a:avLst/>
          </a:prstGeom>
          <a:solidFill>
            <a:srgbClr val="000054"/>
          </a:solidFill>
          <a:ln w="9360">
            <a:solidFill>
              <a:srgbClr val="eaeae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4724280"/>
            <a:ext cx="2895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aeaea"/>
                </a:solidFill>
                <a:latin typeface="Arial"/>
              </a:rPr>
              <a:t>“</a:t>
            </a:r>
            <a:r>
              <a:rPr b="1" i="1" lang="en-US" sz="2400" spc="-1" strike="noStrike">
                <a:solidFill>
                  <a:srgbClr val="eaeaea"/>
                </a:solidFill>
                <a:latin typeface="Arial"/>
              </a:rPr>
              <a:t>MASYARAKAT” MAY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800600" y="380880"/>
            <a:ext cx="3809880" cy="3353040"/>
          </a:xfrm>
          <a:prstGeom prst="ellipse">
            <a:avLst/>
          </a:prstGeom>
          <a:noFill/>
          <a:ln w="76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210280" y="1066680"/>
            <a:ext cx="3187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aeaea"/>
                </a:solidFill>
                <a:latin typeface="Arial"/>
              </a:rPr>
              <a:t>MASYARAKAT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aeaea"/>
                </a:solidFill>
                <a:latin typeface="Arial"/>
              </a:rPr>
              <a:t>INFORMASI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rot="19828800">
            <a:off x="3809880" y="2361960"/>
            <a:ext cx="2133720" cy="609480"/>
          </a:xfrm>
          <a:custGeom>
            <a:avLst/>
            <a:gdLst>
              <a:gd name="textAreaLeft" fmla="*/ 333360 w 2133720"/>
              <a:gd name="textAreaRight" fmla="*/ 1867320 w 2133720"/>
              <a:gd name="textAreaTop" fmla="*/ 152280 h 609480"/>
              <a:gd name="textAreaBottom" fmla="*/ 457200 h 609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19544400">
            <a:off x="3373200" y="3477960"/>
            <a:ext cx="3298680" cy="709560"/>
          </a:xfrm>
          <a:custGeom>
            <a:avLst/>
            <a:gdLst>
              <a:gd name="textAreaLeft" fmla="*/ 515160 w 3298680"/>
              <a:gd name="textAreaRight" fmla="*/ 2886480 w 3298680"/>
              <a:gd name="textAreaTop" fmla="*/ 177480 h 709560"/>
              <a:gd name="textAreaBottom" fmla="*/ 532440 h 709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0"/>
            <a:ext cx="6089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ebd189"/>
                </a:solidFill>
                <a:latin typeface="Arial"/>
              </a:rPr>
              <a:t>The Information Society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8" dur="3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3" name=""/>
          <p:cNvGraphicFramePr/>
          <p:nvPr/>
        </p:nvGraphicFramePr>
        <p:xfrm>
          <a:off x="1295280" y="411120"/>
          <a:ext cx="7162920" cy="6446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411120"/>
                    <a:ext cx="7162920" cy="644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8153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a"/>
                </a:solidFill>
                <a:latin typeface="Arial"/>
              </a:rPr>
              <a:t>KOMPOSISI TENAGA KERJA</a:t>
            </a:r>
            <a:endParaRPr b="0" lang="en-US" sz="32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9E5B3-C09C-4E32-95EE-8892030B3239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330D7E-B9E0-4A77-B645-113983125A1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utiara S. Sadjad</cp:lastModifiedBy>
  <dcterms:modified xsi:type="dcterms:W3CDTF">2005-09-02T13:17:03Z</dcterms:modified>
  <cp:revision>98</cp:revision>
  <dc:subject/>
  <dc:title>PowerPoint Presentation</dc:title>
</cp:coreProperties>
</file>