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CF2-13D2-493F-8CB7-8F1D2DE7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3D2-680E-400B-B12D-1FDE58AD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635-0478-4BE0-AB45-346AC29D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039-5DC1-4E88-8D3A-151E943D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28A7-7793-4C9F-AF5B-E0811908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B30D-C025-4953-8851-2FBD83E4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8643-50E9-49D2-92C5-DEF82964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D1DD-8E79-439E-BE30-9EFBCEF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3462-03E2-464D-91CE-11AFA070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96F1-7850-4C25-A19F-DFDFE77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E07A-9F24-41D1-A0B0-D154A74E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983-B567-4F87-BEBB-5936436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E9D4-E91D-4039-9F7B-2129216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64A-E33E-48BE-B987-F7299C9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5661-BC4B-4D6B-953F-8EA81828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937D-7016-49BE-A224-3BBB6BD2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6F1E-7538-4C11-8F92-5C97A642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F7D-B5CD-463B-8DDA-50CB809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11A-86A3-43CA-B1BC-689D0529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296-693E-4C67-8B55-CBFF4997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E41-9B8B-4BBF-9BAE-FDBB8A76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8F1-E397-466D-AF48-93EED80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756-AAF6-4FF3-B50D-9E8904FE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BC6-782C-4E31-B8F4-3C164EA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B8E4-264E-4B25-8A78-A1A148D0EDFB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AFD9-844D-4A80-B2A3-6D38A22ED54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F05-2E7D-40EE-B40F-17F8ABDD8290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2BD6-DD23-4FE6-ABB1-3309A1D65D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9937-E42D-4F57-AE6A-547B841EAA1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CF74661-644D-472F-9F42-711A0A7E33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C643A-A617-40BB-861B-4108DABB7DC2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36D-FF97-41E4-B843-083D828E11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7C086-F82E-4F1C-A433-E4E71A87D4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F179-3AE9-4F13-8577-485858E66B8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5E794B-F724-4FD7-96D5-45329C47DE7B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bd05515_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DBA-BFD3-4634-B5A5-F72C58F533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212E3-966F-4C9D-B8CE-4064E71687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a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74-48FF-48DD-A9DC-46E7530DAAF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9A0B6-CE63-47CE-A0C4-7162780F2E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BC907E4-33F0-40E1-862D-91924DE4FFAD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766-2D38-4700-863A-250B99BE506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414D7-D2CA-4D5F-A62E-F69B139263D6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F858F-EBDC-4FAE-8174-EF78D07C727A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5EFBA-FECF-48AE-8AAB-C81BBCAF41CF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9FB6C-AB08-4548-8E51-346F0AB3ED0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6A8F2-BE6D-4348-9088-C18E298B002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4:12:05Z</dcterms:modified>
  <cp:revision>46</cp:revision>
  <dc:subject/>
  <dc:title>PowerPoint Presentation</dc:title>
</cp:coreProperties>
</file>