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1.png" ContentType="image/png"/>
  <Override PartName="/ppt/media/image9.jpeg" ContentType="image/jpeg"/>
  <Override PartName="/ppt/media/image23.wmf" ContentType="image/x-wmf"/>
  <Override PartName="/ppt/media/image20.wmf" ContentType="image/x-wmf"/>
  <Override PartName="/ppt/media/image18.wmf" ContentType="image/x-wmf"/>
  <Override PartName="/ppt/media/CHIMES.WAV" ContentType="audio/x-wav"/>
  <Override PartName="/ppt/media/image5.jpeg" ContentType="image/jpeg"/>
  <Override PartName="/ppt/media/image25.wmf" ContentType="image/x-wmf"/>
  <Override PartName="/ppt/media/image2.wmf" ContentType="image/x-wmf"/>
  <Override PartName="/ppt/media/image26.wmf" ContentType="image/x-wmf"/>
  <Override PartName="/ppt/media/RICOCHET.WAV" ContentType="audio/x-wav"/>
  <Override PartName="/ppt/media/image3.wmf" ContentType="image/x-wmf"/>
  <Override PartName="/ppt/media/image7.jpeg" ContentType="image/jpeg"/>
  <Override PartName="/ppt/media/image28.png" ContentType="image/png"/>
  <Override PartName="/ppt/media/image10.jpeg" ContentType="image/jpeg"/>
  <Override PartName="/ppt/media/image8.jpeg" ContentType="image/jpeg"/>
  <Override PartName="/ppt/media/image27.wmf" ContentType="image/x-wmf"/>
  <Override PartName="/ppt/media/image4.wmf" ContentType="image/x-wmf"/>
  <Override PartName="/ppt/media/image13.wmf" ContentType="image/x-wmf"/>
  <Override PartName="/ppt/media/EXPLODE.WAV" ContentType="audio/x-wav"/>
  <Override PartName="/ppt/media/applause.wav" ContentType="audio/x-wav"/>
  <Override PartName="/ppt/media/image1.png" ContentType="image/png"/>
  <Override PartName="/ppt/media/WHOOSH.WAV" ContentType="audio/x-wav"/>
  <Override PartName="/ppt/media/image16.wmf" ContentType="image/x-wmf"/>
  <Override PartName="/ppt/media/image15.wmf" ContentType="image/x-wmf"/>
  <Override PartName="/ppt/media/image14.jpeg" ContentType="image/jpeg"/>
  <Override PartName="/ppt/media/CAMERA.WAV" ContentType="audio/x-wav"/>
  <Override PartName="/ppt/media/image24.wmf" ContentType="image/x-wmf"/>
  <Override PartName="/ppt/media/image12.wmf" ContentType="image/x-wmf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87C2-93E1-4A83-BF77-707153CD4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085A-9C55-45BA-9A50-CBC8DA04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4D47-BB4A-421F-8139-537B5F964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CC23-A2BD-44BF-9CB0-E833C67BE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A412-4320-43CA-82F9-E4E55B070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7822-0A28-4A13-A355-2F3A08B9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4DE0-3E1D-441C-AD30-6F324909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92A6-A41D-4322-A2D4-3F49E381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07F8-4DAD-4AB3-99A2-2FE42E71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760B-AE53-4071-8426-E13522E4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A733F-6E64-4C53-8198-F360FB3C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3BF9-0D84-449F-8AD2-2B5EE9D7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BC23-BBF6-415C-8153-8E35C9D2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BF58-4FA0-41C3-BDBD-1E98709E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75A9-B9F0-416D-9E42-8420D64F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E718-BB6A-4F3A-BDEB-7DA4E0927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A0F6-DFE7-4DAA-AB2C-80E988DAC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6673-0F50-4726-86C6-FE7A81F8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86AA-3BBC-415F-A584-790F4A45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C17F-C485-459A-B911-EA732661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0576-A77C-4399-BA92-6A3C7B0E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CAE5-1B28-46BE-A96F-C7501C95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0C4A-B5BD-4510-B1D3-C7197EFF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8654-836C-4AAD-9B73-1AB0A71A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33E3-B3D8-4E3E-AF48-86EA0B3F6783}" type="datetime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F5B1-5155-4B1B-B60A-12E6C1A52B36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6EA3-449C-433F-8DF3-66B09E8C37EB}" type="datetime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8B79-2CF8-4BEF-948E-0FF4DB89CCD6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WHOOSH.WAV"/><Relationship Id="rId3" Type="http://schemas.openxmlformats.org/officeDocument/2006/relationships/audio" Target="../media/TYPE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0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1.wmf"/><Relationship Id="rId17" Type="http://schemas.openxmlformats.org/officeDocument/2006/relationships/audio" Target="../media/EXPLODE.WAV"/><Relationship Id="rId18" Type="http://schemas.openxmlformats.org/officeDocument/2006/relationships/audio" Target="../media/WHOOSH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CAMERA.WAV"/><Relationship Id="rId2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audio" Target="../media/RICOCHET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EXPLODE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APLIKASI 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TEKNOLOGI INFORMASI DAN KOMUNIKASI 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dalam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DUNIA PENDIDIKAN TINGGI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2120" y="39621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oleh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 S. Sadj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@unhas.ac.i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http://www.unhas.ac.id/~rhiza/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2133720"/>
            <a:ext cx="7924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LATAR BELAKANG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AN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MOTIVASI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A9A3-49BD-412A-AEBE-C12CED618AA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1B91172-0E70-4ED1-A005-C77A9B4AF18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4519440" cy="3467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419720" y="1371600"/>
            <a:ext cx="3886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-produksi …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golah………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-distribusikan 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360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07320" y="33526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29200" y="3886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produks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59560" y="441972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TEKNOLOGI INFORM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95680" y="5486400"/>
            <a:ext cx="11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Arial"/>
              </a:rPr>
              <a:t>CIO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6933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bd189"/>
                </a:solidFill>
                <a:latin typeface="Arial"/>
              </a:rPr>
              <a:t>Pekerja informas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556272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…………………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. dosen dan peneliti, ……………pegawai administrasi ……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42184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COMPUT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905120" y="1219320"/>
            <a:ext cx="2628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uter .......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419720" y="914400"/>
            <a:ext cx="380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7086600" y="990720"/>
          <a:ext cx="1550880" cy="14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990720"/>
                    <a:ext cx="155088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5638680" y="1447920"/>
          <a:ext cx="123840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1447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7543800" y="3505320"/>
          <a:ext cx="1332000" cy="144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43800" y="3505320"/>
                    <a:ext cx="133200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8020080" y="5029200"/>
          <a:ext cx="1123920" cy="160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020080" y="5029200"/>
                    <a:ext cx="11239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0" y="5102280"/>
          <a:ext cx="2209680" cy="157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5102280"/>
                    <a:ext cx="220968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438280" y="5486400"/>
          <a:ext cx="1884600" cy="97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38280" y="5486400"/>
                    <a:ext cx="188460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324480" y="5334120"/>
          <a:ext cx="1374840" cy="1523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24480" y="5334120"/>
                    <a:ext cx="13748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236160" cy="29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Mesin Ketik Canggih?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HIBURAN: Games, VCD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Lemari ARSIP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KOMUNIKASI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Bantu ADMINISTRASI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CF9C68-B490-4E78-90A7-A1ECFDB2E231}" type="datetime1">
              <a:rPr lang="en-US"/>
              <a:t>07/29/26</a:t>
            </a:fld>
          </a:p>
        </p:txBody>
      </p:sp>
    </p:spTree>
  </p:cSld>
  <p:transition spd="med">
    <p:wipe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55ba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18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97c0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3581280"/>
            <a:ext cx="2130480" cy="29908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Tingkatan-Tingkatan Sistem Informasi (1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28600" y="990720"/>
          <a:ext cx="8915400" cy="5867280"/>
        </p:xfrm>
        <a:graphic>
          <a:graphicData uri="http://schemas.openxmlformats.org/drawingml/2006/table">
            <a:tbl>
              <a:tblPr/>
              <a:tblGrid>
                <a:gridCol w="2228760"/>
                <a:gridCol w="2229120"/>
                <a:gridCol w="2228760"/>
                <a:gridCol w="2228760"/>
              </a:tblGrid>
              <a:tr h="156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29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MANU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nsil, Ballpoint, Buku Tulis, Mesin Tik sampai ke P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dak ada, atau paket-paket perangkat lunak “generik” yang tersedia, seperti pengolah kata, 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pread-sheet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, dst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gandalkan kemampuan manusiawi: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kuntabilitas, ketelitian, ingatan, keuletan, dst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743200" y="5398920"/>
          <a:ext cx="1550880" cy="145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5398920"/>
                    <a:ext cx="155088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7A35-A0EE-493B-8E36-B7FF69266E63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18E82D-2F26-4289-A297-EE861AD4043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18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Tingkatan-Tingkatan Sistem Informasi (2)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0" y="1143000"/>
          <a:ext cx="9144000" cy="45259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57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KOMPUTE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KOMPUTER umumnya P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ket-paket yang dibangun untuk keperluan yang spesifik, misalnya paket software untuk administrasi dan simulasi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kerjaan yang berulang, rutin, membosankan, memerlukan ketelitian dan ingatan kuat, yang berpeluang terjadi kesalahan manusiawi, dibantu dengan KOMPUTER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2666880" y="3733920"/>
          <a:ext cx="12384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733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2514600" y="5257800"/>
          <a:ext cx="188424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5257800"/>
                    <a:ext cx="18842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304920" y="4495680"/>
          <a:ext cx="1736640" cy="188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4495680"/>
                    <a:ext cx="173664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C765-9CBF-4545-8B03-54C8628F77B6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947698-B330-4933-85F5-896B336897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Tingkatan-Tingkatan Sistem Informasi (3)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838080"/>
          <a:ext cx="9144000" cy="57913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72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 JARINGAN KOMPUTE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KOMPUTER(PC, Workstation, Server), perangkat jaringan (NIC, HUB, BRIDGE, SWITCH), sistem telekomunikasi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ket-paket perangkat lunak berbasis jaring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source sharing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, bisa diakses dan meng-akses dari dan ke sistem informasi lai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228600" y="4956120"/>
          <a:ext cx="1905120" cy="19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956120"/>
                    <a:ext cx="190512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609480" y="4038480"/>
          <a:ext cx="1694160" cy="114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038480"/>
                    <a:ext cx="169416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4876920" y="4114800"/>
            <a:ext cx="1746000" cy="245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E670-9334-460C-A48E-C7732868610C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25077B-24B0-41EA-8773-A0D11478E7E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APLIKASI dalam </a:t>
            </a:r>
            <a:br>
              <a:rPr sz="36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DUNIA PENDIDIKAN TINGG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dministrasi Pendidika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urat-menyur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gistras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jadwalan Kulia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g-arsip-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ilai dan Transkri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l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28840" y="167616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ses Pembelajar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yusunan materi ajar, penelusu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at bantu proses pembelaja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at bantu penelitian dan pengabdian pada masyarak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modelan/Simulas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l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F25F-9694-4748-B943-DCEEB184027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845B42-E67E-4F96-B5D5-698310171B8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2 (DUA) “</a:t>
            </a:r>
            <a:r>
              <a:rPr b="0" i="1" lang="en-US" sz="4000" spc="-1" strike="noStrike">
                <a:solidFill>
                  <a:srgbClr val="ebd189"/>
                </a:solidFill>
                <a:latin typeface="Arial"/>
              </a:rPr>
              <a:t>CURRENT ISSUES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” TEKNOLOGI INFORMASI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94920" y="2590560"/>
            <a:ext cx="3467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salah Hak Cipta (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Copyright)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dan Pembajak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alur Hukum dan Non-Hukum: VI RUS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rakan mendukung “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open-source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” 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0240" y="2819520"/>
            <a:ext cx="3801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tegrasi yang semakin jauh dengan sistem telekomunikasi selul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20574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PYRIGH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676520" y="5810400"/>
            <a:ext cx="2619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PYRIGHT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00600" y="20574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WIRELE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486400" y="5486400"/>
            <a:ext cx="22194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WIRELESS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7450200" y="1066680"/>
          <a:ext cx="1693800" cy="114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50200" y="1066680"/>
                    <a:ext cx="169380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0" y="4648320"/>
          <a:ext cx="1905120" cy="190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4648320"/>
                    <a:ext cx="190512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2548-E35D-454E-83D5-14D80ACD6AD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A61411-9A7B-4EAA-8170-2FDE70A52A75}" type="datetime1">
              <a:rPr lang="en-US"/>
              <a:t>07/29/26</a:t>
            </a:fld>
          </a:p>
        </p:txBody>
      </p:sp>
    </p:spTree>
  </p:cSld>
  <p:transition spd="slow" advTm="89000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8374-7D76-4698-8B25-4855CD621634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8878022-E725-4F72-BE3E-5E941A432DA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B6F6-05F6-45B2-8475-1E7FF3D71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E6B5-EE3D-40EC-AB26-048A3BC37DB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05120" y="1592280"/>
            <a:ext cx="6906960" cy="5265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14400" y="114300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Situasi Hari Ini ……….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6960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ari Hiroshima-Nagasaki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ke WTC 911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ampai Bom di Bali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 Makassar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 Marriott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OM………BOM…….. BOM……BO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781680" y="0"/>
            <a:ext cx="1517760" cy="2743200"/>
          </a:xfrm>
          <a:prstGeom prst="rect">
            <a:avLst/>
          </a:prstGeom>
          <a:ln w="0">
            <a:noFill/>
          </a:ln>
        </p:spPr>
      </p:pic>
    </p:spTree>
  </p:cSld>
  <p:transition spd="slow" advTm="61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ITUASI HARI IN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8381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Gambaran situasi GLOBAL masa kini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Persaingan Global di era pasar beb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Meningkatnya kekerasan dan kerusuha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Serba cepat, serba jalan pintas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serba  STRESSSSSS ………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88B4-4CBC-4070-9617-5E67AE67276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F3AE3F-4189-4534-B4F9-7A77D7950A44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ekilas Sejarah Peradab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600200"/>
          <a:ext cx="8534160" cy="420228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94624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ra Peradab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ssue Sentr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istiwa Dahsy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TANI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AHAN TAN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VOLUSI SOSIAL dan KEMERDEKA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DUST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NERG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IROSHIMA NAGASAK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3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TC 91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9C05-F1FC-49B4-8863-568217EA55BF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A3D2F5-5678-427B-A5B8-15303846AB88}" type="datetime1">
              <a:rPr lang="en-US"/>
              <a:t>07/29/26</a:t>
            </a:fld>
          </a:p>
        </p:txBody>
      </p:sp>
    </p:spTree>
  </p:cSld>
  <p:transition spd="med">
    <p:wipe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77120" y="0"/>
            <a:ext cx="266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8792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09880" y="3543480"/>
            <a:ext cx="5334120" cy="3314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809880" y="1219320"/>
            <a:ext cx="3733920" cy="230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6FCD-A432-4741-B766-0979BDFB560F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6F6ACD-E43C-4DA3-90C3-3DCBC20AEC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3735360" cy="4191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759120" y="0"/>
            <a:ext cx="2911680" cy="4381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676920" y="1371600"/>
            <a:ext cx="2467080" cy="43243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05360" y="-360"/>
            <a:ext cx="2438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9E4C-D1E7-44FB-B14B-785597C66609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8054D4-0FB8-497B-A56D-BA9370D489D9}" type="datetime1">
              <a:rPr lang="en-US"/>
              <a:t>07/29/26</a:t>
            </a:fld>
          </a:p>
        </p:txBody>
      </p:sp>
    </p:spTree>
  </p:cSld>
  <p:transition spd="med">
    <p:wipe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848360" cy="594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9909-E15A-4BFA-A801-BADD77DB9BE1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9C4750-CF15-48E7-8BD0-4F879BE5C4C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1828800"/>
            <a:ext cx="3886200" cy="2971800"/>
          </a:xfrm>
          <a:prstGeom prst="ellipse">
            <a:avLst/>
          </a:pr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2514600"/>
            <a:ext cx="396252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Masyarakat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nyata”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4343400"/>
            <a:ext cx="1143000" cy="1143000"/>
          </a:xfrm>
          <a:prstGeom prst="ellipse">
            <a:avLst/>
          </a:prstGeom>
          <a:solidFill>
            <a:srgbClr val="000054"/>
          </a:solidFill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47242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ASYARAKAT” MAY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380880"/>
            <a:ext cx="3809880" cy="3353040"/>
          </a:xfrm>
          <a:prstGeom prst="ellipse">
            <a:avLst/>
          </a:prstGeom>
          <a:noFill/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10280" y="1066680"/>
            <a:ext cx="318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MASYARAKAT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9828800">
            <a:off x="3809880" y="2361960"/>
            <a:ext cx="2133720" cy="609480"/>
          </a:xfrm>
          <a:custGeom>
            <a:avLst/>
            <a:gdLst>
              <a:gd name="textAreaLeft" fmla="*/ 333360 w 2133720"/>
              <a:gd name="textAreaRight" fmla="*/ 1867320 w 21337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9544400">
            <a:off x="3373200" y="3477960"/>
            <a:ext cx="3298680" cy="709560"/>
          </a:xfrm>
          <a:custGeom>
            <a:avLst/>
            <a:gdLst>
              <a:gd name="textAreaLeft" fmla="*/ 515160 w 3298680"/>
              <a:gd name="textAreaRight" fmla="*/ 2886480 w 3298680"/>
              <a:gd name="textAreaTop" fmla="*/ 177480 h 709560"/>
              <a:gd name="textAreaBottom" fmla="*/ 532440 h 709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608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bd189"/>
                </a:solidFill>
                <a:latin typeface="Arial"/>
              </a:rPr>
              <a:t>The Information Society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3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295280" y="411120"/>
          <a:ext cx="7162920" cy="644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11120"/>
                    <a:ext cx="716292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a"/>
                </a:solidFill>
                <a:latin typeface="Arial"/>
              </a:rPr>
              <a:t>KOMPOSISI TENAGA KERJA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95BC-DB15-46DF-A3DD-71C45290E7E3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B372DB-46E3-4A97-A126-902E16E4CC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tiara S. Sadjad</cp:lastModifiedBy>
  <dcterms:modified xsi:type="dcterms:W3CDTF">2005-09-02T13:17:03Z</dcterms:modified>
  <cp:revision>98</cp:revision>
  <dc:subject/>
  <dc:title>PowerPoint Presentation</dc:title>
</cp:coreProperties>
</file>