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10F-A696-4A4D-84B2-36D05A7D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1E2-E187-4F34-8033-F4D6519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671-F1C3-40E2-8A05-1B2D98D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FFE-F6EE-4B87-A086-EAD3054E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92B9-5081-409F-9144-42B23F4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2D3-FC94-4436-B2E1-84B5B95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46CD-7B66-4768-84D4-5D9824B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0584-A273-4BD3-9333-C5CD3E7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9F1-E7AA-4526-8CCE-61069F62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55A-C4BF-42B0-BB18-0AA1DDDD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AB53-6F9A-47F0-B18E-B06A56A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372-53E9-4579-9FC8-F4AC5AD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33BC-B641-4F1D-966A-8B14650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779-F4EE-4A60-BB9B-854C6B5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0416-D633-45F2-8C88-F475123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FADD-25BF-4681-B499-BB3BEEB5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CF5D-5F95-42D4-B2DB-C25DF0CE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8EC-2B00-4FC2-B2E8-B48456AC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3C4-3491-4FEE-A2B8-0EE9FD0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E49-A107-4ED6-9FA9-8909F4B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70A-DE45-4AB3-B752-E10DE229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998-642B-4515-BD18-98FC7D9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858-29F2-4E8D-B0E7-095C967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0FF-4156-43AC-B24C-F65C83B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1EA-BD99-413B-AB9C-C26FDDA9FB66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2535-3B6B-4CB7-83DD-CD1DD2BCC6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D2E9-1E1B-4FB6-80EA-E4C5F3C22F1F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407F-87A8-4B90-91F3-4B79B2A02D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8436-C96A-4BFB-A467-2C611AD791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26CEFF4-F505-48E7-AA3F-9C821877F3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A43EA-3F05-48BD-BE33-0E8C06C22BE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139-9B36-4A88-B6A4-069A29A7FA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5F9DE-F87E-4C93-B339-8B7859F65E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F9E3-7768-4A7D-802A-C95FACC466C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1E2479-C777-4CD8-B0AB-AB334AC2D302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bd05515_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42D-1E7D-4540-8E00-3C9FABCDF7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FA814-9F58-4C8A-918B-D1E1159478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a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ACE-3B03-4BBE-A709-88294CB5615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6193-F5CB-4691-8F74-9E90999408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12AEA8-F984-46D6-B594-993B93957B19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5A1-8013-4027-B20E-A002421620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0788A-BBDA-4E6A-A5DA-C587BBEE3755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FD64-FD7F-4533-AAB5-1115775AEF86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CA4BB-AD73-463A-B3C1-046F084141E3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4D7F4-1B7D-405C-AC8F-5052784E2B2B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55DB-B757-4B0B-A0DB-E2A1DD1B06F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4:12:05Z</dcterms:modified>
  <cp:revision>46</cp:revision>
  <dc:subject/>
  <dc:title>PowerPoint Presentation</dc:title>
</cp:coreProperties>
</file>