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EXPLODE.WAV" ContentType="audio/x-wav"/>
  <Override PartName="/ppt/media/image11.wmf" ContentType="image/x-wmf"/>
  <Override PartName="/ppt/media/image3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DRUMROLL.WAV" ContentType="audio/x-wav"/>
  <Override PartName="/ppt/media/image6.wmf" ContentType="image/x-wmf"/>
  <Override PartName="/ppt/media/image1.png" ContentType="image/png"/>
  <Override PartName="/ppt/media/CHIMES.WAV" ContentType="audio/x-wav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7D4A-7B29-4418-88B1-22AA155C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785-ABF3-429C-B784-5AB97137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F8A-6429-4E30-AA9C-B395D89A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0A5-6004-4FED-A660-77F1A275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4F4B-066B-4861-85BD-0D96D9D5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5AD8-8233-4F46-844A-6D6DF9B1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19A2-6AE9-45C2-A9D6-8206BC1B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4DA7-B90E-48B7-AFDC-6BC6DE1E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698D-C456-4D19-BD49-C4153DA0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4D51-B7FD-46D8-819D-E669F073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8C30-BAFE-43F2-8DBB-F25F64DD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D27-D92B-4AB5-BC1C-40B12BE4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15E5-889C-46F9-AE4A-80D1E2F9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B0BF-19D0-484F-8887-65BA6A9C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7C99-3855-454C-8FD2-90539683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715C-47E8-4753-AFD4-95B6D785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0CB5-DA72-44C2-9B2A-4A53F5F4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860-A35D-4974-B904-23FCE0E6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92E-D7EC-4E79-9BAE-2E68E65B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15D-ABA7-4E37-B646-B56F345F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C40-D434-413C-9D9A-F17BD4CB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10F-E1DB-4E97-BFC1-6F36593B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C49-D75E-4BA9-B7C2-61936093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4C0-23F3-479F-8FC1-CF538155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F777-331B-441C-B09D-1AE2A11C7502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45FF-A922-491A-ADFA-514E38A2AC8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E747-540A-4346-95BC-859CDF2478C2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22A4-C650-46E5-8806-759654BFC13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audio" Target="../media/EXPLOD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BERBAGAI CONTO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3076-10F4-4486-910B-77F71E2C072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DAD92AE-A50A-41AE-833C-405F284C3F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11F3A-B9E9-4544-8CBE-94B5E7241F03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5D4EF-AD6B-425A-9046-3CBA7D7F6B92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3A9-4430-4E03-B9D4-3F3EBED410F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835F0-F95F-48E8-8CA6-BD27EC50B7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3C77-849E-4652-A712-EB544BD871C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7F34E0E-F7D6-4AB8-AA08-2B0013A03A5B}" type="datetime1">
              <a:rPr lang="en-US"/>
              <a:t>07/29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SISTEM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AE1-898C-4075-826A-F3FC19F89C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C1F66-DE4F-4244-9AD8-CC386AB2AE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Administrasi Pendidik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generik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, seperti Microsoft Office: Word, Excell, misalnya untuk daftar nila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khusus untuk Sistem Informasi Manajemen (SIM) yang dirancang khusus untuk sistem pengelolaan administrasi pendidikan, dijalankan pada komputer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tand-alo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sistem informasi berbasis jaringan komputer, contohnya di Universitas Indonesia: bisa di-klik di alamat URL: http://akademik.ui.ac.id/ atau http://www.ui.ac.id/  lalu cari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IAK on-li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2B0-D701-4032-BDBB-5D7612C78FD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27FDE-EFA3-45F9-8B5D-A768C6F0BE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 SIAK ONLINE U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340320" cy="47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49F-C53C-4F2A-912C-5B05AB8E95E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0BDB0-CFFD-44BB-99E9-AF39BDC859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6720" y="1828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04920"/>
            <a:ext cx="7925040" cy="143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dalam proses Pembelajara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781AFC8-E415-4877-A0CE-4AB398980FCC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38F-570A-4C22-9A8C-89CFE13DF3B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95C86-1777-4281-9B63-1EB92129E3E4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D3D61-EA93-41E1-8767-F79598A4B937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7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DD58B-EEF3-4599-960B-B64656D9FA2E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59A57-C78F-44EE-8A07-3C07B70F8FDA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9-03T03:28:04Z</dcterms:modified>
  <cp:revision>48</cp:revision>
  <dc:subject/>
  <dc:title>PowerPoint Presentation</dc:title>
</cp:coreProperties>
</file>