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1.png" ContentType="image/png"/>
  <Override PartName="/ppt/media/image9.jpeg" ContentType="image/jpeg"/>
  <Override PartName="/ppt/media/image23.wmf" ContentType="image/x-wmf"/>
  <Override PartName="/ppt/media/image20.wmf" ContentType="image/x-wmf"/>
  <Override PartName="/ppt/media/image18.wmf" ContentType="image/x-wmf"/>
  <Override PartName="/ppt/media/CHIMES.WAV" ContentType="audio/x-wav"/>
  <Override PartName="/ppt/media/image5.jpeg" ContentType="image/jpeg"/>
  <Override PartName="/ppt/media/image25.wmf" ContentType="image/x-wmf"/>
  <Override PartName="/ppt/media/image2.wmf" ContentType="image/x-wmf"/>
  <Override PartName="/ppt/media/image26.wmf" ContentType="image/x-wmf"/>
  <Override PartName="/ppt/media/RICOCHET.WAV" ContentType="audio/x-wav"/>
  <Override PartName="/ppt/media/image3.wmf" ContentType="image/x-wmf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27.wmf" ContentType="image/x-wmf"/>
  <Override PartName="/ppt/media/image4.wmf" ContentType="image/x-wmf"/>
  <Override PartName="/ppt/media/image13.wmf" ContentType="image/x-wmf"/>
  <Override PartName="/ppt/media/EXPLODE.WAV" ContentType="audio/x-wav"/>
  <Override PartName="/ppt/media/applause.wav" ContentType="audio/x-wav"/>
  <Override PartName="/ppt/media/image1.png" ContentType="image/png"/>
  <Override PartName="/ppt/media/WHOOSH.WAV" ContentType="audio/x-wav"/>
  <Override PartName="/ppt/media/image16.wmf" ContentType="image/x-wmf"/>
  <Override PartName="/ppt/media/image15.wmf" ContentType="image/x-wmf"/>
  <Override PartName="/ppt/media/image14.jpeg" ContentType="image/jpeg"/>
  <Override PartName="/ppt/media/CAMERA.WAV" ContentType="audio/x-wav"/>
  <Override PartName="/ppt/media/image24.wmf" ContentType="image/x-wmf"/>
  <Override PartName="/ppt/media/image12.wmf" ContentType="image/x-wmf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0D1-EAC3-4366-AA66-EF6C2540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472B-7A0C-47F4-B0F6-904535F2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A557-8ADC-4789-8293-BF25FF07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C31F-1C2F-4708-9B14-C50898B4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D935-3F90-4D4E-BBF0-2275353C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4A2B-BD03-4B78-9B6A-F479CA6B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AC80-2820-4C4B-B67C-8B7AB523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723A-687E-4DBD-A77F-97A4909B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80C2-8C16-4040-974C-9A8F5601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C806-4141-480C-9EB9-F4C33FFC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210B-5496-4273-B505-EB7F1ADC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847-50E9-4986-B389-8B88E490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5260-A20E-4A53-B4ED-7F3DCBE8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C0EB-F642-481A-97C1-F9B10C7D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D8A8-3CB3-4B8C-B8B1-92954B5B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59E0-EE97-4BB7-9C35-8A30F3CD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AF8B-BB76-4CD8-B7E4-1DCC1F62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316-05CE-4BB5-8E6E-3AB438B2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EEE0-F648-4112-B4B2-A0D465D7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C04-5E2E-45E7-A951-3B0676FE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3AC1-C44F-4D91-B4FE-D0FA05DB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2C2-9BA3-4DE0-B7A5-3AE25960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E371-2BB4-4A5E-AD08-C4E734C5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BC9-280B-4314-A4FA-7661F39A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0EDD-B449-4111-BED0-61AEA2FF275A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F5B3-13B6-4B5C-A26A-80D54A5483E0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808B-6EE5-40A8-9518-A92BAB68FBF6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B888-23FA-4546-8C4C-7DCDCEC02078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1337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ATAR BELAKANG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AN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OTIVASI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18A4-4AE9-471F-9643-C21F10D7CEA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4770A86-3C6E-46D0-A62F-A66C8F56AB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562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dosen dan peneliti, ……………pegawai administrasi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C55C5-A796-4B18-A765-EE69760BC73F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784B-489A-4775-9A75-85DB0BC729D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47C84-DDA1-4664-9D01-577A6C0E78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paket software untuk administrasi dan simul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F09-9F67-4E0B-AB2E-A55F457A6C8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6E77F-A9FF-48C3-B9BC-848636D25A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4D8-5AD8-4C82-A327-90F1D6E5795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60D65-9947-4435-9BEA-0EEA7BA073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UNIA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ABD-D2BC-47A1-98CC-54F3DD86FA8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06D4A-156A-473A-AA41-F53928FBB8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2 (DUA) “</a:t>
            </a: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CURRENT ISSUES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” TEKNOLOGI INFORMASI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alah Hak Cipta (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opyright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dan Pembajak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alur Hukum dan Non-Hukum: VI RUS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rakan mendukung 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open-sour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” 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grasi yang semakin jauh dengan sistem telekomunikasi selu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PYRIGH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676520" y="5810400"/>
            <a:ext cx="261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PYRIGH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86400" y="5486400"/>
            <a:ext cx="2219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IRELE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BB1-BA33-4931-8F66-D1F6C633B09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1A48F-016D-45E2-A469-879B4A1CBCB0}" type="datetime1">
              <a:rPr lang="en-US"/>
              <a:t>07/29/26</a:t>
            </a:fld>
          </a:p>
        </p:txBody>
      </p:sp>
    </p:spTree>
  </p:cSld>
  <p:transition spd="slow" advTm="89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EACC-D923-4F0A-9AEB-3199B838808B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C94AF8D-5CAE-4A34-A0C3-7D96D0F491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D207-8738-4C4B-9F3A-47ADC8338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C2A1-7486-42EF-89B1-EC078F31017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81CC-0B38-4154-9EE7-8448C36E7A6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8CCE7-34E7-4065-9327-78E65AEE1ED3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997F-3871-406C-AD4D-6805F2FF88A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B55E3-A292-46B9-B76E-C0405D4519E5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B4F-923A-4B5A-92D0-6549B651A2F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4949B-FDC5-4A59-A848-479597E477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C8F6-F2D2-42A6-85E2-6C190EAE628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6460A-16F1-4DAB-8DC3-5B64295BE155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B78-437F-46CD-8DF0-823E067B3C74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8C6CB-7E07-46AF-9E68-FEEE183E33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CBA-2FE6-4E32-9E73-A6BEDF7B290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44160-C49D-433B-9FB6-7E1E7E6CE0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9-02T13:17:03Z</dcterms:modified>
  <cp:revision>98</cp:revision>
  <dc:subject/>
  <dc:title>PowerPoint Presentation</dc:title>
</cp:coreProperties>
</file>