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8.wmf" ContentType="image/x-wmf"/>
  <Override PartName="/ppt/media/image12.jpeg" ContentType="image/jpeg"/>
  <Override PartName="/ppt/media/image7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EXPLODE.WAV" ContentType="audio/x-wav"/>
  <Override PartName="/ppt/media/image11.wmf" ContentType="image/x-wmf"/>
  <Override PartName="/ppt/media/image3.png" ContentType="image/png"/>
  <Override PartName="/ppt/media/image20.png" ContentType="image/png"/>
  <Override PartName="/ppt/media/image2.wmf" ContentType="image/x-wmf"/>
  <Override PartName="/ppt/media/image19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3.wmf" ContentType="image/x-wmf"/>
  <Override PartName="/ppt/media/DRUMROLL.WAV" ContentType="audio/x-wav"/>
  <Override PartName="/ppt/media/image6.wmf" ContentType="image/x-wmf"/>
  <Override PartName="/ppt/media/image1.png" ContentType="image/png"/>
  <Override PartName="/ppt/media/CHIMES.WAV" ContentType="audio/x-wav"/>
  <Override PartName="/ppt/media/image1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952D3-BD57-4104-A40D-8065D6267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13372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07FE8-8871-4D6A-813F-501F46928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213372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41368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27D96-7337-4951-BA4F-B8CADD69D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2976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620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213372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42976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620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E05FD-3ACA-4E35-ABCA-112D2652A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97F81-EFC0-4A86-B61D-2634F13C6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30A81-54C4-4B0E-997E-CB43A140D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C7922-4102-410B-AA66-F1D658623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6E62A-DCE9-4361-AA0E-78BC3A896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920A5-4F56-4652-BE9B-60ED085AA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1430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B95C8-EDD9-472B-95B4-C382DF404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13372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20EAB-FE0D-4B19-9826-AE2A274D4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C401F-93F8-468E-8995-9BB81BC7B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41368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05486-3357-451E-B854-D488996BB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213372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C2B98-86F8-4623-AF5A-0F11D76CE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213372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0F228-C988-45F3-BCFB-4F9A4AF4D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213372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41368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B3734-D15E-4507-953B-56C8DDE1A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2976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4620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213372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42976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4620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AB1CE-50CF-4160-ACB5-B2EFA6069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85CFE-CE6B-47E4-86AA-2FE2C2346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1CF3B-3798-4B16-9D05-318D01698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FD774-6EE9-41B5-A388-5AC815FAF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430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88743-75AF-40BD-9841-3A9D06927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13372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9241B-E659-4A09-9DE3-72AE83BAA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41368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A2BFA-A9EC-49EE-82DA-850A4555C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13372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9F10C-BEF7-4373-9FC2-DCA6C7F85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4021E-FDF8-455D-91D8-518F115D7D9B}" type="datetime">
              <a:rPr b="0" lang="en-US" sz="1400" spc="-1" strike="noStrike">
                <a:solidFill>
                  <a:srgbClr val="ebd189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CBD02-6FD4-4A1A-88F1-D9DA6256C2B0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91C52-DE44-431C-A63D-FE1293235F6A}" type="datetime">
              <a:rPr b="0" lang="en-US" sz="1400" spc="-1" strike="noStrike">
                <a:solidFill>
                  <a:srgbClr val="ebd189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23686-DFE6-468B-B6CB-472EB49DDA7B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4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15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16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17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18.wmf"/><Relationship Id="rId1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0.pn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9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0.wmf"/><Relationship Id="rId8" Type="http://schemas.openxmlformats.org/officeDocument/2006/relationships/image" Target="../media/image11.wmf"/><Relationship Id="rId9" Type="http://schemas.openxmlformats.org/officeDocument/2006/relationships/image" Target="../media/image12.jpeg"/><Relationship Id="rId10" Type="http://schemas.openxmlformats.org/officeDocument/2006/relationships/image" Target="../media/image12.jpeg"/><Relationship Id="rId11" Type="http://schemas.openxmlformats.org/officeDocument/2006/relationships/audio" Target="../media/EXPLODE.WAV"/><Relationship Id="rId12" Type="http://schemas.openxmlformats.org/officeDocument/2006/relationships/audio" Target="../media/DRUMROLL.WAV"/><Relationship Id="rId1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d189"/>
                </a:solidFill>
                <a:latin typeface="Tahoma"/>
              </a:rPr>
              <a:t>APLIKASI </a:t>
            </a:r>
            <a:br>
              <a:rPr sz="2800"/>
            </a:br>
            <a:r>
              <a:rPr b="0" lang="en-US" sz="2800" spc="-1" strike="noStrike">
                <a:solidFill>
                  <a:srgbClr val="ebd189"/>
                </a:solidFill>
                <a:latin typeface="Tahoma"/>
              </a:rPr>
              <a:t>TEKNOLOGI INFORMASI DAN KOMUNIKASI </a:t>
            </a:r>
            <a:br>
              <a:rPr sz="2800"/>
            </a:br>
            <a:r>
              <a:rPr b="0" lang="en-US" sz="2800" spc="-1" strike="noStrike">
                <a:solidFill>
                  <a:srgbClr val="ebd189"/>
                </a:solidFill>
                <a:latin typeface="Tahoma"/>
              </a:rPr>
              <a:t>dalam</a:t>
            </a:r>
            <a:br>
              <a:rPr sz="2800"/>
            </a:br>
            <a:r>
              <a:rPr b="0" lang="en-US" sz="2800" spc="-1" strike="noStrike">
                <a:solidFill>
                  <a:srgbClr val="ebd189"/>
                </a:solidFill>
                <a:latin typeface="Tahoma"/>
              </a:rPr>
              <a:t>DUNIA PENDIDIKAN TINGGI</a:t>
            </a:r>
            <a:endParaRPr b="0" lang="en-US" sz="28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762120" y="396216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oleh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Rhiza S. Sadja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rhiza@unhas.ac.i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http://www.unhas.ac.id/~rhiza/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838080" y="2514600"/>
            <a:ext cx="7925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aeaea"/>
                </a:solidFill>
                <a:latin typeface="Tahoma"/>
              </a:rPr>
              <a:t>BERBAGAI CONTOH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23E70-E6FE-4653-9E4B-72433882E435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E1B0253C-D2DE-4E8F-A8EE-DC17E790480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42184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ebd189"/>
                </a:solidFill>
                <a:uFillTx/>
                <a:latin typeface="Arial"/>
              </a:rPr>
              <a:t>COMPUTER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1905120" y="1219320"/>
            <a:ext cx="262872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Computer ........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419720" y="914400"/>
            <a:ext cx="38098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Computer ......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7086600" y="990720"/>
          <a:ext cx="1550880" cy="145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086600" y="990720"/>
                    <a:ext cx="1550880" cy="145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7" name=""/>
          <p:cNvGraphicFramePr/>
          <p:nvPr/>
        </p:nvGraphicFramePr>
        <p:xfrm>
          <a:off x="5638680" y="1447920"/>
          <a:ext cx="1238400" cy="1371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638680" y="1447920"/>
                    <a:ext cx="1238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9" name=""/>
          <p:cNvGraphicFramePr/>
          <p:nvPr/>
        </p:nvGraphicFramePr>
        <p:xfrm>
          <a:off x="7086600" y="4572000"/>
          <a:ext cx="1736640" cy="18874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086600" y="4572000"/>
                    <a:ext cx="1736640" cy="188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1" name=""/>
          <p:cNvGraphicFramePr/>
          <p:nvPr/>
        </p:nvGraphicFramePr>
        <p:xfrm>
          <a:off x="4648320" y="4191120"/>
          <a:ext cx="1538280" cy="21906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648320" y="4191120"/>
                    <a:ext cx="1538280" cy="21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3" name=""/>
          <p:cNvGraphicFramePr/>
          <p:nvPr/>
        </p:nvGraphicFramePr>
        <p:xfrm>
          <a:off x="0" y="5102280"/>
          <a:ext cx="2209680" cy="15732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0" y="5102280"/>
                    <a:ext cx="2209680" cy="157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5" name=""/>
          <p:cNvGraphicFramePr/>
          <p:nvPr/>
        </p:nvGraphicFramePr>
        <p:xfrm>
          <a:off x="2590920" y="4876920"/>
          <a:ext cx="1884240" cy="9730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590920" y="4876920"/>
                    <a:ext cx="1884240" cy="97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-92160" y="2590560"/>
            <a:ext cx="9236160" cy="298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"/>
              </a:rPr>
              <a:t>...... as a teaching tool 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"/>
              </a:rPr>
              <a:t>...... for HIGHER EDUCATION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"/>
              </a:rPr>
              <a:t>...... why ???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99053A-E15D-403B-B152-8D106AB02750}" type="datetime1">
              <a:rPr lang="en-US"/>
              <a:t>07/29/26</a:t>
            </a:fld>
          </a:p>
        </p:txBody>
      </p:sp>
    </p:spTree>
  </p:cSld>
  <p:transition spd="med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4560" y="121932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ebd189"/>
                </a:solidFill>
                <a:uFillTx/>
                <a:latin typeface="Arial"/>
              </a:rPr>
              <a:t>Available Options:</a:t>
            </a:r>
            <a:endParaRPr b="0" lang="en-US" sz="5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0" y="327672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Komputer sebagai alat bantu ANALISIS dan DESAIN (iterasi, simulasi, praktikum, dll.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Komputer sebagai alat bantu proses pembelajaran (presentasi, animasi,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udio-visual aid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, dll. --------</a:t>
            </a:r>
            <a:r>
              <a:rPr b="0" lang="en-US" sz="3200" spc="-1" strike="noStrike">
                <a:solidFill>
                  <a:srgbClr val="eaeaea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MULTIMEDIA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838080" y="838080"/>
            <a:ext cx="38102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Computer Aided Engineering .........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6019920" y="380880"/>
          <a:ext cx="2590560" cy="2436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19920" y="380880"/>
                    <a:ext cx="2590560" cy="243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22C6C4-C5DC-473C-B1D2-442F8E5D33DE}" type="datetime1">
              <a:rPr lang="en-US"/>
              <a:t>07/29/26</a:t>
            </a:fld>
          </a:p>
        </p:txBody>
      </p:sp>
    </p:spTree>
  </p:cSld>
  <p:transition spd="med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toh-contoh aplikasi dalam proses pembelajaran: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eaeaea"/>
                </a:solidFill>
                <a:uFillTx/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: memanfaatkan paket perangkat lunak “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generik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”, seperti Microsoft Office: Word, Excell, Power Poi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eaeaea"/>
                </a:solidFill>
                <a:uFillTx/>
                <a:latin typeface="Arial"/>
              </a:rPr>
              <a:t>Level 2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: memanfaatkan paket perangkat lunak khusus untuk pemodelan, analisis, animasi, seperti MATLAB, SPICE, Macromedia, dll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eaeaea"/>
                </a:solidFill>
                <a:uFillTx/>
                <a:latin typeface="Arial"/>
              </a:rPr>
              <a:t>Level 3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: pembelajaran menggunakan jaringan komputer dan Internet,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distant learning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,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web-based interactive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, dsb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BB6DB-305E-4B5B-96C3-A3C1237F58E2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31D8F2-EB68-4A10-B71A-5E235CAB5A3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2133720" y="1219320"/>
            <a:ext cx="4647960" cy="154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SELESAI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657600" y="3352680"/>
            <a:ext cx="175248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The END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952520" y="3657240"/>
            <a:ext cx="35816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HE END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DE940-1D0F-4B33-AF26-38991A56407D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163F6234-11C3-46A4-B4A5-0619D3319BD7}" type="datetime1">
              <a:rPr lang="en-US"/>
              <a:t>07/29/26</a:t>
            </a:fld>
          </a:p>
        </p:txBody>
      </p:sp>
    </p:spTree>
  </p:cSld>
  <p:transition spd="slow" advTm="31000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d189"/>
                </a:solidFill>
                <a:latin typeface="Arial"/>
              </a:rPr>
              <a:t>APLIKASI dalam </a:t>
            </a:r>
            <a:br>
              <a:rPr sz="3600"/>
            </a:br>
            <a:r>
              <a:rPr b="0" lang="en-US" sz="3600" spc="-1" strike="noStrike">
                <a:solidFill>
                  <a:srgbClr val="ebd189"/>
                </a:solidFill>
                <a:latin typeface="Arial"/>
              </a:rPr>
              <a:t>SISTEM PENDIDIKAN TINGGI:</a:t>
            </a:r>
            <a:endParaRPr b="0" lang="en-US" sz="36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dministrasi Pendidikan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urat-menyura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Registrasi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enjadwalan Kuliah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eng-arsip-a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Nilai dan Transkrip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l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028840" y="167616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ses Pembelajara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enyusunan materi ajar, penelusura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lat bantu proses pembelajara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lat bantu penelitian dan pengabdian pada masyaraka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emodelan/Simulasi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ll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4352760"/>
            <a:ext cx="2330280" cy="250524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59023-8291-41AB-9FEE-AFE1D2DAA9B1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C3E38C-8B36-4C33-A0B7-632F657B185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1295280"/>
          </a:xfrm>
          <a:prstGeom prst="rect">
            <a:avLst/>
          </a:prstGeom>
          <a:noFill/>
          <a:ln w="28440">
            <a:solidFill>
              <a:srgbClr val="eaeaea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Aplikasi Administrasi Pendidika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838080" y="205740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eaeaea"/>
                </a:solidFill>
                <a:uFillTx/>
                <a:latin typeface="Tahoma"/>
              </a:rPr>
              <a:t>Level 1</a:t>
            </a: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: memanfaatkan paket perangkat lunak “</a:t>
            </a:r>
            <a:r>
              <a:rPr b="0" i="1" lang="en-US" sz="2400" spc="-1" strike="noStrike">
                <a:solidFill>
                  <a:srgbClr val="eaeaea"/>
                </a:solidFill>
                <a:latin typeface="Tahoma"/>
              </a:rPr>
              <a:t>generik</a:t>
            </a: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”, seperti Microsoft Office: Word, Excell, misalnya untuk daftar nilai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eaeaea"/>
                </a:solidFill>
                <a:uFillTx/>
                <a:latin typeface="Tahoma"/>
              </a:rPr>
              <a:t>Level 2</a:t>
            </a: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: memanfaatkan paket perangkat lunak khusus untuk Sistem Informasi Manajemen (SIM) yang dirancang khusus untuk sistem pengelolaan administrasi pendidikan, dijalankan pada komputer “</a:t>
            </a:r>
            <a:r>
              <a:rPr b="0" i="1" lang="en-US" sz="2400" spc="-1" strike="noStrike">
                <a:solidFill>
                  <a:srgbClr val="eaeaea"/>
                </a:solidFill>
                <a:latin typeface="Tahoma"/>
              </a:rPr>
              <a:t>stand-alone</a:t>
            </a: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”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eaeaea"/>
                </a:solidFill>
                <a:uFillTx/>
                <a:latin typeface="Tahoma"/>
              </a:rPr>
              <a:t>Level 3</a:t>
            </a: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: sistem informasi berbasis jaringan komputer, contohnya di Universitas Indonesia: bisa di-klik di alamat URL: http://akademik.ui.ac.id/ atau http://www.ui.ac.id/  lalu cari “</a:t>
            </a:r>
            <a:r>
              <a:rPr b="0" i="1" lang="en-US" sz="2400" spc="-1" strike="noStrike">
                <a:solidFill>
                  <a:srgbClr val="eaeaea"/>
                </a:solidFill>
                <a:latin typeface="Tahoma"/>
              </a:rPr>
              <a:t>SIAK on-line</a:t>
            </a: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”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9BA79-B04C-4EC7-8D9D-57FE2324D019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CDCA26-546C-42FB-9F52-88B2B4B6176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toh SIAK ONLINE UI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2133720" y="1600200"/>
            <a:ext cx="6340320" cy="4754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F3730-5B62-4FC1-8A73-1A176697760A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420944-95E6-4363-9D98-4D8967212FB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66720" y="1828440"/>
            <a:ext cx="84772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ebd189"/>
                </a:solidFill>
                <a:uFillTx/>
                <a:latin typeface="Arial"/>
              </a:rPr>
              <a:t>Teaching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 is ..............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838080" y="2437920"/>
            <a:ext cx="830592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Arial"/>
              </a:rPr>
              <a:t>............……....about providing ……opportunities for students ………………………...to learn</a:t>
            </a:r>
            <a:r>
              <a:rPr b="0" lang="en-US" sz="60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943600" y="60199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aeaea"/>
                </a:solidFill>
                <a:latin typeface="Times New Roman"/>
              </a:rPr>
              <a:t>(TIW Batch 10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990720" y="5181480"/>
            <a:ext cx="8153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Times New Roman"/>
              </a:rPr>
              <a:t>Jones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, ed. . [</a:t>
            </a:r>
            <a:r>
              <a:rPr b="1" lang="en-US" sz="2000" spc="-1" strike="noStrike">
                <a:solidFill>
                  <a:srgbClr val="eaeaea"/>
                </a:solidFill>
                <a:latin typeface="Times New Roman"/>
              </a:rPr>
              <a:t>2000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], “</a:t>
            </a:r>
            <a:r>
              <a:rPr b="0" lang="en-US" sz="2000" spc="-1" strike="noStrike" u="sng">
                <a:solidFill>
                  <a:srgbClr val="eaeaea"/>
                </a:solidFill>
                <a:uFillTx/>
                <a:latin typeface="Times New Roman"/>
              </a:rPr>
              <a:t>CURRICULUM DEVELOPMENT, S1 Engineering Programs in Indonesia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”, page 22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914400" y="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38080" y="304920"/>
            <a:ext cx="7925040" cy="1434600"/>
          </a:xfrm>
          <a:prstGeom prst="rect">
            <a:avLst/>
          </a:prstGeom>
          <a:noFill/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Aplikasi dalam proses Pembelajaran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18A02B3D-80F0-4E08-BC50-4373EBBF2D4A}" type="datetime1">
              <a:rPr lang="en-US"/>
              <a:t>07/29/26</a:t>
            </a:fld>
          </a:p>
        </p:txBody>
      </p:sp>
    </p:spTree>
  </p:cSld>
  <p:transition spd="slow">
    <p:wipe dir="r"/>
    <p:sndAc>
      <p:stSnd>
        <p:snd r:embed="rId1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952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roses Pembelajara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838080" y="1752480"/>
            <a:ext cx="7391520" cy="41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2 (dua) kategori: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855720" indent="-398520">
              <a:lnSpc>
                <a:spcPct val="100000"/>
              </a:lnSpc>
              <a:spcBef>
                <a:spcPts val="1500"/>
              </a:spcBef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  <a:ea typeface="Times New Roman"/>
              </a:rPr>
              <a:t>proses pembelajaran di kelas (</a:t>
            </a:r>
            <a:r>
              <a:rPr b="1" i="1" lang="en-US" sz="2400" spc="-1" strike="noStrike">
                <a:solidFill>
                  <a:srgbClr val="eaeaea"/>
                </a:solidFill>
                <a:latin typeface="Tahoma"/>
                <a:ea typeface="Times New Roman"/>
              </a:rPr>
              <a:t>classroom courses</a:t>
            </a:r>
            <a:r>
              <a:rPr b="1" lang="en-US" sz="2400" spc="-1" strike="noStrike">
                <a:solidFill>
                  <a:srgbClr val="eaeaea"/>
                </a:solidFill>
                <a:latin typeface="Tahoma"/>
                <a:ea typeface="Times New Roman"/>
              </a:rPr>
              <a:t>) melalui tatap-muka yang dijadwalkan secara reguler dalam semester-semeste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855720" indent="-398520">
              <a:lnSpc>
                <a:spcPct val="100000"/>
              </a:lnSpc>
              <a:spcBef>
                <a:spcPts val="1500"/>
              </a:spcBef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  <a:ea typeface="Tahoma"/>
              </a:rPr>
              <a:t>non-kelas (</a:t>
            </a:r>
            <a:r>
              <a:rPr b="1" i="1" lang="en-US" sz="2400" spc="-1" strike="noStrike">
                <a:solidFill>
                  <a:srgbClr val="eaeaea"/>
                </a:solidFill>
                <a:latin typeface="Tahoma"/>
                <a:ea typeface="Tahoma"/>
              </a:rPr>
              <a:t>non-classroom courses</a:t>
            </a:r>
            <a:r>
              <a:rPr b="1" lang="en-US" sz="2400" spc="-1" strike="noStrike">
                <a:solidFill>
                  <a:srgbClr val="eaeaea"/>
                </a:solidFill>
                <a:latin typeface="Tahoma"/>
                <a:ea typeface="Tahoma"/>
              </a:rPr>
              <a:t>), yang tidak terjadwal secara reguler, misalnya matakuliah Seminar, Kerja Praktek, Praktikum, Skripsi, Praktek Lapang, Kuliah Kerja Nyata, dan lain-lain. </a:t>
            </a: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6553080" y="228600"/>
            <a:ext cx="2590920" cy="1847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42E0E-3737-4FB7-A47A-CC55FF8C5378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7B7CE5-857B-46A5-B731-9591E2469D22}" type="datetime1">
              <a:rPr lang="en-US"/>
              <a:t>07/29/2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560" y="914040"/>
            <a:ext cx="8421480" cy="64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ebd189"/>
                </a:solidFill>
                <a:uFillTx/>
                <a:latin typeface="Arial"/>
              </a:rPr>
              <a:t>Teaching Formats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 (examples):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195440" y="1828440"/>
            <a:ext cx="4948200" cy="34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ASTER-APPRENTI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TUDY CIRCLE (TUTOR-NOVIC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ALK and CHALK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PEECH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RILL (PRACTICE, TEST, EXAM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80880" y="3124080"/>
            <a:ext cx="4006800" cy="2857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969466-E046-4F68-A85A-D50B43C1528E}" type="datetime1">
              <a:rPr lang="en-US"/>
              <a:t>07/29/26</a:t>
            </a:fld>
          </a:p>
        </p:txBody>
      </p:sp>
    </p:spTree>
  </p:cSld>
  <p:transition spd="slow">
    <p:wipe dir="r"/>
    <p:sndAc>
      <p:stSnd>
        <p:snd r:embed="rId2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438280" y="533520"/>
            <a:ext cx="45720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eaching is a </a:t>
            </a:r>
            <a:r>
              <a:rPr b="0" lang="en-US" sz="4400" spc="-1" strike="noStrike" u="sng">
                <a:solidFill>
                  <a:srgbClr val="ebd189"/>
                </a:solidFill>
                <a:uFillTx/>
                <a:latin typeface="Arial"/>
              </a:rPr>
              <a:t>SKILL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 !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541008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al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Knowledg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xperi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ty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chniq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ethodolog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ea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ol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.............etc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ids ...............TECHNOLOG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4724280" y="1828800"/>
            <a:ext cx="3733920" cy="3733920"/>
            <a:chOff x="4724280" y="1828800"/>
            <a:chExt cx="3733920" cy="3733920"/>
          </a:xfrm>
        </p:grpSpPr>
        <p:sp>
          <p:nvSpPr>
            <p:cNvPr id="127" name=""/>
            <p:cNvSpPr/>
            <p:nvPr/>
          </p:nvSpPr>
          <p:spPr>
            <a:xfrm>
              <a:off x="4724280" y="1828800"/>
              <a:ext cx="3733920" cy="3733920"/>
            </a:xfrm>
            <a:prstGeom prst="ellipse">
              <a:avLst/>
            </a:prstGeom>
            <a:solidFill>
              <a:srgbClr val="fcab40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952880" y="3200400"/>
              <a:ext cx="32767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eaeaea"/>
                  </a:solidFill>
                  <a:latin typeface="Times New Roman"/>
                </a:rPr>
                <a:t>EDUCATIONAL TECHNOLOGY</a:t>
              </a:r>
              <a:endParaRPr b="0" lang="en-US" sz="3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3309840" y="1828800"/>
            <a:ext cx="2479680" cy="266688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133720" cy="1768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A0A93F-34CF-4EE9-95AA-C28E29FF0152}" type="datetime1">
              <a:rPr lang="en-US"/>
              <a:t>07/29/26</a:t>
            </a:fld>
          </a:p>
        </p:txBody>
      </p:sp>
    </p:spTree>
  </p:cSld>
  <p:transition spd="slow">
    <p:wipe dir="r"/>
    <p:sndAc>
      <p:stSnd>
        <p:snd r:embed="rId3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301840" y="1679400"/>
            <a:ext cx="4540320" cy="349740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22160" y="2057400"/>
            <a:ext cx="84218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1c1c1c"/>
                </a:solidFill>
                <a:latin typeface="Arial"/>
              </a:rPr>
              <a:t>Today’s Situation</a:t>
            </a:r>
            <a:endParaRPr b="0" lang="en-US" sz="60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6383160" y="304920"/>
          <a:ext cx="2760840" cy="1871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383160" y="304920"/>
                    <a:ext cx="2760840" cy="18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5" name=""/>
          <p:cNvGraphicFramePr/>
          <p:nvPr/>
        </p:nvGraphicFramePr>
        <p:xfrm>
          <a:off x="457200" y="4114800"/>
          <a:ext cx="2286000" cy="2281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57200" y="4114800"/>
                    <a:ext cx="2286000" cy="228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457200" y="304920"/>
          <a:ext cx="4724280" cy="15015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57200" y="304920"/>
                    <a:ext cx="4724280" cy="150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9" name="" descr=""/>
          <p:cNvPicPr/>
          <p:nvPr/>
        </p:nvPicPr>
        <p:blipFill>
          <a:blip r:embed="rId8"/>
          <a:stretch/>
        </p:blipFill>
        <p:spPr>
          <a:xfrm>
            <a:off x="6272280" y="3886200"/>
            <a:ext cx="1965240" cy="24303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 txBox="1"/>
          <p:nvPr/>
        </p:nvSpPr>
        <p:spPr>
          <a:xfrm>
            <a:off x="3022560" y="2133720"/>
            <a:ext cx="4292640" cy="1555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9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Today's Situation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10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666880" y="5790960"/>
            <a:ext cx="6477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All kinds of HI-TECH stuffs .....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14E732-D1A3-4C8A-9E1F-2EC022C867E1}" type="datetime1">
              <a:rPr lang="en-US"/>
              <a:t>07/29/26</a:t>
            </a:fld>
          </a:p>
        </p:txBody>
      </p:sp>
    </p:spTree>
  </p:cSld>
  <p:transition spd="med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nXp</cp:lastModifiedBy>
  <dcterms:modified xsi:type="dcterms:W3CDTF">2005-09-03T03:28:04Z</dcterms:modified>
  <cp:revision>48</cp:revision>
  <dc:subject/>
  <dc:title>PowerPoint Presentation</dc:title>
</cp:coreProperties>
</file>