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EXPLODE.WAV" ContentType="audio/x-wav"/>
  <Override PartName="/ppt/media/image11.wmf" ContentType="image/x-wmf"/>
  <Override PartName="/ppt/media/image3.png" ContentType="image/png"/>
  <Override PartName="/ppt/media/image20.png" ContentType="image/png"/>
  <Override PartName="/ppt/media/image2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3.wmf" ContentType="image/x-wmf"/>
  <Override PartName="/ppt/media/DRUMROLL.WAV" ContentType="audio/x-wav"/>
  <Override PartName="/ppt/media/image6.wmf" ContentType="image/x-wmf"/>
  <Override PartName="/ppt/media/image1.png" ContentType="image/png"/>
  <Override PartName="/ppt/media/CHIMES.WAV" ContentType="audio/x-wav"/>
  <Override PartName="/ppt/media/image1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10B0-41D4-43A7-B379-C6C2640D2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9D52-9CA2-48DC-B7EC-1ECDDC75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3FDB-8286-4D13-9820-F496D5814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4BD9-4156-401E-81A0-4469CEDE6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E4C5-C664-415D-9AAF-897E6A628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EEE9C-64A4-4A50-BF5D-B2862C8A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95FE-6B1F-4CC7-AC2F-4D029EC2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5E27-7F35-4E33-97E2-00E13982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F642-DCF2-45E7-B38D-733302AA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B61D3-F710-4D1C-A7C9-08436550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18412-44CB-419A-B41A-C76B88AA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4E6D-ED6E-4478-90CC-8A0ABE7B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74126-BC88-4937-A631-A321BC68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4D0F-EF35-4EC6-B76C-321EAD6C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F1E9-5ED8-4DAA-A654-F7E42018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D6B3-1C43-43FA-A13B-748DA84DE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4B4B-138C-4013-B7D5-59C6B5A86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918A-D3FC-47F7-B34E-0A1F46FF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47CA-5AAA-41DE-BFF5-D680DB24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2D05-19C0-41AD-B64F-6975B859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3AC9-ED69-4FC7-B3A9-EE712172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61CC-BCBA-43FB-B76C-366E6965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9355-70AF-47F2-A431-BD51AEAC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1CE7-292B-4088-8067-39A63EF5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68A9-46D1-443E-9CDB-5796B25EC32E}" type="datetime">
              <a:rPr b="0" lang="en-US" sz="1400" spc="-1" strike="noStrike">
                <a:solidFill>
                  <a:srgbClr val="ebd189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68A3-B7A5-48CB-921C-5ED1ECA03F4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8A55-F437-449B-A588-4D0327EDBFE2}" type="datetime">
              <a:rPr b="0" lang="en-US" sz="1400" spc="-1" strike="noStrike">
                <a:solidFill>
                  <a:srgbClr val="ebd189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1A63-0B95-4837-9515-0F4D1BEA4AE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8.wmf"/><Relationship Id="rId1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audio" Target="../media/EXPLODE.WAV"/><Relationship Id="rId12" Type="http://schemas.openxmlformats.org/officeDocument/2006/relationships/audio" Target="../media/DRUMROLL.WAV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APLIKASI 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TEKNOLOGI INFORMASI DAN KOMUNIKASI 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dalam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DUNIA PENDIDIKAN TINGGI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2120" y="39621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oleh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 S. Sadj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@unhas.ac.i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http://www.unhas.ac.id/~rhiza/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2514600"/>
            <a:ext cx="792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BERBAGAI CONTOH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03C69-2E90-408D-9FD8-3F8D25A2903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A99598F-C833-4DB9-B0E0-FCB6082A97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42184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COMPUT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905120" y="1219320"/>
            <a:ext cx="2628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uter .......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419720" y="914400"/>
            <a:ext cx="380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7086600" y="990720"/>
          <a:ext cx="1550880" cy="14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990720"/>
                    <a:ext cx="155088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5638680" y="1447920"/>
          <a:ext cx="123840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1447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7086600" y="4572000"/>
          <a:ext cx="1736640" cy="1887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86600" y="4572000"/>
                    <a:ext cx="173664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648320" y="4191120"/>
          <a:ext cx="1538280" cy="2190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48320" y="4191120"/>
                    <a:ext cx="1538280" cy="21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0" y="5102280"/>
          <a:ext cx="2209680" cy="157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5102280"/>
                    <a:ext cx="220968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590920" y="4876920"/>
          <a:ext cx="1884240" cy="97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90920" y="4876920"/>
                    <a:ext cx="18842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92160" y="2590560"/>
            <a:ext cx="9236160" cy="29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...... as a teaching tool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...... for HIGHER EDUCATION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...... why ???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B527D3-A7AC-41D0-9E8F-416D00308C45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560" y="121932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ebd189"/>
                </a:solidFill>
                <a:uFillTx/>
                <a:latin typeface="Arial"/>
              </a:rPr>
              <a:t>Available Options: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327672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omputer sebagai alat bantu ANALISIS dan DESAIN (iterasi, simulasi, praktikum, dll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omputer sebagai alat bantu proses pembelajaran (presentasi, animasi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udio-visual aid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dll. --------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MULTIMEDIA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838080"/>
            <a:ext cx="3810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Aided Engineering ...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6019920" y="380880"/>
          <a:ext cx="2590560" cy="243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380880"/>
                    <a:ext cx="2590560" cy="24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718F08-E8F4-49FF-8DC0-98046D9FB9B9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toh-contoh aplikasi dalam proses pembelajaran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 memanfaatkan paket perangkat lunak “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generik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”, seperti Microsoft Office: Word, Excell, Power Poi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Level 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 memanfaatkan paket perangkat lunak khusus untuk pemodelan, analisis, animasi, seperti MATLAB, SPICE, Macromedia, d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Level 3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 pembelajaran menggunakan jaringan komputer dan Internet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distant learning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web-based interactiv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dsb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F6DD-0DA5-4FB0-B5AA-E0C6E97CA18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47CEC4-D1D9-4356-82C8-793F71A33F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158E8-6DD4-454D-A2D9-492F17E621F3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7AD9166-1DFF-4E1C-ADF8-7E9DDD372430}" type="datetime1">
              <a:rPr lang="en-US"/>
              <a:t>07/29/26</a:t>
            </a:fld>
          </a:p>
        </p:txBody>
      </p:sp>
    </p:spTree>
  </p:cSld>
  <p:transition spd="slow" advTm="31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APLIKASI dalam </a:t>
            </a:r>
            <a:br>
              <a:rPr sz="36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SISTEM PENDIDIKAN TINGG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dministrasi Pendidika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urat-menyur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gistras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jadwalan Kulia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g-arsip-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ilai dan Transkri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l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28840" y="167616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ses Pembelajar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yusunan materi ajar, penelusu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at bantu proses pembelaja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at bantu penelitian dan pengabdian pada masyarak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modelan/Simulas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l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4352760"/>
            <a:ext cx="2330280" cy="2505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07B6-99B9-4425-9581-F5FD90BDFF9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2B3978-FD5B-49A8-B625-06311AC3FB2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29528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plikasi Administrasi Pendidik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8080" y="20574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Level 1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: memanfaatkan paket perangkat lunak “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generik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”, seperti Microsoft Office: Word, Excell, misalnya untuk daftar nila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Level 2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: memanfaatkan paket perangkat lunak khusus untuk Sistem Informasi Manajemen (SIM) yang dirancang khusus untuk sistem pengelolaan administrasi pendidikan, dijalankan pada komputer “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stand-alone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Level 3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: sistem informasi berbasis jaringan komputer, contohnya di Universitas Indonesia: bisa di-klik di alamat URL: http://akademik.ui.ac.id/ atau http://www.ui.ac.id/  lalu cari “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SIAK on-line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3FB9-3563-4AAA-A2A3-CC48DB253CD5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A18D72-B052-487D-9E26-5B0706F39DC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toh SIAK ONLINE U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6340320" cy="4754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9CD6-FD6D-496B-8559-1455D7A22FEE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4558F9-B7EE-4847-9B59-7DFFC4517BB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66720" y="1828440"/>
            <a:ext cx="84772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eaching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is ..............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8080" y="243792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............……....about providing ……opportunities for students ………………………...to learn</a:t>
            </a:r>
            <a:r>
              <a:rPr b="0" lang="en-US" sz="6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943600" y="6019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(TIW Batch 10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51814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Jones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, ed. . [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2000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], “</a:t>
            </a:r>
            <a:r>
              <a:rPr b="0" lang="en-US" sz="2000" spc="-1" strike="noStrike" u="sng">
                <a:solidFill>
                  <a:srgbClr val="eaeaea"/>
                </a:solidFill>
                <a:uFillTx/>
                <a:latin typeface="Times New Roman"/>
              </a:rPr>
              <a:t>CURRICULUM DEVELOPMENT, S1 Engineering Programs in Indonesi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”, page 2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304920"/>
            <a:ext cx="7925040" cy="143460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plikasi dalam proses Pembelajara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4F12A1F-D507-41A7-B605-203283C43794}" type="datetime1">
              <a:rPr lang="en-US"/>
              <a:t>07/29/26</a:t>
            </a:fld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52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ses Pembelajar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1752480"/>
            <a:ext cx="73915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2 (dua) kategori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proses pembelajaran di kelas (</a:t>
            </a:r>
            <a:r>
              <a:rPr b="1" i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classroom courses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) melalui tatap-muka yang dijadwalkan secara reguler dalam semester-semes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non-kelas (</a:t>
            </a:r>
            <a:r>
              <a:rPr b="1" i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non-classroom courses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), yang tidak terjadwal secara reguler, misalnya matakuliah Seminar, Kerja Praktek, Praktikum, Skripsi, Praktek Lapang, Kuliah Kerja Nyata, dan lain-lain. 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590920" cy="184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68FD-A40C-4849-9D36-C5C57FF59579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990984-EB1F-42ED-9569-F0B011D3D430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421480" cy="6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eaching Formats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(examples)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195440" y="1828440"/>
            <a:ext cx="49482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STER-APPRENTI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Y CIRCLE (TUTOR-NOVIC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ALK and CHAL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EE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RILL (PRACTICE, TEST, EXAM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40068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3E1FF5-DB4C-401C-9871-9DA664D1F83D}" type="datetime1">
              <a:rPr lang="en-US"/>
              <a:t>07/29/26</a:t>
            </a:fld>
          </a:p>
        </p:txBody>
      </p:sp>
    </p:spTree>
  </p:cSld>
  <p:transition spd="slow">
    <p:wipe dir="r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533520"/>
            <a:ext cx="45720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eaching is a </a:t>
            </a: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SKILL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!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5410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al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xperi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y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chniq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thodolog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a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o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............et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ids ...............TECHNOLOG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724280" y="1828800"/>
            <a:ext cx="3733920" cy="3733920"/>
            <a:chOff x="4724280" y="1828800"/>
            <a:chExt cx="3733920" cy="3733920"/>
          </a:xfrm>
        </p:grpSpPr>
        <p:sp>
          <p:nvSpPr>
            <p:cNvPr id="127" name=""/>
            <p:cNvSpPr/>
            <p:nvPr/>
          </p:nvSpPr>
          <p:spPr>
            <a:xfrm>
              <a:off x="4724280" y="1828800"/>
              <a:ext cx="3733920" cy="3733920"/>
            </a:xfrm>
            <a:prstGeom prst="ellipse">
              <a:avLst/>
            </a:pr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952880" y="3200400"/>
              <a:ext cx="3276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eaeaea"/>
                  </a:solidFill>
                  <a:latin typeface="Times New Roman"/>
                </a:rPr>
                <a:t>EDUCATIONAL TECHNOLOGY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309840" y="1828800"/>
            <a:ext cx="2479680" cy="2666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33720" cy="176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8E8B04-E987-4CB7-B2D0-64AC57A1AB99}" type="datetime1">
              <a:rPr lang="en-US"/>
              <a:t>07/29/26</a:t>
            </a:fld>
          </a:p>
        </p:txBody>
      </p:sp>
    </p:spTree>
  </p:cSld>
  <p:transition spd="slow">
    <p:wipe dir="r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301840" y="1679400"/>
            <a:ext cx="4540320" cy="34974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2160" y="2057400"/>
            <a:ext cx="8421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c1c1c"/>
                </a:solidFill>
                <a:latin typeface="Arial"/>
              </a:rPr>
              <a:t>Today’s Situation</a:t>
            </a:r>
            <a:endParaRPr b="0" lang="en-US" sz="6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383160" y="304920"/>
          <a:ext cx="2760840" cy="187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83160" y="304920"/>
                    <a:ext cx="276084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57200" y="4114800"/>
          <a:ext cx="2286000" cy="2281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4114800"/>
                    <a:ext cx="2286000" cy="22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57200" y="304920"/>
          <a:ext cx="4724280" cy="1501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" y="304920"/>
                    <a:ext cx="4724280" cy="15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6272280" y="3886200"/>
            <a:ext cx="1965240" cy="24303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3022560" y="2133720"/>
            <a:ext cx="4292640" cy="155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oday's Situa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666880" y="57909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ll kinds of HI-TECH stuffs ....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D2F648-B00B-42B6-A998-C7CAD9E49613}" type="datetime1">
              <a:rPr lang="en-US"/>
              <a:t>07/29/26</a:t>
            </a:fld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Xp</cp:lastModifiedBy>
  <dcterms:modified xsi:type="dcterms:W3CDTF">2005-09-03T03:28:04Z</dcterms:modified>
  <cp:revision>48</cp:revision>
  <dc:subject/>
  <dc:title>PowerPoint Presentation</dc:title>
</cp:coreProperties>
</file>