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EXPLODE.WAV" ContentType="audio/x-wav"/>
  <Override PartName="/ppt/media/image11.wmf" ContentType="image/x-wmf"/>
  <Override PartName="/ppt/media/image3.png" ContentType="image/png"/>
  <Override PartName="/ppt/media/image20.png" ContentType="image/png"/>
  <Override PartName="/ppt/media/image2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DRUMROLL.WAV" ContentType="audio/x-wav"/>
  <Override PartName="/ppt/media/image6.wmf" ContentType="image/x-wmf"/>
  <Override PartName="/ppt/media/image1.png" ContentType="image/png"/>
  <Override PartName="/ppt/media/CHIMES.WAV" ContentType="audio/x-wav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707D-179D-426C-9488-1567CA61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B69A-0DFD-4782-8C68-9FB9894A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181D-2007-44F0-89D1-4E51F489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0FDC-67BA-426D-AC9B-AA1C9BD7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4002-6385-487D-B1F1-1F492A361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C7D3-D260-45B6-9FB1-0E5466FA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501C-810C-45A6-8921-DDB017D4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E42D-4DE3-4046-9C7E-71E8A6CA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D276-FF44-4BC7-B624-F4659706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DD12-EEA1-44B7-9148-0084EE09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0FF4-588B-4669-861A-DE4A786E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8BFF-6CAF-4D5F-8466-B877DE4E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0010-05C3-4CE2-BECD-DD60204A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8787-D94C-4B91-A77A-CCDD42E0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A187-5F70-434C-996E-4E425AB0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8E13-E4DD-4B8B-945A-74C0827B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D7EC-431B-426A-AA10-6F79AE3E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D051-8C3F-4A41-B940-C9F595E1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6A79-6270-40C2-B3DF-9E9F299C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AC8D-47EC-4DB8-9054-F3FF3844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D3D0-47FC-4B09-A6C0-40B4A937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7887-C023-4C90-A14A-51756A2B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051-1474-4BA1-99E1-90F273D7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EA02-D010-4F9B-A53D-F5AE32D4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5F12-AD64-4B71-80E8-6E0406D70CB7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2036-107F-4677-9CB2-5365C621F83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4458-02D4-425D-81FE-7F65025D48B2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FEC3-5456-4BE1-92A1-046D5CBE457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audio" Target="../media/EXPLODE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APL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TEKNOLOGI INFORMASI DAN KOMUN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alam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UNIA PENDIDIKAN TINGGI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51460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BERBAGAI CONTO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EDBD-AD67-4CFA-A50D-D141BDC5B2D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E020BE2-CBF0-42B1-97B1-280538686A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7086600" y="4572000"/>
          <a:ext cx="1736640" cy="188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457200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648320" y="4191120"/>
          <a:ext cx="1538280" cy="21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4191120"/>
                    <a:ext cx="153828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590920" y="4876920"/>
          <a:ext cx="188424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487692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92160" y="259056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as a teaching tool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for HIGHER EDUCATION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why ??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24E79-3C80-45BC-9683-135F6AFD6CD6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bd189"/>
                </a:solidFill>
                <a:uFillTx/>
                <a:latin typeface="Arial"/>
              </a:rPr>
              <a:t>Available Options: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ANALISIS dan DESAIN (iterasi, simulasi, praktikum, dll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proses pembelajaran (presentasi, animasi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udio-visual aid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ll. --------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ULTIMEDI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838080"/>
            <a:ext cx="3810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Aided Engineering ...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019920" y="380880"/>
          <a:ext cx="2590560" cy="24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80880"/>
                    <a:ext cx="259056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CF94A4-ABE2-4D01-BD11-B2CBF2D16F83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toh-contoh aplikasi dalam proses pembelajaran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“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generik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, seperti Microsoft Office: Word, Excell, Power Poi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khusus untuk pemodelan, analisis, animasi, seperti MATLAB, SPICE, Macromedia, d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3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pembelajaran menggunakan jaringan komputer dan Internet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distant learn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web-based interactiv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sb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CD83-3D94-42E8-B03B-082CE5EEF36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4AB17-4545-48C8-B2CF-4EA172F690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34C1-1391-4C4A-9740-6BE059C2E2B8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A2B643E-B4A2-4D77-B477-A52D2B2524B7}" type="datetime1">
              <a:rPr lang="en-US"/>
              <a:t>07/29/26</a:t>
            </a:fld>
          </a:p>
        </p:txBody>
      </p:sp>
    </p:spTree>
  </p:cSld>
  <p:transition spd="slow" advTm="31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PLIKASI dalam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SISTEM PENDIDIKAN TINGG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si Pendidika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at-menyur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adwalan Kulia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g-arsip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lai dan Transkr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ses Pembelaj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yusunan materi ajar, penelusu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roses pembelaj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enelitian dan pengabdian pada masyarak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odelan/Simula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4352760"/>
            <a:ext cx="2330280" cy="2505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15FE-1BF1-494C-A8CC-F8BB73AF602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8F16F-47E3-49EA-85ED-8A378C9A1B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29528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likasi Administrasi Pendidik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2057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1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memanfaatkan paket perangkat lunak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generik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, seperti Microsoft Office: Word, Excell, misalnya untuk daftar nila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2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memanfaatkan paket perangkat lunak khusus untuk Sistem Informasi Manajemen (SIM) yang dirancang khusus untuk sistem pengelolaan administrasi pendidikan, dijalankan pada komputer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tand-alon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3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sistem informasi berbasis jaringan komputer, contohnya di Universitas Indonesia: bisa di-klik di alamat URL: http://akademik.ui.ac.id/ atau http://www.ui.ac.id/  lalu cari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IAK on-lin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8492-D5E3-4897-AD9F-56514B67026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7867E-7060-4F3C-8F79-324DE292E5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toh SIAK ONLINE U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6340320" cy="475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7390-95CA-4583-9492-26F67360C02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6B9F3-BD78-407C-A3A4-59EA6883F8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6720" y="1828440"/>
            <a:ext cx="8477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is .............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............……....about providing ……opportunities for students ………………………...to learn</a:t>
            </a:r>
            <a:r>
              <a:rPr b="0" lang="en-US" sz="6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6019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(TIW Batch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51814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Jone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ed. . [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2000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], “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Times New Roman"/>
              </a:rPr>
              <a:t>CURRICULUM DEVELOPMENT, S1 Engineering Programs in Indonesi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”, page 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04920"/>
            <a:ext cx="7925040" cy="14346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likasi dalam proses Pembelajara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BE8E5A1-40A4-4201-90DA-F3E987F8A94F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ses Pembelajar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752480"/>
            <a:ext cx="73915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2 (dua) kategor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proses pembelajaran di 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) melalui tatap-muka yang dijadwalkan secara reguler dalam semester-seme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), yang tidak terjadwal secara reguler, misalnya matakuliah Seminar, Kerja Praktek, Praktikum, Skripsi, Praktek Lapang, Kuliah Kerja Nyata, dan lain-lain.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590920" cy="184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E734-F294-4620-B699-CE58389A109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43396-4F96-4B7A-8F6E-5DCB9F5C6981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2148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 Formats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(examples)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195440" y="1828440"/>
            <a:ext cx="494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STER-APPRENT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Y CIRCLE (TUTOR-NOVIC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K and CHAL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EE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RILL (PRACTICE, TEST, EXA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96537-1874-4143-A9CF-0B3C9B88C9F6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45720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aching is a </a:t>
            </a: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SKILL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!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per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y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chniq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a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............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ids ...............TECHN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24280" y="1828800"/>
            <a:ext cx="3733920" cy="3733920"/>
            <a:chOff x="4724280" y="1828800"/>
            <a:chExt cx="3733920" cy="3733920"/>
          </a:xfrm>
        </p:grpSpPr>
        <p:sp>
          <p:nvSpPr>
            <p:cNvPr id="127" name=""/>
            <p:cNvSpPr/>
            <p:nvPr/>
          </p:nvSpPr>
          <p:spPr>
            <a:xfrm>
              <a:off x="4724280" y="1828800"/>
              <a:ext cx="3733920" cy="373392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52880" y="3200400"/>
              <a:ext cx="32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EDUCATIONAL TECHNOLOGY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309840" y="1828800"/>
            <a:ext cx="2479680" cy="2666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76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0B9AE-5749-4121-986C-E3560DADF6C0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01840" y="1679400"/>
            <a:ext cx="4540320" cy="34974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2057400"/>
            <a:ext cx="8421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Arial"/>
              </a:rPr>
              <a:t>Today’s Situation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383160" y="304920"/>
          <a:ext cx="276084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3160" y="304920"/>
                    <a:ext cx="27608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57200" y="4114800"/>
          <a:ext cx="2286000" cy="228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14800"/>
                    <a:ext cx="228600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57200" y="304920"/>
          <a:ext cx="4724280" cy="150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304920"/>
                    <a:ext cx="472428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272280" y="3886200"/>
            <a:ext cx="1965240" cy="2430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022560" y="2133720"/>
            <a:ext cx="4292640" cy="15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oday's Situ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6880" y="5790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ll kinds of HI-TECH stuffs ....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395A8-6D3B-4636-BE7D-EA43F1CB85B4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Xp</cp:lastModifiedBy>
  <dcterms:modified xsi:type="dcterms:W3CDTF">2005-09-03T03:28:04Z</dcterms:modified>
  <cp:revision>48</cp:revision>
  <dc:subject/>
  <dc:title>PowerPoint Presentation</dc:title>
</cp:coreProperties>
</file>