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EXPLODE.WAV" ContentType="audio/x-wav"/>
  <Override PartName="/ppt/media/image11.wmf" ContentType="image/x-wmf"/>
  <Override PartName="/ppt/media/image3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DRUMROLL.WAV" ContentType="audio/x-wav"/>
  <Override PartName="/ppt/media/image6.wmf" ContentType="image/x-wmf"/>
  <Override PartName="/ppt/media/image1.png" ContentType="image/png"/>
  <Override PartName="/ppt/media/CHIMES.WAV" ContentType="audio/x-wav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AEE9-696E-4937-8EAA-B372E302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CEA2-B68A-4EF2-8B72-D531DCC3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4008-EF97-4F70-83D8-29309A20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B672-4503-4A77-9C95-7A713B7C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89E0-4A9D-4594-A4FA-3CE59817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148F-92FD-430F-B913-698AD256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2512-1F12-4926-9F57-55AC67EC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341A-7300-4FF9-9041-1C7CBE76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7222-03A8-479B-ACE8-E5B1147D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4E09-6645-49DF-9B5F-5D65C61D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BAD0-8E1F-4EC3-880C-37D272C4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6D60-549F-4E1E-A20E-38B4E5E7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A05C-9A88-4E72-A98E-F61A82A0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BF12-DC3E-4122-83F0-68C1944D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1963-95AF-47D9-BE6A-8C21C751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6D5C-0E36-4F83-838D-B8E3378B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39D7-1B3F-454D-9DBA-487943E3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6883-A295-4A24-A223-1BCB4CDF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ABA3-31C5-44E4-B310-FA6038E4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2F02-72C5-4F9B-B6E2-FCFFDEED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463D-BA10-49B0-9CC3-B961071D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3036-B971-41F3-BE81-8ADA7398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06D6-D166-4166-BC55-602C5B31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E61-C378-4113-96ED-2651D0E4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E14C-55BA-41C6-95F2-F81287D0CBAD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557A-D72F-4E6B-9AC9-DC60CF4A9DA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C69C-10C9-45ED-AEFD-B59A1BCECDDB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7885-EA4D-47A3-B8D6-C36B952F505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audio" Target="../media/EXPLODE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5146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BERBAGAI CONTO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7DEE-6E4A-452C-94DA-BC01E161233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F46712B-7F2F-4BE0-9B41-E2953E0E3B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7086600" y="4572000"/>
          <a:ext cx="1736640" cy="18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457200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648320" y="4191120"/>
          <a:ext cx="1538280" cy="21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4191120"/>
                    <a:ext cx="15382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590920" y="4876920"/>
          <a:ext cx="188424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487692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92160" y="259056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as a teaching tool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for HIGHER EDUCATIO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why ??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B2426-2AB6-4E40-B29F-DDA3D7D651BD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bd189"/>
                </a:solidFill>
                <a:uFillTx/>
                <a:latin typeface="Arial"/>
              </a:rPr>
              <a:t>Available Options: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ANALISIS dan DESAIN (iterasi, simulasi, praktikum, dll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proses pembelajaran (presentasi, animasi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udio-visual aid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ll. --------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ULTIMEDI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838080"/>
            <a:ext cx="381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Aided Engineering ...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019920" y="380880"/>
          <a:ext cx="259056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80880"/>
                    <a:ext cx="2590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AB17E-0405-47A8-BE18-F3F81600C33A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-contoh aplikasi dalam proses pembelajaran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“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generik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, seperti Microsoft Office: Word, Excell, Power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khusus untuk pemodelan, analisis, animasi, seperti MATLAB, SPICE, Macromedia, d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3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pembelajaran menggunakan jaringan komputer dan Internet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istant learn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web-based interactiv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sb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3954-7C59-4A7F-95A1-F33B5EBABB0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8A904-2503-40A8-81C8-8D36846CF6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F49B-C3E5-4F26-8249-6F770B33169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FAA1BAF-5092-44FD-AAB7-3926A8D6324A}" type="datetime1">
              <a:rPr lang="en-US"/>
              <a:t>07/29/26</a:t>
            </a:fld>
          </a:p>
        </p:txBody>
      </p:sp>
    </p:spTree>
  </p:cSld>
  <p:transition spd="slow" advTm="3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SISTEM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4352760"/>
            <a:ext cx="2330280" cy="2505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613-5D08-41F6-9D93-789065FFAA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82E74-771B-4789-8631-BDA6E626CC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29528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Administrasi Pendidik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057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1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generik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, seperti Microsoft Office: Word, Excell, misalnya untuk daftar nila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2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khusus untuk Sistem Informasi Manajemen (SIM) yang dirancang khusus untuk sistem pengelolaan administrasi pendidikan, dijalankan pada komputer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tand-alo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3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sistem informasi berbasis jaringan komputer, contohnya di Universitas Indonesia: bisa di-klik di alamat URL: http://akademik.ui.ac.id/ atau http://www.ui.ac.id/  lalu cari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IAK on-li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09A2-040A-4039-87AB-AF861610A3E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256E7-E813-4F33-8FCA-9B5DB3945E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 SIAK ONLINE U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6340320" cy="475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656F-1FE2-40C8-B56A-74D075DF30E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FA032-6F49-4140-A310-43EB88FD40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6720" y="1828440"/>
            <a:ext cx="8477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is .............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............……....about providing ……opportunities for students ………………………...to learn</a:t>
            </a:r>
            <a:r>
              <a:rPr b="0" lang="en-US" sz="6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6019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(TIW Batch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51814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04920"/>
            <a:ext cx="7925040" cy="14346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dalam proses Pembelajara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6F5E2DD-7C5B-44CB-821D-1C4A3A52A923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ses Pembelajar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752480"/>
            <a:ext cx="73915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2 (dua) kategor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proses pembelajaran di 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) melalui tatap-muka yang dijadwalkan secara reguler dalam semester-sem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), yang tidak terjadwal secara reguler, misalnya matakuliah Seminar, Kerja Praktek, Praktikum, Skripsi, Praktek Lapang, Kuliah Kerja Nyata, dan lain-lain.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184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9D0B-0119-4E94-B739-A15B8D14136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7D843-DFED-4886-A38A-4E67AA14F416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 Formats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(examples)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TER-APPRENT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Y CIRCLE (TUTOR-NOVIC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K and CHAL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EE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ILL (PRACTICE, TEST, EXA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F8EEC-3065-4308-AE86-07961C987431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aching is a </a:t>
            </a: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SKIL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per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y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............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ids ...............TECHN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27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309840" y="182880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7982E-2E0E-4D45-B2D6-2C225B57FBC7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01840" y="1679400"/>
            <a:ext cx="4540320" cy="34974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205740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Arial"/>
              </a:rPr>
              <a:t>Today’s Situation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383160" y="304920"/>
          <a:ext cx="27608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3160" y="304920"/>
                    <a:ext cx="2760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57200" y="4114800"/>
          <a:ext cx="2286000" cy="228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1480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57200" y="304920"/>
          <a:ext cx="4724280" cy="15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920"/>
                    <a:ext cx="47242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272280" y="3886200"/>
            <a:ext cx="1965240" cy="243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022560" y="2133720"/>
            <a:ext cx="429264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oday's Situ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6880" y="5790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ll kinds of HI-TECH stuffs ....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2502D-C9CD-447F-8F5B-E57808D791F0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Xp</cp:lastModifiedBy>
  <dcterms:modified xsi:type="dcterms:W3CDTF">2005-09-03T03:28:04Z</dcterms:modified>
  <cp:revision>48</cp:revision>
  <dc:subject/>
  <dc:title>PowerPoint Presentation</dc:title>
</cp:coreProperties>
</file>