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1.png" ContentType="image/png"/>
  <Override PartName="/ppt/media/image9.jpeg" ContentType="image/jpeg"/>
  <Override PartName="/ppt/media/image23.wmf" ContentType="image/x-wmf"/>
  <Override PartName="/ppt/media/image20.wmf" ContentType="image/x-wmf"/>
  <Override PartName="/ppt/media/image18.wmf" ContentType="image/x-wmf"/>
  <Override PartName="/ppt/media/CHIMES.WAV" ContentType="audio/x-wav"/>
  <Override PartName="/ppt/media/image5.jpeg" ContentType="image/jpeg"/>
  <Override PartName="/ppt/media/image25.wmf" ContentType="image/x-wmf"/>
  <Override PartName="/ppt/media/image2.wmf" ContentType="image/x-wmf"/>
  <Override PartName="/ppt/media/image26.wmf" ContentType="image/x-wmf"/>
  <Override PartName="/ppt/media/RICOCHET.WAV" ContentType="audio/x-wav"/>
  <Override PartName="/ppt/media/image3.wmf" ContentType="image/x-wmf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27.wmf" ContentType="image/x-wmf"/>
  <Override PartName="/ppt/media/image4.wmf" ContentType="image/x-wmf"/>
  <Override PartName="/ppt/media/image13.wmf" ContentType="image/x-wmf"/>
  <Override PartName="/ppt/media/EXPLODE.WAV" ContentType="audio/x-wav"/>
  <Override PartName="/ppt/media/applause.wav" ContentType="audio/x-wav"/>
  <Override PartName="/ppt/media/image1.png" ContentType="image/png"/>
  <Override PartName="/ppt/media/WHOOSH.WAV" ContentType="audio/x-wav"/>
  <Override PartName="/ppt/media/image16.wmf" ContentType="image/x-wmf"/>
  <Override PartName="/ppt/media/image15.wmf" ContentType="image/x-wmf"/>
  <Override PartName="/ppt/media/image14.jpeg" ContentType="image/jpeg"/>
  <Override PartName="/ppt/media/CAMERA.WAV" ContentType="audio/x-wav"/>
  <Override PartName="/ppt/media/image24.wmf" ContentType="image/x-wmf"/>
  <Override PartName="/ppt/media/image12.wmf" ContentType="image/x-wmf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BEC-0CA0-473B-A800-FFACA14F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73A-0207-4A71-BB8F-EC227CD4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9E0-5896-4915-9505-94E7C53B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E57-2685-4275-80E9-192E71E5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2702-AC00-4E15-B07D-72A56E60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A49D-40D9-46F7-BD2A-05B31865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ED05-1E93-4354-B7AC-0EEF645A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5857-B725-4857-8D6E-90946FB0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7973-9523-4904-B678-9CEF437C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DF07-17E5-49C0-BD76-3422D821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64D9-F421-4D72-B152-8DB390AC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3C5-95F8-43BD-8837-EE67285A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568E-1F96-4C7D-87DD-1A3B5E7E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198A-19C5-4768-842C-8CFE980A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1FA0-DC29-4FAB-B18E-FC411CB5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F1F5-E805-45BA-8415-6D2FA7BD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2372-8BAC-4EBD-970D-DB3600D0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161-0411-45E9-8626-C305FD16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744-D8DB-48D1-8289-407F3CF9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076-8FAB-42DE-ACB8-CA261B40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478D-C849-49A2-90F7-4DB4012A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209E-1D09-4B4A-813A-CF315451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ECA-5742-4367-A4AB-26B99B14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BB2-FC5D-4329-8A09-5424A6EA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ABEB-274B-4499-BF8C-4112DCB558CB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93B0-F108-4924-BA93-A126E049A7C5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0C7B-609C-474D-8926-CD2EF452600D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1BD9-B60F-4F96-836C-4FFBE513AAD3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1337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ATAR BELAKANG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AN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OTIVASI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D937-BDDC-416A-A262-8C5FA0AEBFA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3B741BA-E647-42EC-8976-D7B5DC719F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562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dosen dan peneliti, ……………pegawai administrasi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14811-5F99-48AB-AFF7-372B8FA20E17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84A-37DA-4B9A-A45D-DEFAD6010F8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1C421-6BE1-4705-B69F-6222CCDCE0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paket software untuk administrasi dan simul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BE1-34C6-4746-AE5F-ADC20FF2DF1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C4B2A-8622-4986-9539-E490864E3E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E7D-C658-45C9-8299-E02E16FE9CC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4EEF7-13C7-4A06-86F7-3135E32A7A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UNIA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447-A731-48E7-8403-9CEEEF24458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88362-EC7C-4B7A-9EB0-7BBD8341D0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2 (DUA) “</a:t>
            </a: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CURRENT ISSUES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” TEKNOLOGI INFORMASI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alah Hak Cipta (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opyright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dan Pembajak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alur Hukum dan Non-Hukum: VI RUS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rakan mendukung 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open-sour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” 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grasi yang semakin jauh dengan sistem telekomunikasi selu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PYRIGH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676520" y="5810400"/>
            <a:ext cx="261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PYRIGH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86400" y="5486400"/>
            <a:ext cx="2219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IRELE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E9BA-B143-41CC-8052-0FB64B68987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DE59F-4B03-4C14-8CEA-9898BFB545CE}" type="datetime1">
              <a:rPr lang="en-US"/>
              <a:t>07/29/26</a:t>
            </a:fld>
          </a:p>
        </p:txBody>
      </p:sp>
    </p:spTree>
  </p:cSld>
  <p:transition spd="slow" advTm="89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D23E-9BC8-4CA3-909F-BBBE085A99A6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D96E1B0-64A1-4E0C-A3E9-67E28486F1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C598-947F-4C77-AA36-37F230B08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D450-8662-47A0-83D9-BBA7FF311CC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352-5339-4490-A4D7-6E8ED6B359A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436F0-B8CF-4404-A14E-477EE5C4E90F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F5C-E695-45B1-833B-FCE24134097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713A0-E4D2-4486-8C07-ADA36C685E94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00A-6295-4833-A144-E104291AC67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11102-CB80-443B-988D-CAF6AAC0B7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65C-AA6D-42EB-8653-36C200EB98D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B5F38-86DF-4E43-A8A3-27491CC09ABD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009-8CF4-4C53-8576-E0300140E211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935FA-BA13-4692-B2B3-62B6179432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E03-B0EA-451E-8B5E-D98CBC0D3E2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72D24-F2E6-4B07-8134-D6B5B299D9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9-02T13:17:03Z</dcterms:modified>
  <cp:revision>98</cp:revision>
  <dc:subject/>
  <dc:title>PowerPoint Presentation</dc:title>
</cp:coreProperties>
</file>