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322-3F7D-49E3-BDBD-4F4D53E9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130-D27B-4FFB-B901-5A452A2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E85-3F91-499A-A5A2-9975DE77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F7F-D403-421B-8FEA-8FA850A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F1D-94C2-4E57-8515-5AE5E234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4A3-B5CE-48AC-8B59-3ADBECE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949C-FF40-468C-9B88-8C7E4FB0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715-34C2-478B-978C-53D4761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2FE-AFBD-4BAF-B5BE-A925233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8DD-A5D0-41CA-A7D0-B46D252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17BC-3F9A-44F5-B741-5777D96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C2-C234-4E91-A8F5-95B6ED8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E05B-EF8D-4F08-B061-5F1911C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662D-A916-4541-B095-912CDAA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6934-E1F1-429C-9B53-DBB0EB84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D50-0563-4970-9597-AEB00BE8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89E-AFB1-47CE-85F2-88523B79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248-0A1D-44FE-B52A-21F4AE2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782-BA00-4728-818D-D60920D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051-B697-400F-BC87-E497288B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1AF-AAA5-4276-BB0A-C99EDB9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DC4-AA74-46C1-AF18-9527F8B5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93D-746C-43C7-84E7-7E6F861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80C-C9D5-4A80-BB93-51126D2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0170-ABA2-4344-9ED6-8C8A9336A8E4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957C-6C70-4580-8505-4E3464B2DC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19F-83A6-4076-927F-6F80F50EC548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C06D-6072-4F57-9406-9E22DBF91C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62A8-4C20-4936-8AD6-8B981DA007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F3FCC1F-4F83-4861-A309-C2C460510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22FAA-F6B3-4404-A78D-2DCC601C1D5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51F-53DD-49C0-90AD-234D56F0D7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CE5BE-7AEB-4EBC-8928-427725BDC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EADA-8791-497D-97E0-6AF6AAAB26C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D4AC53-7415-42FB-AA08-55295B425CF9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bd05515_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DE7-8FDC-47A4-86C4-BDB9892E73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3659D-ABAC-4CD9-BB04-AD36179A1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a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F9A-C66E-4F59-8DD3-5C69BADE349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A2977-A7A6-46F6-B0BD-AA99FF526F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8FD739-790D-4C64-BF94-ACE8F66A9F40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B35-13E0-4CB9-BD88-B44E16395E4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4E5B4-8E8A-47A4-9911-E22E715403D3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424EE-507E-424D-9228-37A413C60576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1A38C-C314-4E78-B646-280A141EB75C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10924-8778-4E90-BF28-319A67F6E96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1687A-1B6F-43AB-8864-CE48E9667F6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4:12:05Z</dcterms:modified>
  <cp:revision>46</cp:revision>
  <dc:subject/>
  <dc:title>PowerPoint Presentation</dc:title>
</cp:coreProperties>
</file>