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5.jpeg" ContentType="image/jpeg"/>
  <Override PartName="/ppt/media/image25.wmf" ContentType="image/x-wmf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7.wmf" ContentType="image/x-wmf"/>
  <Override PartName="/ppt/media/image4.wmf" ContentType="image/x-wmf"/>
  <Override PartName="/ppt/media/image13.wmf" ContentType="image/x-wmf"/>
  <Override PartName="/ppt/media/EXPLODE.WAV" ContentType="audio/x-wav"/>
  <Override PartName="/ppt/media/applause.wav" ContentType="audio/x-wav"/>
  <Override PartName="/ppt/media/image1.png" ContentType="image/png"/>
  <Override PartName="/ppt/media/WHOOSH.WAV" ContentType="audio/x-wav"/>
  <Override PartName="/ppt/media/image16.wmf" ContentType="image/x-wmf"/>
  <Override PartName="/ppt/media/image15.wmf" ContentType="image/x-wmf"/>
  <Override PartName="/ppt/media/image14.jpeg" ContentType="image/jpeg"/>
  <Override PartName="/ppt/media/CAMERA.WAV" ContentType="audio/x-wav"/>
  <Override PartName="/ppt/media/image24.wmf" ContentType="image/x-wmf"/>
  <Override PartName="/ppt/media/image12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106-5CE4-4BE9-83D5-C6FDB0BA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B21-571C-4DEF-8D97-5F605B36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677-FCC8-4A74-9EBC-15AE6D15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220-4F8F-457C-BEDC-7ACC0C02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A138-CCDE-44D3-ADAB-B6CD5604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3BF0-5483-4C4D-BFE6-BCCFA246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80F1-6C0E-4967-B973-79CACEB1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264D-6FF2-458C-BA48-263AC7B3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E288-285C-4E51-B145-2886E9E2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658C-BB39-42E3-BBD4-CBA6DEDB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D398-1313-4F91-B91F-953B37A4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276-5753-4D25-A83A-4665AC44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EA75-C2FC-4DCB-B6B8-1C69AB83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A371-14EF-47CE-BF7B-A3C59E6C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C9E1-7DB3-4179-A903-6566659C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A4AE-A97E-48F6-A862-5D489C20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3B83-556D-4399-8E0D-72A92FB2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A05-F02A-41E0-B374-00757B99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675-63B7-43B6-BBED-2D2D0212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596-B54A-4E7C-8DF0-F8A51C8C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A61-A01B-4340-92D6-77C4342A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49D-353E-4ACA-8AF8-701ACDDA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38F-687B-4C45-8086-1FA9993A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012-01EA-4E4E-9AC5-2FD1C5F8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097A-5B5B-40ED-9599-2E682338340F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ABD1-32FA-43D1-A3BD-C9DE6CA59FD1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1DBD-4A6C-43FE-B95E-D02F84E68BE2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7782-723C-4181-A5AE-6FEB755F4F6C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TAR BELAKANG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A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2ABE-F7D1-4996-A47F-3FD85FD40A8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7B6CC9F-5BB2-4F1B-BA99-533B86BD64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6D15C-D169-4E88-833D-76D4643E5EF1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927-F480-4D11-95EF-8253E00A85D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E3033-A1C5-4177-B4CD-B808B384C8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9A8-E4DD-480D-8F07-66117CCD01F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8CC72-D368-43A5-8BAA-4F4653B03E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C32-F7B9-4C79-A917-64739175CF3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B8E92-BB73-4F51-A279-95427FB58E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UNIA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638-7A94-498D-9693-C8636A4FEE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E096E-1F61-47ED-B5ED-42A3E6BEB4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579-57D4-4E2A-94D4-1BFEFC1A77D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99F56-EA70-41F1-B9B9-E3427C552ED6}" type="datetime1">
              <a:rPr lang="en-US"/>
              <a:t>07/29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1749-4601-4159-AD5F-25920A01E9F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E0F06DB-E56D-40D4-9EE8-0660C16EC5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EDE2-9D61-44C7-962A-6D6828068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5010-6C5C-4E0B-B10B-4246665F8AA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2E0-555C-4640-8981-53605B5026E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3E1B6-7449-43BC-9FD0-649357C8D2E8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397-8F29-459D-A246-740AB55138B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1F8DE-4B53-414E-985F-2DE44178AD64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F9A-EEEC-4B89-B6C6-A28BEC89E7E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81FEF-B059-4206-A48F-171DFA2138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9FE-AD12-496A-AE4E-778BBB58F45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01552-1344-48AC-8B9D-11B819E42109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08C-B1C6-4254-9057-17E2DCBAE7FF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E5286-AE91-4122-89C7-9CBDC83240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94A-13A1-4AB6-B091-5484C2CC4D0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212E9-8777-47BC-A4B3-F962FA9D5D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3:17:03Z</dcterms:modified>
  <cp:revision>98</cp:revision>
  <dc:subject/>
  <dc:title>PowerPoint Presentation</dc:title>
</cp:coreProperties>
</file>