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F93-5C2B-485E-8B47-98D63211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FC7-3BDF-41F9-8108-FDA1584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6F8-5502-45C1-8B3F-6D41B6F4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82E-BDFD-46AA-A75D-F1456F29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3A3C-9B31-43C4-A523-6FE9BF69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C1AA-E593-45E9-A7B7-23A775C8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80F0-991A-4F57-B3D1-FBA78417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F837-1BF8-4C5B-BFED-E5F6DE9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417D-14A7-4936-814D-651D86FF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39B-5172-427D-8476-E92E49F2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90AF-9F73-411F-B568-0E61130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9AF-EA84-4E63-B549-670C715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65AB-0E06-41BE-AF2E-35BAF74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FCA3-6DB7-481D-87D7-123DF400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AC5A-D854-4216-9561-827A3EDF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0119-10FE-4B2F-99D3-DE27FEA0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6407-7B27-46C0-8877-A2800A9E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AF4-DD32-4C28-9BD0-3D846D7E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0CD-E006-4311-A3E1-461F25F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528-0505-45E6-BDAF-A02B54F1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BCF-C3AD-405A-AC93-ED37EFE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EC7-3FBB-4327-80C3-5A3684F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B8E-1269-4B67-905F-68C9BBFB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85D-DC78-4D14-AF86-4506CBC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3487-64A9-4341-BDBE-C96D1A8AA30D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CFE-ABC4-4FFA-B6A4-BBFB7E31AC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32B-1E4D-4B40-BDB2-88CB3F27EC47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BDEF-7F5D-4248-9AEE-F4DBA340DF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449-05C0-4989-90D0-C6C4A23FEB6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D75E47-98B5-422E-B2E2-F1344EE67F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B7E1D-E769-41F5-924B-0530DEF4A11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201-3E6F-49D1-9E86-95861805A3F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CA854-1C16-4601-A178-83910E4710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7053-EF31-4746-BDBA-98186538758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5BA9C6-6FCB-4424-80B4-C5D2330A21D7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bd05515_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62D-385A-4431-AFB3-F9DE987498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886CD-EF8E-4BA5-B264-A4C1C61895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a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59C-3A5A-4324-9B04-130CC23E688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CAA61-C5DC-4E3E-B0ED-7B40A8A4A9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1BFB7B-9ADC-49D4-B6DF-967EE148C389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575-D123-4848-B1D6-D12FFA1326B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29D3F-3E99-4F8D-9876-97D437DB6A4F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2FDD7-4860-4AEA-9663-066F621CCB42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5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19714-E273-4B5C-95C3-093E73EF195D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945AA-E669-4ABB-8C02-4DE2CBC405A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B0E2E-2F5E-4223-969C-453C85C09D0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4:12:05Z</dcterms:modified>
  <cp:revision>46</cp:revision>
  <dc:subject/>
  <dc:title>PowerPoint Presentation</dc:title>
</cp:coreProperties>
</file>