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5ACC-2950-4E43-AF7C-22C668F5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FCD-E834-409F-8E7C-49614CDB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E1E-EFB1-40A7-B902-E6438177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6AD-769E-42BC-A171-EE990ABE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5295-D7D9-4BB9-8B70-FA0D838C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7A6C-E697-4B4E-AEAB-FC4BBB90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3AC0-1616-4CC3-BF99-D6B3E37F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292B-0A11-43ED-93DD-4F8D51AB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17B3-9772-4232-8606-6BADE8B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AE7B-2857-4E7C-B779-8E25FA0E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ECB9-1708-480D-9A8F-60020B02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5BEF-140F-4E3A-9B17-425DD154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0479-7422-4C03-93E9-8C83A320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EF02-1BCA-42E9-A7DD-8B73FF78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B937-8888-4D5B-8425-4C53412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00AA-07D5-479B-94A3-258667D9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3709-5C1A-49DB-9585-E31A087D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E0D-92A8-44DF-AB06-F0D84D00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061-6D1E-479C-9BD1-D53E066A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F87-0F72-4C8C-935A-98D642B1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C06-4E3A-49AA-AAAE-E0BDAE22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6E0-1D84-41B4-A5B0-15B343AF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EA9-320A-41C6-9D04-F8378B26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DBB-19D3-46D7-8EE6-9017BA97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B60E-C584-498F-A229-9E0EB18D1211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8E45-013B-466A-B378-BEBA460C4C2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i="1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739-F400-4CA2-931B-F4E756E5951D}" type="datetime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835E-B1FC-4223-B96D-C0F7C55BE1F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629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RKEMBANGAN TEKNOLOGI INFORMASI DAN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ERISTIWA WTC 91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133720" y="35049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hiza S. Sadja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hiza@unhas.ac.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ttp://www.unhas.ac.id/~rhiza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ttp://www.rhiza.f2s.com/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A66FC4-7771-494F-8696-AE311BEE1FFB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attack63" descr="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attack36" descr=""/>
          <p:cNvPicPr/>
          <p:nvPr/>
        </p:nvPicPr>
        <p:blipFill>
          <a:blip r:embed="rId2"/>
          <a:stretch/>
        </p:blipFill>
        <p:spPr>
          <a:xfrm>
            <a:off x="4495680" y="0"/>
            <a:ext cx="4937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E3981-BC82-4ECB-8C55-192310A533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43C58-8A51-45CB-99C5-94B0D4D93B3F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tc_collapse3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11CF2-1913-4890-8FB6-92B01FD2341F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ttack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34D2B-B346-486F-828F-54595106CCD5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ttack04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5A149-22F2-4323-9987-489DE9B21C83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attack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CF656-2CDA-488D-AF72-A4F1FABDE50C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00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ttack03" descr=""/>
          <p:cNvPicPr/>
          <p:nvPr/>
        </p:nvPicPr>
        <p:blipFill>
          <a:blip r:embed="rId1"/>
          <a:stretch/>
        </p:blipFill>
        <p:spPr>
          <a:xfrm>
            <a:off x="0" y="0"/>
            <a:ext cx="597528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attack27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11A8D-2801-4389-B9AD-7389A359E420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attack06" descr=""/>
          <p:cNvPicPr/>
          <p:nvPr/>
        </p:nvPicPr>
        <p:blipFill>
          <a:blip r:embed="rId1"/>
          <a:stretch/>
        </p:blipFill>
        <p:spPr>
          <a:xfrm>
            <a:off x="0" y="0"/>
            <a:ext cx="544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attack09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87328-6297-4C45-8EBE-088868A27749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ttack37" descr=""/>
          <p:cNvPicPr/>
          <p:nvPr/>
        </p:nvPicPr>
        <p:blipFill>
          <a:blip r:embed="rId1"/>
          <a:stretch/>
        </p:blipFill>
        <p:spPr>
          <a:xfrm>
            <a:off x="0" y="239760"/>
            <a:ext cx="9144000" cy="63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31E4C-6DEE-4FE6-A847-ED7F677FF578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0:59Z</dcterms:created>
  <dc:creator>pc</dc:creator>
  <dc:description/>
  <dc:language>en-US</dc:language>
  <cp:lastModifiedBy>pc</cp:lastModifiedBy>
  <dcterms:modified xsi:type="dcterms:W3CDTF">2001-09-20T05:33:43Z</dcterms:modified>
  <cp:revision>15</cp:revision>
  <dc:subject/>
  <dc:title>PERKEMBANGAN TEKNOLOGI INFORMASI DAN PERISTIWA WTC 911</dc:title>
</cp:coreProperties>
</file>