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rojctor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3AB1-6186-4277-A429-FD23531EA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AF9D-399C-4517-9B72-2E948F09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F49D-24FB-4622-81BA-E2D015ACE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CDEC-1CDF-4E4F-876F-F2CBFAD33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DF0F-7061-4C93-B92D-EA3E7086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9281-5A81-4DE1-9B4D-CA5EFBCC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59B0-1D9F-437F-91B0-F235BB67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991C-B4F8-4033-A733-9A601566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6CA9-ECA8-46EF-A93A-E3777926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2BB4-E935-49F5-AAE7-8A15B2A2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3144-0EC4-4940-99F1-D1467435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2CE6-088E-47A5-9C98-657C7E41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959E-2AE7-49DE-8F22-C8BD3839E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CT DEVELOPMENT </a:t>
            </a:r>
            <a:br>
              <a:rPr sz="32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ASANUDDIN UNIVERSITY </a:t>
            </a:r>
            <a:br>
              <a:rPr sz="28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AKASSAR STATE UNIVERSITY </a:t>
            </a:r>
            <a:br>
              <a:rPr sz="2800"/>
            </a:b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EMBERS OF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ASTERN INDONESIA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 UNIVERSITIES ASSOC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yamsul Arifin 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Abdul Rajab Joh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T 2001 Seminar Saga University Japan</a:t>
            </a:r>
          </a:p>
        </p:txBody>
      </p:sp>
    </p:spTree>
  </p:cSld>
  <p:transition spd="med">
    <p:zoom dir="out"/>
    <p:sndAc>
      <p:stSnd>
        <p:snd r:embed="rId1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ICT DEVELOPMENT IN HASANUDDIN UNIVERSITY AND MAKASSAR STATE UNIVERSITY (MEMBERS OF BKS INTIM - EASTERN INDONESIA STATE UNIVERSITIES ASSOCI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CT main issu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Objectives (Cont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fra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upporting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evelopment: (Past, Present, Futu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isdiksat a BKS-Intim ICT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asanuddi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akassar State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T 2001 Seminar Saga University Japan</a:t>
            </a:r>
          </a:p>
        </p:txBody>
      </p:sp>
    </p:spTree>
  </p:cSld>
  <p:transition spd="med">
    <p:zoom dir="out"/>
    <p:sndAc>
      <p:stSnd>
        <p:snd r:embed="rId1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SISDIKSAT (Indonesian Distance Education through Satellite) in Eastern Indone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Objectives (Content) (1984-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Sharing of resources to accelerate the development of universities in Eastern Indonesian, particularly in the field of Agricultural Sci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Faculty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Teaching materi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ICT Human resources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T 2001 Seminar Saga University Japan</a:t>
            </a:r>
          </a:p>
        </p:txBody>
      </p:sp>
    </p:spTree>
  </p:cSld>
  <p:transition spd="med">
    <p:zoom dir="out"/>
    <p:sndAc>
      <p:stSnd>
        <p:snd r:embed="rId1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SISDIKSAT (Indonesian Distance Education through Satellite) in Eastern Indone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Original Infra structures (ICT Technology) (1984-199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Audio conferencing broadcast dedicated system (1200 bps SCPC Analog, connecting 11 universit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Electronic classroom (Audio system, first generation fax, teleblackboa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1</a:t>
            </a:r>
            <a:r>
              <a:rPr b="0" lang="en-US" sz="2000" spc="-1" strike="noStrike" baseline="30000">
                <a:solidFill>
                  <a:srgbClr val="800000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 Modification (up to 199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14,400 bps via Ipteknet SCPC Analog to all Sisdiksat 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8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 Modification (up to n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64 kbps, VSAT via Ipteknet, hotline dialup from certain Sisdiksat location (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(UNM, IKIP Tondano, STKIP Gorontalo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T 2001 Seminar Saga University Japan</a:t>
            </a:r>
          </a:p>
        </p:txBody>
      </p:sp>
    </p:spTree>
  </p:cSld>
  <p:transition spd="med">
    <p:zoom dir="out"/>
    <p:sndAc>
      <p:stSnd>
        <p:snd r:embed="rId1" name="projcto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Hasanuddin Univer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Infr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ICT Infra structure center of SISDIKSAT (64 kbps V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Computer Center LAN (Academic and Administrative pr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Sygate server to Rectorate Building via computer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ial in from other buildings via PABX (PABX broken down), </a:t>
            </a:r>
            <a:r>
              <a:rPr b="0" i="1" lang="en-US" sz="2400" spc="-1" strike="noStrike">
                <a:solidFill>
                  <a:srgbClr val="ff0066"/>
                </a:solidFill>
                <a:latin typeface="Times New Roman"/>
              </a:rPr>
              <a:t>temporary solution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Radio VHF (experimental) Link from UNHAS to UKI Paulus camp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Dial up connection to local ISP and internet kio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T 2001 Seminar Saga University Japan</a:t>
            </a:r>
          </a:p>
        </p:txBody>
      </p:sp>
    </p:spTree>
  </p:cSld>
  <p:transition spd="med">
    <p:zoom dir="out"/>
    <p:sndAc>
      <p:stSnd>
        <p:snd r:embed="rId1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Makassar State Univer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Infra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Member of Sidiksat Network (hotline dial up connection to Sisdiksat VSAT, electronic classro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Computer Center LAN (Academic progra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Dial up connection to Local IS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T 2001 Seminar Saga University Japan</a:t>
            </a:r>
          </a:p>
        </p:txBody>
      </p:sp>
    </p:spTree>
  </p:cSld>
  <p:transition spd="med">
    <p:zoom dir="out"/>
    <p:sndAc>
      <p:stSnd>
        <p:snd r:embed="rId1" name="projcto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Times New Roman"/>
              </a:rPr>
              <a:t>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Urgent need to develop Strategy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Promoting cooperative program for ICT impr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Restructuring Sisdiksat (Objectives (content), ICT infrastructures to accommodate the social, academic, and administrative needs and appropriate ICT recent develop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Restructuring Local Area Networks of University Computer Centers (Objectives (content), ICT infrastructures to accommodate university need and recent appropriate ICT develop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ICT Human development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T 2001 Seminar Saga University Japan</a:t>
            </a:r>
          </a:p>
        </p:txBody>
      </p:sp>
    </p:spTree>
  </p:cSld>
  <p:transition spd="med">
    <p:zoom dir="out"/>
    <p:sndAc>
      <p:stSnd>
        <p:snd r:embed="rId1" name="projct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5T12:46:46Z</dcterms:created>
  <dc:creator>Valued Sony Customer</dc:creator>
  <dc:description/>
  <dc:language>en-US</dc:language>
  <cp:lastModifiedBy>Valued Sony Customer</cp:lastModifiedBy>
  <dcterms:modified xsi:type="dcterms:W3CDTF">2001-10-26T13:42:40Z</dcterms:modified>
  <cp:revision>13</cp:revision>
  <dc:subject/>
  <dc:title>ICT DEVELOPMENT  IN  HASANUDDIN UNIVERSITY AND MAKASSAR STATE UNIVERSITY (MEMBERS OF EASTERN INDONESIA UNIVERSITIES ASSOCIATION</dc:title>
</cp:coreProperties>
</file>