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3084-2485-40A3-9042-88AD8C5DF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05320" y="1143000"/>
            <a:ext cx="5029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505320" y="3505320"/>
            <a:ext cx="5029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05320" y="4421160"/>
            <a:ext cx="5029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0A22-CFF6-4308-B6DE-3EA5352D4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05320" y="1143000"/>
            <a:ext cx="5029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505320" y="3505320"/>
            <a:ext cx="2454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082560" y="3505320"/>
            <a:ext cx="2454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3505320" y="4421160"/>
            <a:ext cx="2454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082560" y="4421160"/>
            <a:ext cx="2454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E239-7CC6-420C-8058-0E73371AA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505320" y="1143000"/>
            <a:ext cx="5029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505320" y="3505320"/>
            <a:ext cx="1619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205960" y="3505320"/>
            <a:ext cx="1619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906600" y="3505320"/>
            <a:ext cx="1619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3505320" y="4421160"/>
            <a:ext cx="1619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5205960" y="4421160"/>
            <a:ext cx="1619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906600" y="4421160"/>
            <a:ext cx="1619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ABC8-8B61-42C1-BBAC-06B74B717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E8F80-C596-4E55-AA41-011766EA5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505320" y="1143000"/>
            <a:ext cx="5029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505320" y="3505320"/>
            <a:ext cx="50292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6969A-C2C7-429D-A9D5-133BA9FAB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505320" y="1143000"/>
            <a:ext cx="5029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505320" y="3505320"/>
            <a:ext cx="5029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BF48B-3C4E-4E88-AAAF-0EF90DFA0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505320" y="1143000"/>
            <a:ext cx="5029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505320" y="3505320"/>
            <a:ext cx="2454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82560" y="3505320"/>
            <a:ext cx="2454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529E4-B2DA-4B90-9AEE-677016B01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505320" y="1143000"/>
            <a:ext cx="5029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71A65-E97B-4216-9AFA-B44E2D276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3505320" y="1143000"/>
            <a:ext cx="5029200" cy="60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66400-7856-4640-95E1-248572E01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05320" y="1143000"/>
            <a:ext cx="5029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505320" y="3505320"/>
            <a:ext cx="2454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082560" y="3505320"/>
            <a:ext cx="2454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505320" y="4421160"/>
            <a:ext cx="2454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E16EE-A138-4348-9568-5567C3C0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505320" y="1143000"/>
            <a:ext cx="5029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3505320" y="3505320"/>
            <a:ext cx="50292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0C7D-2145-432A-BFFB-E4F850BD4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1143000"/>
            <a:ext cx="5029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505320" y="3505320"/>
            <a:ext cx="2454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082560" y="3505320"/>
            <a:ext cx="2454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82560" y="4421160"/>
            <a:ext cx="2454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4FD59-50E5-43CF-993D-132AB8D9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1143000"/>
            <a:ext cx="5029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505320" y="3505320"/>
            <a:ext cx="2454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082560" y="3505320"/>
            <a:ext cx="2454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505320" y="4421160"/>
            <a:ext cx="5029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72C00-9F96-4584-B112-AA41E024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505320" y="1143000"/>
            <a:ext cx="5029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505320" y="3505320"/>
            <a:ext cx="5029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05320" y="4421160"/>
            <a:ext cx="5029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531B4-F5B6-4E3E-B2FD-CD3A0585E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05320" y="1143000"/>
            <a:ext cx="5029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505320" y="3505320"/>
            <a:ext cx="2454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082560" y="3505320"/>
            <a:ext cx="2454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505320" y="4421160"/>
            <a:ext cx="2454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082560" y="4421160"/>
            <a:ext cx="2454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A9E4A-FBDC-44C0-A27B-ACB0FAA32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505320" y="1143000"/>
            <a:ext cx="5029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505320" y="3505320"/>
            <a:ext cx="1619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05960" y="3505320"/>
            <a:ext cx="1619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906600" y="3505320"/>
            <a:ext cx="1619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505320" y="4421160"/>
            <a:ext cx="1619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5205960" y="4421160"/>
            <a:ext cx="1619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906600" y="4421160"/>
            <a:ext cx="1619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B72E0-06A9-455A-BDE7-E371F3D96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1143000"/>
            <a:ext cx="5029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505320" y="3505320"/>
            <a:ext cx="5029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C849-FF79-481B-92DA-14C458242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505320" y="1143000"/>
            <a:ext cx="5029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505320" y="3505320"/>
            <a:ext cx="2454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82560" y="3505320"/>
            <a:ext cx="2454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969D-602A-4BC6-A20B-1AE2C1043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505320" y="1143000"/>
            <a:ext cx="5029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A39A-2BFB-42F5-83E6-B056AEE81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3505320" y="1143000"/>
            <a:ext cx="5029200" cy="60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691D-E1D5-41EA-A7D9-F7BF1E8A5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05320" y="1143000"/>
            <a:ext cx="5029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05320" y="3505320"/>
            <a:ext cx="2454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82560" y="3505320"/>
            <a:ext cx="2454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505320" y="4421160"/>
            <a:ext cx="2454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381C-C076-464B-8941-AB1B98D4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1143000"/>
            <a:ext cx="5029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505320" y="3505320"/>
            <a:ext cx="2454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82560" y="3505320"/>
            <a:ext cx="2454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82560" y="4421160"/>
            <a:ext cx="2454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078C-3A67-4E21-9EB9-B49FD3E8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505320" y="1143000"/>
            <a:ext cx="5029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05320" y="3505320"/>
            <a:ext cx="2454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082560" y="3505320"/>
            <a:ext cx="2454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05320" y="4421160"/>
            <a:ext cx="5029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97A9-5AC5-4F92-8954-5973A491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914400"/>
            <a:ext cx="8153280" cy="4114800"/>
            <a:chOff x="228600" y="914400"/>
            <a:chExt cx="8153280" cy="4114800"/>
          </a:xfrm>
        </p:grpSpPr>
        <p:sp>
          <p:nvSpPr>
            <p:cNvPr id="1" name=""/>
            <p:cNvSpPr/>
            <p:nvPr/>
          </p:nvSpPr>
          <p:spPr>
            <a:xfrm>
              <a:off x="228600" y="914400"/>
              <a:ext cx="2666880" cy="91440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00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981080" y="1371600"/>
              <a:ext cx="6400800" cy="3657600"/>
            </a:xfrm>
            <a:prstGeom prst="line">
              <a:avLst/>
            </a:prstGeom>
            <a:ln cap="sq" w="50760">
              <a:solidFill>
                <a:srgbClr val="00cccc"/>
              </a:solidFill>
              <a:custDash>
                <a:ds d="1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752480" y="1214280"/>
              <a:ext cx="762120" cy="457200"/>
            </a:xfrm>
            <a:prstGeom prst="line">
              <a:avLst/>
            </a:prstGeom>
            <a:ln cap="sq" w="50760">
              <a:solidFill>
                <a:srgbClr val="00cccc"/>
              </a:solidFill>
              <a:custDash>
                <a:ds d="1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" name=""/>
          <p:cNvGrpSpPr/>
          <p:nvPr/>
        </p:nvGrpSpPr>
        <p:grpSpPr>
          <a:xfrm>
            <a:off x="1600200" y="3048120"/>
            <a:ext cx="3657600" cy="3504960"/>
            <a:chOff x="1600200" y="3048120"/>
            <a:chExt cx="3657600" cy="3504960"/>
          </a:xfrm>
        </p:grpSpPr>
        <p:sp>
          <p:nvSpPr>
            <p:cNvPr id="5" name=""/>
            <p:cNvSpPr/>
            <p:nvPr/>
          </p:nvSpPr>
          <p:spPr>
            <a:xfrm>
              <a:off x="1600200" y="3048120"/>
              <a:ext cx="2666880" cy="838080"/>
            </a:xfrm>
            <a:prstGeom prst="ellipse">
              <a:avLst/>
            </a:prstGeom>
            <a:solidFill>
              <a:srgbClr val="ff0033"/>
            </a:solidFill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448080" y="3805200"/>
              <a:ext cx="1809720" cy="2747880"/>
            </a:xfrm>
            <a:prstGeom prst="line">
              <a:avLst/>
            </a:prstGeom>
            <a:ln cap="sq" w="50760">
              <a:solidFill>
                <a:srgbClr val="ff0033"/>
              </a:solidFill>
              <a:custDash>
                <a:ds d="1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62240" y="3330720"/>
              <a:ext cx="351000" cy="550800"/>
            </a:xfrm>
            <a:prstGeom prst="line">
              <a:avLst/>
            </a:prstGeom>
            <a:ln cap="sq" w="50760">
              <a:solidFill>
                <a:srgbClr val="ff0033"/>
              </a:solidFill>
              <a:custDash>
                <a:ds d="1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3850920" y="457200"/>
            <a:ext cx="5064480" cy="5838840"/>
            <a:chOff x="3850920" y="457200"/>
            <a:chExt cx="5064480" cy="5838840"/>
          </a:xfrm>
        </p:grpSpPr>
        <p:sp>
          <p:nvSpPr>
            <p:cNvPr id="9" name=""/>
            <p:cNvSpPr/>
            <p:nvPr/>
          </p:nvSpPr>
          <p:spPr>
            <a:xfrm>
              <a:off x="4267080" y="457200"/>
              <a:ext cx="4648320" cy="160020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>
              <a:off x="3850920" y="2057400"/>
              <a:ext cx="2282760" cy="4238640"/>
            </a:xfrm>
            <a:prstGeom prst="line">
              <a:avLst/>
            </a:prstGeom>
            <a:ln cap="sq" w="50760">
              <a:solidFill>
                <a:srgbClr val="3333ff"/>
              </a:solidFill>
              <a:custDash>
                <a:ds d="1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6172200" y="1071720"/>
              <a:ext cx="495360" cy="920520"/>
            </a:xfrm>
            <a:prstGeom prst="line">
              <a:avLst/>
            </a:prstGeom>
            <a:ln cap="sq" w="50760">
              <a:solidFill>
                <a:srgbClr val="3333ff"/>
              </a:solidFill>
              <a:custDash>
                <a:ds d="1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body"/>
          </p:nvPr>
        </p:nvSpPr>
        <p:spPr>
          <a:xfrm>
            <a:off x="11430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cbcbc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51"/>
              </a:spcBef>
              <a:buClr>
                <a:srgbClr val="cbcbc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751"/>
              </a:spcBef>
              <a:buClr>
                <a:srgbClr val="cbcbc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751"/>
              </a:spcBef>
              <a:buClr>
                <a:srgbClr val="cbcbc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4" marL="1974960" indent="-219240">
              <a:spcBef>
                <a:spcPts val="751"/>
              </a:spcBef>
              <a:buClr>
                <a:srgbClr val="cbcbc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5" marL="1974960" indent="-219240"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6" marL="1974960" indent="-219240"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 type="dt" idx="1"/>
          </p:nvPr>
        </p:nvSpPr>
        <p:spPr>
          <a:xfrm>
            <a:off x="0" y="624960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0A409-17B9-4344-AF98-3F9F1D29EBC0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 type="ftr" idx="2"/>
          </p:nvPr>
        </p:nvSpPr>
        <p:spPr>
          <a:xfrm>
            <a:off x="0" y="6554880"/>
            <a:ext cx="1905120" cy="30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sldNum" idx="3"/>
          </p:nvPr>
        </p:nvSpPr>
        <p:spPr>
          <a:xfrm>
            <a:off x="8763120" y="6477120"/>
            <a:ext cx="380880" cy="380880"/>
          </a:xfrm>
          <a:prstGeom prst="rect">
            <a:avLst/>
          </a:prstGeom>
          <a:solidFill>
            <a:srgbClr val="3333ff">
              <a:alpha val="50000"/>
            </a:srgbClr>
          </a:solidFill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B8CAF-F7C3-4121-BE7A-4D042485B5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3850920" y="457200"/>
            <a:ext cx="5064480" cy="5838840"/>
            <a:chOff x="3850920" y="457200"/>
            <a:chExt cx="5064480" cy="5838840"/>
          </a:xfrm>
        </p:grpSpPr>
        <p:sp>
          <p:nvSpPr>
            <p:cNvPr id="54" name=""/>
            <p:cNvSpPr/>
            <p:nvPr/>
          </p:nvSpPr>
          <p:spPr>
            <a:xfrm>
              <a:off x="4267080" y="457200"/>
              <a:ext cx="4648320" cy="160020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3850920" y="2057400"/>
              <a:ext cx="2282760" cy="4238640"/>
            </a:xfrm>
            <a:prstGeom prst="line">
              <a:avLst/>
            </a:prstGeom>
            <a:ln cap="sq" w="50760">
              <a:solidFill>
                <a:srgbClr val="3333ff"/>
              </a:solidFill>
              <a:custDash>
                <a:ds d="1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6172200" y="1071720"/>
              <a:ext cx="495360" cy="920520"/>
            </a:xfrm>
            <a:prstGeom prst="line">
              <a:avLst/>
            </a:prstGeom>
            <a:ln cap="sq" w="50760">
              <a:solidFill>
                <a:srgbClr val="3333ff"/>
              </a:solidFill>
              <a:custDash>
                <a:ds d="1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600200" y="3048120"/>
            <a:ext cx="3657600" cy="3504960"/>
            <a:chOff x="1600200" y="3048120"/>
            <a:chExt cx="3657600" cy="3504960"/>
          </a:xfrm>
        </p:grpSpPr>
        <p:sp>
          <p:nvSpPr>
            <p:cNvPr id="58" name=""/>
            <p:cNvSpPr/>
            <p:nvPr/>
          </p:nvSpPr>
          <p:spPr>
            <a:xfrm>
              <a:off x="1600200" y="3048120"/>
              <a:ext cx="2666880" cy="838080"/>
            </a:xfrm>
            <a:prstGeom prst="ellipse">
              <a:avLst/>
            </a:prstGeom>
            <a:solidFill>
              <a:srgbClr val="ff0033"/>
            </a:solidFill>
            <a:ln w="93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448080" y="3805200"/>
              <a:ext cx="1809720" cy="2747880"/>
            </a:xfrm>
            <a:prstGeom prst="line">
              <a:avLst/>
            </a:prstGeom>
            <a:ln cap="sq" w="50760">
              <a:solidFill>
                <a:srgbClr val="ff0033"/>
              </a:solidFill>
              <a:custDash>
                <a:ds d="1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162240" y="3330720"/>
              <a:ext cx="351000" cy="550800"/>
            </a:xfrm>
            <a:prstGeom prst="line">
              <a:avLst/>
            </a:prstGeom>
            <a:ln cap="sq" w="50760">
              <a:solidFill>
                <a:srgbClr val="ff0033"/>
              </a:solidFill>
              <a:custDash>
                <a:ds d="1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228600" y="914400"/>
            <a:ext cx="8153280" cy="4114800"/>
            <a:chOff x="228600" y="914400"/>
            <a:chExt cx="8153280" cy="4114800"/>
          </a:xfrm>
        </p:grpSpPr>
        <p:sp>
          <p:nvSpPr>
            <p:cNvPr id="62" name=""/>
            <p:cNvSpPr/>
            <p:nvPr/>
          </p:nvSpPr>
          <p:spPr>
            <a:xfrm>
              <a:off x="228600" y="914400"/>
              <a:ext cx="2666880" cy="91440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00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81080" y="1371600"/>
              <a:ext cx="6400800" cy="3657600"/>
            </a:xfrm>
            <a:prstGeom prst="line">
              <a:avLst/>
            </a:prstGeom>
            <a:ln cap="sq" w="50760">
              <a:solidFill>
                <a:srgbClr val="00cccc"/>
              </a:solidFill>
              <a:custDash>
                <a:ds d="1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752480" y="1214280"/>
              <a:ext cx="762120" cy="457200"/>
            </a:xfrm>
            <a:prstGeom prst="line">
              <a:avLst/>
            </a:prstGeom>
            <a:ln cap="sq" w="50760">
              <a:solidFill>
                <a:srgbClr val="00cccc"/>
              </a:solidFill>
              <a:custDash>
                <a:ds d="1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505320" y="1143000"/>
            <a:ext cx="5029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4"/>
          </p:nvPr>
        </p:nvSpPr>
        <p:spPr>
          <a:xfrm>
            <a:off x="0" y="624960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ECCE1-FF74-4296-9BE2-9F505809A387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5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6"/>
          </p:nvPr>
        </p:nvSpPr>
        <p:spPr>
          <a:xfrm>
            <a:off x="8534520" y="6477120"/>
            <a:ext cx="380880" cy="380880"/>
          </a:xfrm>
          <a:prstGeom prst="rect">
            <a:avLst/>
          </a:prstGeom>
          <a:solidFill>
            <a:srgbClr val="3333ff">
              <a:alpha val="50000"/>
            </a:srgbClr>
          </a:solidFill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8C3C4-6CE6-41EC-BC30-FCC8D321C7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bcbcb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bcbcb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bcbcb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1143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INTERNET di SEKITAR KITA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438280" y="3809520"/>
            <a:ext cx="59436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leh: Rhiza S. Sadj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SDIKSAT BKS PTN INTI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versitas Hasanuddin Makass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: rhiza@unhas.ac.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L: http://www.unhas.ac.id/~rhiza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CC56AA0-ADD9-487E-B7ED-D4EA10F82385}" type="datetime1">
              <a:rPr lang="en-US"/>
              <a:t>07/28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ahoma"/>
              </a:rPr>
              <a:t>CONNECTIVITY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di UNHA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cbcbc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Tahoma"/>
              </a:rPr>
              <a:t>Kemarin: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49"/>
              </a:spcBef>
              <a:buClr>
                <a:srgbClr val="cbcbc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SDIKSAT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cbcbcb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/d 1995: 1200 bps via sisdik.pdk.go.id, SCPC Analog ke lokasi-lokasi SISDIK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cbcbcb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/d 1998: 14,400 bps via IptekNet, SCPC Analog ke lokasi-lokasi SISDIK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cbcbcb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jak 1998: VSAT 64 kbps, hotline dial-up dari lokasi-lokasi SISDIKSAT (UNM, STKIP-G, IKIP Tondano........... ) FULL GRAT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cl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VESTAS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77AD36-AB21-415A-BE7A-2FDFCC02DF5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ahoma"/>
              </a:rPr>
              <a:t>CONNECTIVITY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di UNHA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cbcbc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Tahoma"/>
              </a:rPr>
              <a:t>Kemarin (lanjutan):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cbcbc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Kampus UNHAS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cbcbcb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ang punya telepon berlangganan ke ISP (Wasantara, MegaNet, IndosatNet, IndoNet, MammiriNet-Rainbow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cbcbcb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jak 1998) via PABX ke SISDIKSAT, WinGate di unit-unit + LA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cbcbcb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sang kabel ke PKP, terus lanjut ke Rektor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cbcbcb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ba WinGate Server, kabel tanah ke PKP terus ke Rektor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cbcbcb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gate Server (UPT Komputer), beberapa LAN ditumbuhkan, menunggu LAN UNHAS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AF48B8-9DE4-491E-A35D-DDD1851F7F2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ahoma"/>
              </a:rPr>
              <a:t>CONNECTIVITY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di UNHA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cbcbc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Tahoma"/>
              </a:rPr>
              <a:t>Saat ini: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49"/>
              </a:spcBef>
              <a:buClr>
                <a:srgbClr val="cbcbc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Link SISDIKSAT-IptekNet, 64 kbps, OK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49"/>
              </a:spcBef>
              <a:buClr>
                <a:srgbClr val="cbcbc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ot-line dial-up dari STKIP-G, UNM, IKIP-Tondano, OK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49"/>
              </a:spcBef>
              <a:buClr>
                <a:srgbClr val="cbcbc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ygate Server ke Rektorat via Gedung PKP,OK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49"/>
              </a:spcBef>
              <a:buClr>
                <a:srgbClr val="cbcbc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ial-in dari Kampus via PABX (PABX-nya rusak), </a:t>
            </a:r>
            <a:r>
              <a:rPr b="0" i="1" lang="en-US" sz="2600" spc="-1" strike="noStrike">
                <a:solidFill>
                  <a:srgbClr val="000000"/>
                </a:solidFill>
                <a:latin typeface="Tahoma"/>
              </a:rPr>
              <a:t>temporary solution, up and dow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49"/>
              </a:spcBef>
              <a:buClr>
                <a:srgbClr val="cbcbc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(Experimental) Radio VHF link, ke Kampus UKI Paulus dan ke Pak Tahi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5BEB95-0A44-4DE0-8113-FA8CB267B46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45720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ahoma"/>
              </a:rPr>
              <a:t>CONNECTIVITY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di UNHA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cbcbc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Tahoma"/>
              </a:rPr>
              <a:t>Rekomendasi untuk masa depan: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cbcbc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Link via IptekNet/BPPT 64 kbps dipertahankan gratis, ........ bayar dengan “</a:t>
            </a:r>
            <a:r>
              <a:rPr b="0" i="1" lang="en-US" sz="2600" spc="-1" strike="noStrike">
                <a:solidFill>
                  <a:srgbClr val="000000"/>
                </a:solidFill>
                <a:latin typeface="Tahoma"/>
              </a:rPr>
              <a:t>content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cbcbc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Kalau ada alternatif lain, dan UNHAS mau bayar, .......... kenapa tidak?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cbcbc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INTRANET UNHAS harus terus dibangu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cbcbc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Pengembangan CONTENT ......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9C11BB-EC9B-4864-8009-370980C7172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62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Kondisi di UNHAS saat ini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0663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cbcbc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Warnet-warnet yang selalu penuh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51"/>
              </a:spcBef>
              <a:buClr>
                <a:srgbClr val="cbcbc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ahoma"/>
              </a:rPr>
              <a:t>Civitas-academica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yang berlangganan ISP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51"/>
              </a:spcBef>
              <a:buClr>
                <a:srgbClr val="cbcbc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ahoma"/>
              </a:rPr>
              <a:t>Mailing-list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unhas-ml yang “hidup”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http://groups.yahoo.com/group/unhas-ml/messages/</a:t>
            </a:r>
            <a:r>
              <a:rPr b="0" i="1" lang="en-US" sz="3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51"/>
              </a:spcBef>
              <a:buClr>
                <a:srgbClr val="cbcbc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ahoma"/>
              </a:rPr>
              <a:t>Official Homepage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yang ......... masih stagnasi -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Tahoma"/>
              </a:rPr>
              <a:t>http://www.unhas.ac.id/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51"/>
              </a:spcBef>
              <a:buClr>
                <a:srgbClr val="cbcbc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Dosen yang mulai memanfaatkan Internet untuk proses belajar-mengajar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51"/>
              </a:spcBef>
              <a:buClr>
                <a:srgbClr val="cbcbc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Jaringan kabel LAN/INTRANET yang terkubur......... tidakdipakai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2DC780-2DA4-4EBC-B703-97C88626D3C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2666880" cy="62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ahoma"/>
              </a:rPr>
              <a:t>CONTENT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cbcbc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Tahoma"/>
              </a:rPr>
              <a:t>Rekomendasi untuk masa depan: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cbcbc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ivitas Academica harus mendapatkan </a:t>
            </a:r>
            <a:r>
              <a:rPr b="0" i="1" lang="en-US" sz="2600" spc="-1" strike="noStrike">
                <a:solidFill>
                  <a:srgbClr val="000000"/>
                </a:solidFill>
                <a:latin typeface="Tahoma"/>
              </a:rPr>
              <a:t>basic Internet service on Campus for </a:t>
            </a:r>
            <a:r>
              <a:rPr b="1" i="1" lang="en-US" sz="2600" spc="-1" strike="noStrike">
                <a:solidFill>
                  <a:srgbClr val="000000"/>
                </a:solidFill>
                <a:latin typeface="Tahoma"/>
              </a:rPr>
              <a:t>FRE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cbcbc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Official Homepage Perguruan Tinggi ......... dikembangkan terus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cbcbc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stem Informasi IPTEKS yang terpadu, accessible via Internet dan Intranet: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cbcbcb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brary on-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cbcbcb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On-line academic administ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cbcbcb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search &amp; Development on-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cbcbcb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lasses on-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495D30-29C8-44C7-A173-E176AC81DF3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Alamat-alamat penting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cbcbc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Homepage DIKTI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ahoma"/>
              </a:rPr>
              <a:t>http://www.dikti.org/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cbcbc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Mailing List: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http://groups.yahoo.com/group/ptn-dikti/messages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berlangganan: kirim e-mail kosong ke: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ptn-dikti-subscribe@yahoogroups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cbcbc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arch Engine: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Tahoma"/>
              </a:rPr>
              <a:t>http://www.alltheweb.com/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6D70C1-51C8-4A0F-A88B-4DE756F38EED}" type="datetime1">
              <a:rPr lang="en-US"/>
              <a:t>07/28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91440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bcbc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Yang belum punya alamat e-mail) Buat alamat e-ma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bcbc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irim e-mail kosong ke alama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iw-alumni-subscribe@yahoogroups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lu tunggu sampai mendapat jawab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bcbc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irim e-mail berisi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salam perkenala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ke alamat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iw-alumni@yahoogroups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bcbc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rowse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http://groups.yahoo.com/group/tiw-alumni/messages/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62120" y="457200"/>
            <a:ext cx="31240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UGA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715000" y="609480"/>
            <a:ext cx="2514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Tug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114800" y="762120"/>
            <a:ext cx="1523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UGAS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B7E1F9-5783-4C74-AAB4-2ABEAA27668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505320" y="1143000"/>
            <a:ext cx="5029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ELESAI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3505320" y="3505320"/>
            <a:ext cx="50292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lamat jalan-jalan ke WARNET-WA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KASS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648320" y="1295280"/>
            <a:ext cx="3085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SELESAI .....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990720" y="1066680"/>
            <a:ext cx="24382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e En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733920" y="2971800"/>
            <a:ext cx="46479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jalan-jalan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257800" y="5105520"/>
            <a:ext cx="350532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MAKASSA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4267080"/>
            <a:ext cx="61437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Sampai jumpa di CYBERSPACE ....... 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6BC9B96C-1722-431F-AB6B-D7F9B5679EC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atar Belakang Masalah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cbcbc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Masyarakat Informasi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cbcbc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AFTA 2003 - Globalisasi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53D350-888E-4B9D-8410-83A70038410F}" type="datetime1">
              <a:rPr lang="en-US"/>
              <a:t>07/28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7200" y="1828800"/>
            <a:ext cx="3886200" cy="29718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2514600"/>
            <a:ext cx="396252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Arial"/>
              </a:rPr>
              <a:t>Masyarakat</a:t>
            </a:r>
            <a:endParaRPr b="0" i="1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5400" spc="-1" strike="noStrike">
                <a:solidFill>
                  <a:srgbClr val="ffffff"/>
                </a:solidFill>
                <a:latin typeface="Arial"/>
              </a:rPr>
              <a:t>nyata”</a:t>
            </a:r>
            <a:endParaRPr b="0" i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4343400"/>
            <a:ext cx="1143000" cy="1143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472428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ASYARAKAT” MAYA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800600" y="380880"/>
            <a:ext cx="3809880" cy="335304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10280" y="1066680"/>
            <a:ext cx="318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MASYARAKAT 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INFORMASI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9828800">
            <a:off x="3809880" y="2361960"/>
            <a:ext cx="2133720" cy="609480"/>
          </a:xfrm>
          <a:custGeom>
            <a:avLst/>
            <a:gdLst>
              <a:gd name="textAreaLeft" fmla="*/ 333360 w 2133720"/>
              <a:gd name="textAreaRight" fmla="*/ 1867320 w 213372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9544400">
            <a:off x="3373200" y="3477960"/>
            <a:ext cx="3298680" cy="709560"/>
          </a:xfrm>
          <a:custGeom>
            <a:avLst/>
            <a:gdLst>
              <a:gd name="textAreaLeft" fmla="*/ 515160 w 3298680"/>
              <a:gd name="textAreaRight" fmla="*/ 2886480 w 3298680"/>
              <a:gd name="textAreaTop" fmla="*/ 177480 h 709560"/>
              <a:gd name="textAreaBottom" fmla="*/ 532440 h 709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1755720" y="895320"/>
          <a:ext cx="5630760" cy="506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5720" y="895320"/>
                    <a:ext cx="5630760" cy="50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AF5B30-F040-4192-805C-8CA2AD3B4BF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895480" y="1066680"/>
            <a:ext cx="58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Pekerja informasi: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4519440" cy="34671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724280" y="1828800"/>
            <a:ext cx="35053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em-produksi ………..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engolah……………..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en-distribusikan ……..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3352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NFORMASI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082840" y="373392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an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800600" y="42670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emproduksi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026680" y="487692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EKNOLOGI INFORMASI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5486400"/>
            <a:ext cx="700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…………………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. sekretaris dan manajer ……...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195680" y="5486400"/>
            <a:ext cx="117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CIO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Image10" descr=""/>
          <p:cNvPicPr/>
          <p:nvPr/>
        </p:nvPicPr>
        <p:blipFill>
          <a:blip r:embed="rId1"/>
          <a:stretch/>
        </p:blipFill>
        <p:spPr>
          <a:xfrm>
            <a:off x="0" y="609480"/>
            <a:ext cx="3505320" cy="49532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124080" y="5105520"/>
            <a:ext cx="4114800" cy="137160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5640" y="15998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ahoma"/>
              </a:rPr>
              <a:t>Teknologi Informasi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36560" y="2514600"/>
            <a:ext cx="6607080" cy="269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cbcbc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eknologi KOMPUTE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cbcbc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MEDIA TELEKOMUNIKASI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cbcbc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umber Daya MANUSI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09480" y="4267080"/>
            <a:ext cx="2498760" cy="19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010280" y="4419720"/>
            <a:ext cx="1676520" cy="1600200"/>
          </a:xfrm>
          <a:custGeom>
            <a:avLst/>
            <a:gdLst>
              <a:gd name="textAreaLeft" fmla="*/ 224640 w 1676520"/>
              <a:gd name="textAreaRight" fmla="*/ 1451880 w 1676520"/>
              <a:gd name="textAreaTop" fmla="*/ 280080 h 1600200"/>
              <a:gd name="textAreaBottom" fmla="*/ 11602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14600" y="54864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SISTEM PENDIDIKAN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cbcbc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Globalisasi Ekonomi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cbcbc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Persaingan Bebas Tenaga Kerja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cbcbc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Tahoma"/>
              </a:rPr>
              <a:t>APEC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Tidak 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(belum) diakuinya sistem akreditasi nasional Indonesia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895480" y="838080"/>
            <a:ext cx="3124440" cy="40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* AFTA 2003</a:t>
            </a:r>
            <a:endParaRPr b="0" lang="en-US" sz="2400" spc="1" strike="noStrike">
              <a:ln w="9360">
                <a:solidFill>
                  <a:srgbClr val="009999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657600" y="762120"/>
            <a:ext cx="188604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FTA 2003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638680" y="4495680"/>
            <a:ext cx="31813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nternet    . . . . . . . . . .   ? ? ?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rkembangan di Universitas Hasanuddin MAKASSAR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cbcbc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Kemarin, Hari ini dan Esok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cbcbc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Internet = Sarana Akademi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FE73F3-CB59-4D84-B57C-998EB5549450}" type="datetime1">
              <a:rPr lang="en-US"/>
              <a:t>07/28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685800"/>
            <a:ext cx="7772400" cy="62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MASALAH INTERNE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cbcbc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Tahoma"/>
              </a:rPr>
              <a:t>Masalah Dasar: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cbcbcb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ONNECTIVITY: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ng-akses dan di-ak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cbcbcb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ONTENT: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giatan dan penyediaan informas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51"/>
              </a:spcBef>
              <a:buClr>
                <a:srgbClr val="cbcbc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Tahoma"/>
              </a:rPr>
              <a:t>Bagaimana situasi-nya di UNHAS?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cbcbcb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marin, sekarang, esok nanti ......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51"/>
              </a:spcBef>
              <a:buClr>
                <a:srgbClr val="cbcbcb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Tahoma"/>
              </a:rPr>
              <a:t>Pokok Masalah: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cbcbcb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ink Komunikasi (Medi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cbcbcb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cbcbcb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D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8E0521-F219-48D6-842E-7BFF546629E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9T05:53:00Z</dcterms:created>
  <dc:creator>Rhiza S. Sadjad</dc:creator>
  <dc:description/>
  <dc:language>en-US</dc:language>
  <cp:lastModifiedBy>pc</cp:lastModifiedBy>
  <dcterms:modified xsi:type="dcterms:W3CDTF">2001-04-23T05:08:51Z</dcterms:modified>
  <cp:revision>31</cp:revision>
  <dc:subject/>
  <dc:title>INTERNET di SEKITAR KITA</dc:title>
</cp:coreProperties>
</file>