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334-FBAD-48E3-A005-9CF97CD8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361-AD97-4F00-AF4B-FF2552DC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102-7E21-4247-8B7D-03417380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0A8-E2D4-4B90-AE6A-F6D82EBD5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9BD-598F-4997-99C2-7A57E2E4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1FE-2135-4E91-BA61-E2680499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53B-4FCA-4CBF-AA96-D39C3509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E354-F9FB-4189-A8F7-4B1CABD0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E48-4230-4482-928E-A7F37326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3CE-CA6F-4F57-BA7D-C8F7645B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6149-6C61-4DAC-B013-EA0EB469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CAC-02B0-496A-92AF-8C07F428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4E9B-C4F2-41E8-977F-AB4C250AE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SALAH 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salah Das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NECTIVITY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g-akses dan di-ak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ENT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giatan dan penyediaan inform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agaimana situasi-nya di UNH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marin, sekarang, esok nanti ..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kok Masala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k Komunikasi (Med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NECTIV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 UN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emar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DIKS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/d 1995: 1200 bps via sisdik.pdk.go.id, SCPC Analog ke lokasi-lokasi SISDIK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/d 1998: 14,400 bps via IptekNet, SCPC Analog ke lokasi-lokasi SISDIK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jak 1998: VSAT 64 kbps, hotline dial-up dari lokasi-lokasi SISDIKSAT (UNM, STKIP-G, IKIP Tondano........... ) FULL GRAT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c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EST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NECTIV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 UN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emarin (lanjutan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mpus UN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ng punya telepon berlangganan ke ISP (Idola, Wasantara, MegaNet, IndosatNe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jak 1998) via PABX ke SISDIKSAT, WinGate di unit-unit + 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ang kabel ke PKP, terus lanjut ke Rekto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ba WinGate Server, kabel tanah ke PKP terus ke Rekto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gate Server (UPT Komputer), beberapa LAN ditumbuhkan, menunggu LAN UNHA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NECTIV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 UN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at in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SISDIKSAT-IptekNet, 64 kbps,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-line dial-up dari STKIP-G, UNM, IKIP-Tondano, 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gate Server ke Rektorat via Gedung PKP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l-in dari Kampus via PABX (PABX-nya rusak)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emporary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xperimental) Radio VHF link, pak Tahir UKI-Pa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NECTIV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 UN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komendasi untuk masa dep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via IptekNet/BPPT 64 kbps dipertahankan gratis, ........ bayar dengan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lau ada alternatif lain, dan UNHAS mau bayar, .......... kenapa tida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ANET UNHAS harus terus dibangun (referensi: Tugas Akhir Ali Arifin/ Syaiful Nak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gembangan CONTENT 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 UNH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keadaan saat in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net KOPMA yang selalu penu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ivitas-academi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ng berlangganan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iling-l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has-ml yang “hidu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fficial Homep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ng ......... masih stagn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en yang mulai memanfaatkan Internet untuk proses belajar-menga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di UNH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komendasi untuk masa dep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tas Academica harus mendapatk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ic Internet service on Campus f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ial Homepage UNHAS ......... lanj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stem Informasi IPTEKS yang terpadu, accessible via Internet dan Intra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brary 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-line academic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earch &amp; Development 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asses on-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4T07:44:11Z</dcterms:created>
  <dc:creator>Rhiza S. Sadjad</dc:creator>
  <dc:description/>
  <dc:language>en-US</dc:language>
  <cp:lastModifiedBy>Rhiza S. Sadjad</cp:lastModifiedBy>
  <dcterms:modified xsi:type="dcterms:W3CDTF">2000-08-15T04:13:58Z</dcterms:modified>
  <cp:revision>15</cp:revision>
  <dc:subject/>
  <dc:title>MASALAH INTERNET</dc:title>
</cp:coreProperties>
</file>