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4A8FC-7902-41C8-BEB2-C4112B410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A2CB4-5402-4260-86C8-1A198AE23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499C6-0B56-45C9-831E-0F0E045D3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0868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98952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2820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0868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398952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66CE3-2017-417E-8E5B-E5C7D97B2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4713E-820F-4A70-9E50-9832BD9F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5174B-AE68-49BE-BD83-597AD854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367E4-379A-46FF-A59A-AD30E45D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43AE7-B577-4744-ACA8-8113C7B8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F3841-BF97-4E19-96BD-C476E4C9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19040" y="1523880"/>
            <a:ext cx="847728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6396E-726E-4854-BF8C-4A916FB5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65E16-BE5D-4C21-BBDA-AABDA210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B8718-0D9B-438F-9251-490556B95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0F12C-B72E-445C-A456-8D9E3B56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FA243-8F4B-4236-8F33-CB3AD547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84034-378A-4619-970B-792B5409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E84F2-2DA8-42E9-B49F-66753C97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0868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89520" y="317160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2820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0868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3989520" y="4239360"/>
            <a:ext cx="16002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DD27B-1547-4194-BE50-7DCD38D2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E56E3-B6EA-4D94-9BCC-EAF982CCF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838C1-6918-4194-B1B0-EDC91E47C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8E1A3-FAED-4F45-BB30-7B302186A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19040" y="1523880"/>
            <a:ext cx="8477280" cy="635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EA371-7535-4065-B866-A0FC71571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8CA59-1B0C-41D0-8161-9F95492D2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20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5200" y="423936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13498-316D-4EC8-A8AF-2A67DA984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5200" y="3171600"/>
            <a:ext cx="24253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4239360"/>
            <a:ext cx="49705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EA6A6-219E-4594-83B9-C3C7EE1030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2218-6518-4511-9B0E-BE2630C3F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34D8-032F-4A4D-8907-96CC1101811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7DDD-6029-410A-8A8D-AFCF194FB3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15.wmf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4772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 Narrow"/>
              </a:rPr>
              <a:t>Pengantar Teknologi Pendidikan</a:t>
            </a:r>
            <a:endParaRPr b="0" lang="en-US" sz="48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173120" y="3200040"/>
            <a:ext cx="49705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hiza S. Sadj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hiza@unhas.ac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ttp://www.unhas.ac.id/~rhiz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rusan Teknik Elek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kultas Teknik Univ. Hasanudd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ass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8CEE54-B812-4F4B-8770-3F395A9375D7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9900"/>
                </a:solidFill>
                <a:uFillTx/>
                <a:latin typeface="Arial Narrow"/>
              </a:rPr>
              <a:t>Teaching</a:t>
            </a: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 is ..............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752480" y="16761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................about providing opportunities for students to lear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4800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41911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E960A2-BB70-4238-A5C9-451DD85BA264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 Narrow"/>
              </a:rPr>
              <a:t>Teaching Formats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(examples)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-APPREN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CIRCLE (TUTOR-NOV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and CH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LL (PRACTICE, TEST, EXA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Teaching is a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 Narrow"/>
              </a:rPr>
              <a:t>SKILL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!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..........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ds ...............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25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01840" y="1679400"/>
            <a:ext cx="4540320" cy="3497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2057400"/>
            <a:ext cx="8421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c1c1c"/>
                </a:solidFill>
                <a:latin typeface="Arial Narrow"/>
              </a:rPr>
              <a:t>Today’s Situation</a:t>
            </a:r>
            <a:endParaRPr b="0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383160" y="304920"/>
          <a:ext cx="276084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83160" y="304920"/>
                    <a:ext cx="27608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57200" y="4114800"/>
          <a:ext cx="2286000" cy="228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14800"/>
                    <a:ext cx="2286000" cy="22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57200" y="304920"/>
          <a:ext cx="4724280" cy="1501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" y="304920"/>
                    <a:ext cx="4724280" cy="15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6272280" y="3886200"/>
            <a:ext cx="1965240" cy="243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3022560" y="2133720"/>
            <a:ext cx="4292640" cy="15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oday's Situ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66880" y="5790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All kinds of HI-TECH stuffs 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4218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 Narrow"/>
              </a:rPr>
              <a:t>COMPUTER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236160" cy="29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..... as a teaching too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..... for ENGINEERING EDU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..... why ??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905120" y="1219320"/>
            <a:ext cx="2628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uter ........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419720" y="914400"/>
            <a:ext cx="38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086600" y="990720"/>
          <a:ext cx="1550880" cy="14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990720"/>
                    <a:ext cx="155088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638680" y="1447920"/>
          <a:ext cx="123840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447920"/>
                    <a:ext cx="123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6477120" y="3505320"/>
          <a:ext cx="1736640" cy="18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77120" y="3505320"/>
                    <a:ext cx="173664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648320" y="4191120"/>
          <a:ext cx="1538280" cy="2190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48320" y="4191120"/>
                    <a:ext cx="153828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0" y="5102280"/>
          <a:ext cx="2209680" cy="1573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5102280"/>
                    <a:ext cx="22096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590920" y="4876920"/>
          <a:ext cx="1884240" cy="973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90920" y="4876920"/>
                    <a:ext cx="18842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121932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 Narrow"/>
              </a:rPr>
              <a:t>Available Options: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vil Engineering by Dr. Ing. Herman Parung, M. E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cal Engineering by Ir. Abdul H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Engineering by Ir. H. Andani Ahmad, M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8080" y="838080"/>
            <a:ext cx="3810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Computer Aided Engineering .........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019920" y="380880"/>
          <a:ext cx="2590560" cy="24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80880"/>
                    <a:ext cx="2590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9040" y="2133720"/>
            <a:ext cx="84772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Arial Narrow"/>
              </a:rPr>
              <a:t>The End ............</a:t>
            </a:r>
            <a:endParaRPr b="0" lang="en-US" sz="48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410080" y="3809880"/>
            <a:ext cx="1528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e End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E196ED-818A-4756-BF91-9BD7A4330EBE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22:14:09Z</dcterms:created>
  <dc:creator>pc</dc:creator>
  <dc:description/>
  <dc:language>en-US</dc:language>
  <cp:lastModifiedBy>pc</cp:lastModifiedBy>
  <dcterms:modified xsi:type="dcterms:W3CDTF">2001-04-19T20:14:28Z</dcterms:modified>
  <cp:revision>48</cp:revision>
  <dc:subject/>
  <dc:title>Pengantar Teknologi Pendidikan</dc:title>
</cp:coreProperties>
</file>