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9F2-46F4-4EA9-B8AF-1016DA7F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676-92E1-4211-B0A1-A7D1CCA3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A7A-62C4-4204-99AB-9DFC2C51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FFD-DA2B-42BD-B86E-01994DF9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6054-3C89-47D0-8850-1E4C3FEB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0B43-51EB-4A1F-9932-86FCA992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DA3-111B-41ED-A45D-24CE40F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946A-399C-48BC-810F-561831D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915-DFEC-4C1F-8F9A-FDC2006D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377-88FF-47EB-8223-CD7A791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77FD-C923-4E7F-9D24-D84F302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3C8-2468-471A-889F-CDECF264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ACAD-C6B5-4853-A9F7-8D9EB698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FB5A-FB13-4780-8524-33023A0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5A5A-F2CE-4BBB-8F12-B4AC6C2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A77D-6929-4C93-A044-D08A3A39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E5CF-49A3-40C0-9CC1-6B244FE0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A39-6B4C-4A3F-B0CE-63F149EE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548-90A1-406E-BA1A-9BA62619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231-D140-4AB4-9530-AF27B97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8AF-3C28-4BB4-AEB3-D25AA1EC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8F0-DD7F-4E2D-928D-067B18A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2F5-F0AB-459B-8DED-56EA5BAA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F53-295D-4465-91E3-2BD04EF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8DC-3D06-4EC6-A69B-46A3A359FF0B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CF6-C7AD-40D3-83D3-57A0E6282B3E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316-E27F-4824-8C58-BB76AE2096F4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14D2-8CC3-4226-B47F-3E6C944DEA8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ngembangan Sistem Informasi di Program Studi S1 Teknik Sipil Fakultas Teknik UNTAD Pal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Rhiza S. Sadja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rhiza@unhas.ac.i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http://www.unhas.ac.id/~rhiza/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7041-D2EF-4175-9E88-6BAEE89306E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7F1500F-BB00-4D5B-A91E-868BEC40E9C2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 PERMASALAH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yarakat Inform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A 20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C70-E304-4284-8EE6-D266D2BD70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01818-A5E4-4056-A2D5-168899B06A2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KSUD dan 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dan merumuskan strategi yang tepat untuk pengembangan Sistem Informasi di Program Stu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ari 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vailable op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yusun priorita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----- INVEST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B42-5FAB-4B0C-85AE-956D9D8C56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E86FA-D1F8-4503-A5D2-AFBB8A336B8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ambaran situasi GLOB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si ke masyarakat inform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aingan Global di era pasar beb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ingkatnya kekerasan dan kerusu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ba cepat, serba jalan pintas, serba STRESSSSSS 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816-F0E2-416E-A729-3255DC4197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4BE5F-FCF4-40F0-BEB2-96B20F0936B9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Available Option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gembangan Sistem Informasi dalam bida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SI AKADEMI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SI UM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gembangan Sistem Informasi untuk menunja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SES BELAJAR-MENGAJ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lassroom cour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n-Classroom cour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aboratory cour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6D3-0D7C-4D5D-BBE3-DA15AFDD64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46ECD-629C-4531-A638-946AD8FD08A2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ogram Hari In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ssion 1: DISKUSI (BEBAS) tentang SITUASI HARI INI berkaitan dengan PENGEMBANGAN SISTEM INFORMASI di Program Studi (sebagai unit terkecil dalam Sistem pendidikan Tinggi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motiv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bagai kendala yang akan dihada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bersamaan untuk mengatasi berbagai masal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229-320A-4AAC-9E7E-F7EC853820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B3F16-18DE-410F-865E-55B9CB607F6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ogram Hari Ini (lanjutan)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ssion 2: Pengembangan Sistem Informasi dalam bida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SI AKADEMI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SI UM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tem administrasi berbasis M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tem administrasi berbasis KOMPU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tem administrasi berbasis JARIN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12C-AB7E-4462-A4B0-8C0335361F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A2CE6-B157-4E4D-A6AC-DF9C9EB2B9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ogram Hari Ini (lanjutan)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ssion 3: Pengembangan Sistem Informasi untuk menunja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SES BELAJAR-MENGAJ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lassroom cour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n-Classroom cour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aboratory cour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75C-89B6-43FA-9CD4-807A8B8181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BFE37-B732-4D32-A243-E46FC5E0A9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2-09-15T07:11:53Z</dcterms:modified>
  <cp:revision>13</cp:revision>
  <dc:subject/>
  <dc:title>PowerPoint Presentation</dc:title>
</cp:coreProperties>
</file>