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4.png" ContentType="image/png"/>
  <Override PartName="/ppt/media/image25.wmf" ContentType="image/x-wmf"/>
  <Override PartName="/ppt/media/RICOCHET.WAV" ContentType="audio/x-wav"/>
  <Override PartName="/ppt/media/image3.wmf" ContentType="image/x-wmf"/>
  <Override PartName="/ppt/media/image33.wmf" ContentType="image/x-wmf"/>
  <Override PartName="/ppt/media/image2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CHIMES.WAV" ContentType="audio/x-wav"/>
  <Override PartName="/ppt/media/image11.wmf" ContentType="image/x-wmf"/>
  <Override PartName="/ppt/media/image20.jpeg" ContentType="image/jpeg"/>
  <Override PartName="/ppt/media/image7.wmf" ContentType="image/x-wmf"/>
  <Override PartName="/ppt/media/image21.jpeg" ContentType="image/jpeg"/>
  <Override PartName="/ppt/media/image32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image3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F7C-1DD2-4926-A9EB-D2B83CB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6E4-3400-4F6B-8423-B237BE8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9F7-CD0B-418A-8E4B-15F4BBF2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FBC-1487-4631-BCCF-92B54E25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B5A2-87C6-4D15-ABE0-F12719F3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89BE-EE8E-4A99-980D-447A1973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17F-3BDA-4ADA-9BE7-E76D623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0DB5-4C67-4945-A324-BFE79A6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3E31-0783-47C4-9E59-67D32751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D6A1-CB0D-4D55-A96E-3145613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51C5-8A8E-4389-BE91-2D5CC6BD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873-AC00-4E61-BD1D-39EDF36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A25-269A-4858-9C14-1AA1210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41FF-7F9A-4056-AFB1-08D9713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B6EE-06E8-46A2-9A08-618A2F3A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375-0A54-43A3-A2B4-1F6F78AB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880-52CF-496B-8023-51391F25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8AB-B863-4CAF-BE3E-EC6562C2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D35-47F0-42A0-A41E-F431FE1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948-61CF-484F-B202-2DCE1597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912-2361-4784-8DEC-8BC3188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AE2-F9C4-4F84-B599-003FC72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D67-3B29-4431-ADF5-63B7914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660-C53F-4733-9376-B8017D54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D45A-F8C1-4518-B4FC-AB528391CD5E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D6A-7069-4EF9-84A7-07953E86EE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CC6-CDB2-4320-B847-FCFAB902AD99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451-8DC8-47BF-B8CE-9E1FDC9E08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audio" Target="../media/CASHREG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408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eknologi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Pendidika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hiza S. Sadj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urusan Teknik Elektro Fakultas Tek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NIVERSITAS HASANUDDIN Makass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3674-7B21-4BF7-BFB7-00A2DA151F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943CBD-6CB5-492D-82B1-510D4022AF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ari Hiroshima-Nagasak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e WTC 911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mpai Bom di Bali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…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 dan Makassa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……………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gressi AS dan sekutunya ke IRA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D78-6328-4884-8B92-14D58C7F47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98026-9754-4AC5-8466-98B1CF435B17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empus Sans ITC"/>
              </a:rPr>
              <a:t>Sekilas Sejarah Peradab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752480"/>
          <a:ext cx="8381880" cy="4019760"/>
        </p:xfrm>
        <a:graphic>
          <a:graphicData uri="http://schemas.openxmlformats.org/drawingml/2006/table">
            <a:tbl>
              <a:tblPr/>
              <a:tblGrid>
                <a:gridCol w="2793960"/>
                <a:gridCol w="26161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F43-8B7C-4B1C-AC54-10E8850894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46F38-02B2-4B60-9803-DD47ACC757F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SITUASI HARI I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</a:rPr>
              <a:t>Gambaran situasi GLOBAL masa kini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Persaingan Global (yang sudah usai?) di era pasar beb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Meningkatnya kekerasan dan kerusuh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Bencana alam di mana-mana, musibah…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-506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cepat, serba jalan pintas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serba  STRESSSSSS ………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1A6-BB9F-409A-B620-547842F42F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2D595-4C02-41E1-9B75-57D37EB48C6D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815-ED66-4A11-9170-F08C613C318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9335A-CB2B-49F8-A40A-0D8555DC0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6EF-BEE9-4EB9-A412-294448005F7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F1806-FF04-421C-9E80-A770E6AB986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51C-DE56-4DAA-BC34-43BA2CC7D9F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798E5-9098-43AC-8C60-19BB40C5C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empus Sans ITC"/>
              </a:rPr>
              <a:t>ERA INFORMASI GLOBAL 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200b5b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806-B45E-45FB-8236-B783BA1FF01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D1C96-8E78-4D3C-B8DD-16B8E98BDCFB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C82-8FE5-4B1E-B39F-70AAD5DB936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933AB-8ADA-47A8-9E45-15BEFBCA0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321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COMPU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Mesin Ketik Canggih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HIBURAN: Games, VC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Lemari ARSIP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KOMUNIK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..... Alat Bantu ADMINISTRASI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7957B-2386-47C8-902E-ACBD3D52F946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"/>
              </a:rPr>
              <a:t>PENDIDIKAN 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"/>
            <a:ext cx="7010280" cy="6400800"/>
          </a:xfrm>
          <a:prstGeom prst="ellipse">
            <a:avLst/>
          </a:prstGeom>
          <a:noFill/>
          <a:ln w="381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7432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PROSES BELAJAR-MENGAJ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657600" y="3657600"/>
          <a:ext cx="1600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65760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048120" y="1828800"/>
          <a:ext cx="17715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828800"/>
                    <a:ext cx="1771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19920" y="4876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Comic Sans MS"/>
              </a:rPr>
              <a:t>Pendidikan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: FORMAL INFORMAL NON-FOR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6A6-2695-4268-B5EF-8B5A1963B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064A6-7810-49D2-9DF3-936022259E9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572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Next …………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TIK di Perguruan Tingg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D89E-87EA-4D71-8165-AA243ACFB3C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A2D850-60CE-485B-8663-B4329B650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Topik DISKUSI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Pergeseran PARADIGMA Proses BELAJAR-MENGAJA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dari PENGAJARAN ke PEMBELAJAR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EACHING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to</a:t>
            </a:r>
            <a:r>
              <a:rPr b="1" lang="en-US" sz="4000" spc="-1" strike="noStrike">
                <a:solidFill>
                  <a:srgbClr val="eaeaea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LEARN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TEACHER-oriented to STUDENT-centere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Tempus Sans ITC"/>
              </a:rPr>
              <a:t>from INSTRUCTIONAL to EDUCATIONAL Techn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69A-CB0A-4F71-8B34-294C3779B1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A5126-31C2-4904-A0CF-EF8636BD6B5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Teaching is ………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95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empus Sans ITC"/>
              </a:rPr>
              <a:t>about providing opportunities for students </a:t>
            </a:r>
            <a:r>
              <a:rPr b="1" lang="en-US" sz="4800" spc="-1" strike="noStrike">
                <a:solidFill>
                  <a:srgbClr val="eaeaea"/>
                </a:solidFill>
                <a:latin typeface="Tempus Sans ITC"/>
              </a:rPr>
              <a:t>to learn</a:t>
            </a:r>
            <a:r>
              <a:rPr b="0" lang="en-US" sz="6000" spc="-1" strike="noStrike">
                <a:solidFill>
                  <a:srgbClr val="eaeaea"/>
                </a:solidFill>
                <a:latin typeface="Tempus Sans ITC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971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26708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KNOW – how to lea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ABLE TO – learn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empus Sans ITC"/>
                <a:ea typeface="Times New Roman"/>
              </a:rPr>
              <a:t>Learn to BE – the B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…</a:t>
            </a:r>
            <a:r>
              <a:rPr b="1" lang="en-US" sz="2400" spc="-1" strike="noStrike">
                <a:solidFill>
                  <a:srgbClr val="eaeaea"/>
                </a:solidFill>
                <a:latin typeface="Tempus Sans ITC"/>
              </a:rPr>
              <a:t>.. to learn WHAT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0A8-C2C1-43A6-91A2-6F584BB34C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F32C8-CA42-4EC0-9866-B9BEDD208DB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empus Sans ITC"/>
              </a:rPr>
              <a:t>PROSES PEMBELAJAR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676520"/>
            <a:ext cx="7391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5AF-F7A1-4E21-AF40-DB08AF8B549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EB348-6F52-4BEE-AF68-84880279B27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eaching Format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examples)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4B50D-AEF3-42DC-BBC3-FEBB47F5983D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410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Teaching is a </a:t>
            </a:r>
            <a:r>
              <a:rPr b="0" lang="en-US" sz="4400" spc="-1" strike="noStrike" u="sng">
                <a:solidFill>
                  <a:srgbClr val="003399"/>
                </a:solidFill>
                <a:uFillTx/>
                <a:latin typeface="Tempus Sans ITC"/>
              </a:rPr>
              <a:t>SKILL</a:t>
            </a:r>
            <a:r>
              <a:rPr b="0" lang="en-US" sz="4400" spc="-1" strike="noStrike">
                <a:solidFill>
                  <a:srgbClr val="003399"/>
                </a:solidFill>
                <a:latin typeface="Tempus Sans ITC"/>
              </a:rPr>
              <a:t>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empus Sans ITC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19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F6C5E-2422-4D37-97F6-4413ABB12DAC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Times New Roman"/>
              </a:rPr>
              <a:t>Today’s Situ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1EFB2-3824-4F98-B2F1-DFAA4AEE0AC8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empus Sans ITC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3276720"/>
            <a:ext cx="7010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TIV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TIV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29000" y="33526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TIV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292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CCC-A30A-43FF-A984-AC4FD22DE75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4CBA6-48CB-4D26-96B0-57FB4D337B58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7-30T13:16:45Z</dcterms:modified>
  <cp:revision>19</cp:revision>
  <dc:subject/>
  <dc:title>PowerPoint Presentation</dc:title>
</cp:coreProperties>
</file>