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DF5-18CE-47FE-A426-99C9A6AA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D73-2117-47AC-8ED5-2744A2DC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A88-2259-48B8-A8AA-1744492A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0F5-0638-4AFF-B88F-C56FE451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8BF3-7756-40EE-A516-D925BE1E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A39D-EC3F-4792-A128-D47B7DC1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44E7-4B59-4E8A-BF9A-03EB5BF2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F58E-34DB-4D71-A6E7-92C9C4A1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ED31-1083-4F60-A347-D1C64B2B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BEFC-AAD5-4AFB-A473-7570E3D2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320F-D925-4EF1-813A-036DEDA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869-8C89-4F5C-8F8C-A3BC014A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8AD4-3BDE-4A58-9D23-0D4AEEB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E693-8B6C-4884-A78C-C56363C7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DBD4-993A-43E8-A24F-86A5016A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4C77-218D-480E-BA6A-6F9A5DF4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99B2-2D39-4296-A7CD-921CD48D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82C-8E3A-4E06-B23B-732D244C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778-B324-4702-B5B8-9BE7962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AFE-63EB-49E8-A0EF-633881F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865-F413-4C79-B9AA-692C24B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729-23B2-44CD-B752-3A29ADE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ADD-AA23-452C-B28E-BE09E77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95E-EBD3-4710-BCA3-A1CBEC4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8ED8-0C68-4B25-AE04-7F1E4F84C0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7612-9024-4DB9-93C5-A5BD59FE1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F9B1-9A43-49CE-9A7D-A1C2199DE990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73BD-AA23-482A-82ED-4B9182F318C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Konsentrasi</a:t>
            </a:r>
            <a:br>
              <a:rPr sz="4000"/>
            </a:b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TEKNIK KOMPUTER,</a:t>
            </a:r>
            <a:br>
              <a:rPr sz="4000"/>
            </a:b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KENDALI</a:t>
            </a:r>
            <a:br>
              <a:rPr sz="4000"/>
            </a:b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dan </a:t>
            </a:r>
            <a:br>
              <a:rPr sz="4000"/>
            </a:br>
            <a:r>
              <a:rPr b="0" lang="en-US" sz="4000" spc="-1" strike="noStrike">
                <a:solidFill>
                  <a:srgbClr val="786950"/>
                </a:solidFill>
                <a:latin typeface="Times New Roman"/>
              </a:rPr>
              <a:t>ELEKTRONIKA</a:t>
            </a:r>
            <a:endParaRPr b="0" lang="en-US" sz="4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Rhiza  S. Sadjad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13F4-D7DF-4F46-98DB-A2071072F0F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B58B6E-078C-4B16-8FA9-ADBDB3A98CAB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guasai pemakaian paket-paket perangkat-lunak komputer (misalny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LAB/Simulin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CA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Workben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EWB]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 lain-lain) untuk pemodelan dan simulasi masalah-masalah Teknik Elektro khususnya dan masalah rekayasa pada umumny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BDB-4B56-4DB2-89EF-15D3CD1BB8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211A5-D2B6-4267-A7BA-6C8E8155C5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. Menguasai pemakaian bahasa-bahasa pemrograman yang umumnya digunakan dalam dunia rekayasa, seper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RAN, C++, Visual Basic, Turbo-Pascal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 lain-l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8DC-280A-4985-8241-2CFF2A6EBF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FCA37-7DC4-4CED-8ADA-F164CA9B9A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guasai konsep, rancangan dan aplikasi perangkat-keras komputer digital, dari sistem bilangan, aljabar Boolean, gerbang-gerbang logika, mesin sekuensial sampai sistem digital yang lebih besar dan rumit seper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process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ang akan dikembangkan adalah sistem 8085) serta komputer digital lainny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2AA-F373-4067-A020-B18FECF04A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15BA1-4D47-4963-B4C8-90A4987F9F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guasai perencanaan dan perancangan arsitektur jaringan komputer serta pengetahuan dasar (perangkat lunak dan perangkat keras) untuk meng-administrasi-kan suatu jaringan komputer terpa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C1F-D804-4A05-B83A-2FA3C9466F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D7C7B-0401-4AB6-AECE-61E2AC6688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. Menguasai dasar-dasar Teori Sistem Kendali, baik yang “klasik” maupun “modern” serta aplikasinya dalam analisis dan perancangan sistem kendali. Dikembangkan juga penguasaan skala laboratorium dari sistem-sistem kendali besar yang umumnya digunakan di dunia industri seperti piranti-piranti antar-muk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terfaces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controll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yang akan dikembangkan adalah sis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controll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rbasis 8031/8051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DA, PLC, DC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n sebagainya dalam aplikasi sistem-sistem kendali digital, instrumentasi elektronika dan pengolahan isyarat dig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113-B4B9-481F-A640-65E2A922BB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BA735-1AA1-4358-9A02-4C6CFED835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ASARAN PERILAK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6. Menguasai pengetahuan tentang perancangan, fabrikasi dan aplikasi berbagai piran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vices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rangkai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ircuits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an sis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ystem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elektronika dan mikroelektron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rmasuk penggunaan paket-paket perangkat lun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DL dan Veri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design tools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innya untuk merancang tata-let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ay-out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angkaian terintegra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F43-D30C-405E-B3D8-DB58288CE1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36BCA-2975-4241-B8F6-DC1F5A2804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urusan Teknik Elektro FTU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909C-2147-4306-A2DB-53CEB5D773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C078EF-102E-485F-8C3A-57A2958F09A1}" type="datetime1">
              <a:rPr lang="en-US"/>
              <a:t>07/29/26</a:t>
            </a:fld>
          </a:p>
        </p:txBody>
      </p:sp>
    </p:spTree>
  </p:cSld>
  <p:transition spd="slow" advTm="31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6-08-26T01:38:35Z</dcterms:modified>
  <cp:revision>120</cp:revision>
  <dc:subject/>
  <dc:title>PowerPoint Presentation</dc:title>
</cp:coreProperties>
</file>