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023A-92CB-4E9F-8290-2659B5BAB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F145-43B5-4452-AA52-481B2F82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E740-22CA-47AF-8FB2-FD5762633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B9F5-70F7-41B6-B892-CBD9A81F8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C608-A61C-4CDD-9B8F-0765D464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9E01-F8A5-4A93-A729-3E0621E6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368E-8A06-4750-95D6-278D9930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0F81-C16E-4BF5-941B-FDB9EC09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30C4-429E-4226-B9E4-FEC654C8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67CA-C159-4F8E-A7EF-9E9DBC89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E957-6CAB-4714-B4DE-AE2B6B9A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0B1A-D9EF-414E-957D-516B2CED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E987-0189-4A78-A050-BDA3D4FD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A6BD-7FED-455B-837D-6DF78027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EB8F-5E18-4E5D-8CF7-AC642DC0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77DC-473A-4590-BD07-020F60FCD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EA5D-81DC-4127-97B1-FDDE000B9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E339-9AE9-4C9E-9845-7CC92EAC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F183-FFF9-4A80-9711-9633DFE4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3F9E-9C12-47D9-9B7C-6603BEC6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8520-ED78-4B69-BB7A-019DA7A3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3D49-01A4-44E3-A4E4-1B41E6BD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2CAD-36E4-482D-A81C-61B8F166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6615-45F4-4B5C-838A-05C082C5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119A-9C77-4E02-AF0A-5CE9BF9CBBC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029A-6DBF-40AA-9DE6-3C364C32B4C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1.jpe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876600" cy="9525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914400" y="1523880"/>
            <a:ext cx="7315200" cy="6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ogram Studi Teknik Elektro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828800" y="2590920"/>
            <a:ext cx="556272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Jurusan Elektroteknik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99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752480" y="4800600"/>
            <a:ext cx="5738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Universitas Hasanuddin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Kurikulu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takuliah Dasar Umu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takuliah Tahun Pertama Bersam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takuliah Teknik Elektr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takuliah Keahli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takuliah Pilihan (Penunjang Keahlia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7696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4c3aa"/>
                </a:solidFill>
                <a:latin typeface="Arial"/>
              </a:rPr>
              <a:t>Jurusan Elektroteknik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8766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9" dur="20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9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4c3aa"/>
                </a:solidFill>
                <a:latin typeface="Arial"/>
              </a:rPr>
              <a:t>Jurusan Teknik Elektr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filiasi Dengan Industri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L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C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ertamin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T. TELKOM, Tb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T. Indos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T. LEN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33520" y="5181480"/>
            <a:ext cx="79628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ink and Match Uni dan Industri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8766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7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0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50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50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83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Jurusan Elektroteknik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152280" y="106668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3"/>
          <a:stretch/>
        </p:blipFill>
        <p:spPr>
          <a:xfrm>
            <a:off x="990720" y="4191120"/>
            <a:ext cx="3581280" cy="24382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4"/>
          <a:stretch/>
        </p:blipFill>
        <p:spPr>
          <a:xfrm>
            <a:off x="7924680" y="228600"/>
            <a:ext cx="8766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2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7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Sampai Ketemu di Perkuliahan Teknik Elektro UNHAS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4038480" cy="358164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5886360" y="2552760"/>
            <a:ext cx="241956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erima kasi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9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4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VISI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: Program Studi Teknik Elektro PT-UNHAS adalah menjadi Pusat Pengembangan dan Penerapan Teknologi Elektroteknik dan menjadi suatu lembaga pendidikan tinggi keteknikan yang terkemuka di negeri ini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ISI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Program Studi Teknik Elektro PT-UNHAS adalah menghasilkan lulusan propesional yang mampu mengembangkan sendiri keterampilan teknis dan pengetahuannya, sehingga mampu menyesuaikan diri dengan perkembangan teknolog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77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77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Overview UNHAS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HAS terdiri atas 13 Fakult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akultas Teknik terdiri atas Jurus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knik Elektr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knik Sipi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knik Mesi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knik Arsitektu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knik Geolog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knik Perkapal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ektroteknik memiliki jumlah mahasiswa 708 + Reso 288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5227560" y="1762200"/>
            <a:ext cx="2879640" cy="18651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724280" y="3809880"/>
            <a:ext cx="4038840" cy="23623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924680" y="228600"/>
            <a:ext cx="8766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9" dur="500"/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Overview UNHAS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has memiliki asrama bagi mahasiswa yg tdk berdomisili di makassa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sekitar kampus juga terdapat banyak kos2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3505320" cy="37335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7924680" y="228600"/>
            <a:ext cx="8766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7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Overview UNHAS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0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rdapat fasilitas perpustakaan lengkap (Pusat dan Jurusan) serta pusat informasi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5911920" y="1600200"/>
            <a:ext cx="2927160" cy="31240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1523880" y="3733920"/>
            <a:ext cx="4191120" cy="26463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7924680" y="228600"/>
            <a:ext cx="8766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5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Overview UNHAS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has memiliki auditorium utk pertemuan kemahasiswaa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lengkapi dengan sport cen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rta ada pusat konsel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5076720" y="1600200"/>
            <a:ext cx="3179880" cy="21891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5029200" y="3962520"/>
            <a:ext cx="3276720" cy="22860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685800" y="4572000"/>
            <a:ext cx="3657600" cy="22096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7924680" y="228600"/>
            <a:ext cx="8766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4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c3aa"/>
                </a:solidFill>
                <a:latin typeface="Arial"/>
              </a:rPr>
              <a:t>Jurusan Elektroteknik</a:t>
            </a:r>
            <a:br>
              <a:rPr sz="4000"/>
            </a:br>
            <a:r>
              <a:rPr b="1" lang="en-US" sz="3200" spc="-1" strike="noStrike">
                <a:solidFill>
                  <a:srgbClr val="c4c3aa"/>
                </a:solidFill>
                <a:latin typeface="Arial"/>
              </a:rPr>
              <a:t>Ketua Jurusan Ir. Andani Achmad MT</a:t>
            </a:r>
            <a:endParaRPr b="0" lang="en-US" sz="32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334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erdiri atas 3 sub-program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knik Energi (TE)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1963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Ketua : Ir. Toyib Raharjo MS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knik Telekomunikasi dan Informasi (TT)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198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Ketua : Ir. Dewiani  M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knik Komputer / Kendali / Elektronika (TK)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1995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Ketua 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r.Ir. H. Riza S Sadjaad MSE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asca Sarjana 199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KPS 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r.Ir. Salama Manjang M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ahun 2007 Program Teknik Informatik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6"/>
          <a:stretch/>
        </p:blipFill>
        <p:spPr>
          <a:xfrm>
            <a:off x="5486400" y="1981080"/>
            <a:ext cx="3505320" cy="38102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7"/>
          <a:stretch/>
        </p:blipFill>
        <p:spPr>
          <a:xfrm>
            <a:off x="7924680" y="228600"/>
            <a:ext cx="8766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3" dur="2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2" dur="2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77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" dur="77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8" dur="77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0" dur="77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6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Jurusan Elektroteknik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empunyai  54  Dose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fessor   :   3  ora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ktror     :   3  Ora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ster      :  37 Ora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1            :  11 Orang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kolah Program Doktor : LN 9 / DN 3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8766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4c3aa"/>
                </a:solidFill>
                <a:latin typeface="Arial"/>
              </a:rPr>
              <a:t>Jurusan Elektroteknik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empunyai 13 Laboratorium 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istrik Das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ley dan Pengukur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esin Listri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stalasi Listrik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gangan Tingg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ransmisi dan Distribusi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ektronika Day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lekomunikasi Radio &amp; Microwa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lematik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ektronika diva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Kontr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Komput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rangkat Luna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8766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3" dur="2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900" fill="hold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2" dur="2000"/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3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900" fill="hold"/>
                                        <p:tgtEl>
                                          <p:spTgt spid="3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3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03:56:59Z</dcterms:created>
  <dc:creator> naufal</dc:creator>
  <dc:description/>
  <dc:language>en-US</dc:language>
  <cp:lastModifiedBy>ADMIN</cp:lastModifiedBy>
  <dcterms:modified xsi:type="dcterms:W3CDTF">2006-08-25T22:12:14Z</dcterms:modified>
  <cp:revision>26</cp:revision>
  <dc:subject/>
  <dc:title>Slide 1</dc:title>
</cp:coreProperties>
</file>