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297-6A1A-42C5-B3F6-CFC86B81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23F-AB68-476D-9631-ED8B8ECE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868-23D9-44E3-B6BB-A39F1AA1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481-C48D-4EE8-B75E-908855A6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AAE-3E2F-4227-9129-FF63C712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07A-98C9-4B2B-8F1E-4495C2E4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3D9-DFD0-4BDA-BDB1-61C333E7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1BC5-0BE9-4125-A944-11BD75A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D667-C88C-4BEA-A251-F0D80F8C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280D-F105-429F-9791-27035ECE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4E35-7214-443B-99DB-B8884F4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AEE-84FB-4F4E-9C10-9A485E53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4AB4-DE7C-47F0-811E-99AA433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C86-5FD1-45B0-AD2F-7C75BB8B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F1BE-58AD-4A8D-835E-6183266E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113E-DE03-4961-B44A-8D65F788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9173-9CCD-457B-9DE1-CF00A2D6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B09-955E-40C9-9719-E6E5825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D86-CE8E-46F9-B853-C5C4445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E041-D52B-4278-BD44-2CB6B6F5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8D7-7969-41FE-B947-AA859CB5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116-4B7B-4670-AD8B-712BB2F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87E-88F3-4BF2-80FE-D249A79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685-31FD-4642-ADCC-FE13699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6E38-E1F5-457B-9208-72F354E5EC1D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DCC6-68CA-42ED-B370-EF53504959A5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512E-F05E-4748-BEEB-42F160A7749F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7C15-D18F-49D4-8641-6719F57C15FA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tani.ac.id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INFORMATIKA 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DI 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Arial"/>
                <a:ea typeface="Times New Roman"/>
              </a:rPr>
              <a:t>AKADEMIA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hiza@unhas.ac.id     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78AD-7D0B-402B-893F-77182CF6BCB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BCFFA74-E114-42E1-BEA9-D8560BBE18AF}" type="datetime1">
              <a:rPr lang="en-US"/>
              <a:t>07/28/26</a:t>
            </a:fld>
          </a:p>
        </p:txBody>
      </p:sp>
    </p:spTree>
  </p:cSld>
  <p:transition spd="slow" advTm="3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layanan INTERNET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atis” dalam kam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ilita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untuk staf, mahasiswa dan alumni (Nama_pemakai@bi.unhas.ac.i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silita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brows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akses ke Internet) yang cukup cep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bsi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fficial Homepag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http://www.unhas.ac.id/</a:t>
            </a:r>
            <a:r>
              <a:rPr b="0" lang="en-US" sz="2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/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) yang dapat di-akses DARI seluruh penjuru dunia, dan selalu di-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updat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etiap sa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n lain-lain …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9AC-4CD8-4E24-95E4-AB16A910F8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C3D00-5255-4190-B829-1BA6CB40F2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stem INFORMASI Terpad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MANAJEME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Akademi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Keuang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Kemahasiswa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Manajemen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ss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SD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PENJAMINAN MUTU, MONEV, AKREDITASI, HIBAH KOMPETI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STEM INFORMASI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N-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15F-BE88-40BF-A3D3-188223334F8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14661-6901-4F08-B8C7-D08EA7C22C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E-learning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 dan 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Distant Learning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tudent-centered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self-acces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belajar mandiri, sumber tak terba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ultimedia-bas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Production House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gital Libra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lajar secara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on-lin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, credit earning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Learning Management Syst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C41-B8BD-408F-99E9-B6DE7B1E5C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2B023-983E-4143-9B96-04B48EA07C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94DA-DB8E-4315-97A5-2C65E11EF46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FDDCA8-29FA-4BE7-9FEB-3BB5FA7C63D9}" type="datetime1">
              <a:rPr lang="en-US"/>
              <a:t>07/28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EA7-A69E-434C-A25E-D4746057CE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9A722-B4D1-43AD-B181-BE47F5770052}" type="datetime1">
              <a:rPr lang="en-US"/>
              <a:t>07/28/26</a:t>
            </a:fld>
          </a:p>
        </p:txBody>
      </p:sp>
    </p:spTree>
  </p:cSld>
  <p:transition spd="slow" advTm="6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6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08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EB2-9AB1-484C-B159-FFCC7CF5C1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B749F-E3D9-4A8A-AB5D-0B28F0C14B77}" type="datetime1">
              <a:rPr lang="en-US"/>
              <a:t>07/28/26</a:t>
            </a:fld>
          </a:p>
        </p:txBody>
      </p:sp>
    </p:spTree>
  </p:cSld>
  <p:transition spd="slow" advTm="25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attack03" descr=""/>
          <p:cNvPicPr/>
          <p:nvPr/>
        </p:nvPicPr>
        <p:blipFill>
          <a:blip r:embed="rId1"/>
          <a:stretch/>
        </p:blipFill>
        <p:spPr>
          <a:xfrm>
            <a:off x="0" y="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0" name="wtc_collapse1" descr=""/>
          <p:cNvPicPr/>
          <p:nvPr/>
        </p:nvPicPr>
        <p:blipFill>
          <a:blip r:embed="rId2"/>
          <a:stretch/>
        </p:blipFill>
        <p:spPr>
          <a:xfrm>
            <a:off x="3809880" y="106668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1" name="wtc_collapse2" descr=""/>
          <p:cNvPicPr/>
          <p:nvPr/>
        </p:nvPicPr>
        <p:blipFill>
          <a:blip r:embed="rId3"/>
          <a:stretch/>
        </p:blipFill>
        <p:spPr>
          <a:xfrm>
            <a:off x="6676920" y="3219480"/>
            <a:ext cx="2467080" cy="3638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05360" y="380880"/>
            <a:ext cx="2438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E47-A326-4D20-87CB-6D628D3AD36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C4475-F74D-4FF9-A41E-F6D563206C38}" type="datetime1">
              <a:rPr lang="en-US"/>
              <a:t>07/28/26</a:t>
            </a:fld>
          </a:p>
        </p:txBody>
      </p:sp>
    </p:spTree>
  </p:cSld>
  <p:transition spd="slow" advTm="5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tc_collapse3" descr=""/>
          <p:cNvPicPr/>
          <p:nvPr/>
        </p:nvPicPr>
        <p:blipFill>
          <a:blip r:embed="rId1"/>
          <a:stretch/>
        </p:blipFill>
        <p:spPr>
          <a:xfrm>
            <a:off x="304920" y="1146240"/>
            <a:ext cx="7543800" cy="5711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86600" y="304920"/>
            <a:ext cx="2057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94F-5AD2-4CE3-B322-77ECEF23207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713CF-4E2C-4079-B4B8-89532051AB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 spd="slow" advTm="6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43000" y="6840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40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A6BA-490F-4791-9471-67B4CB214CD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8F465-3A6D-44F9-981C-489082FA30C7}" type="datetime1">
              <a:rPr lang="en-US"/>
              <a:t>07/28/26</a:t>
            </a:fld>
          </a:p>
        </p:txBody>
      </p:sp>
    </p:spTree>
  </p:cSld>
  <p:transition spd="slow" advTm="6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3660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5608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6792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4343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7913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Contoh: dosen, gurubesar, sekretaris, manajer, 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 advTm="7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TEKNOLOGI INFOKOM (</a:t>
            </a:r>
            <a:r>
              <a:rPr b="0" i="1" lang="en-US" sz="2400" spc="-1" strike="noStrike">
                <a:solidFill>
                  <a:srgbClr val="ebd189"/>
                </a:solidFill>
                <a:latin typeface="Arial"/>
              </a:rPr>
              <a:t>ICT</a:t>
            </a: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di </a:t>
            </a:r>
            <a:br>
              <a:rPr sz="2400"/>
            </a:br>
            <a:r>
              <a:rPr b="0" lang="en-US" sz="2400" spc="-1" strike="noStrike">
                <a:solidFill>
                  <a:srgbClr val="ebd189"/>
                </a:solidFill>
                <a:latin typeface="Arial"/>
              </a:rPr>
              <a:t>PERGURUAN TINGGI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523880"/>
            <a:ext cx="8610480" cy="5334120"/>
            <a:chOff x="304920" y="1523880"/>
            <a:chExt cx="8610480" cy="5334120"/>
          </a:xfrm>
        </p:grpSpPr>
        <p:grpSp>
          <p:nvGrpSpPr>
            <p:cNvPr id="140" name=""/>
            <p:cNvGrpSpPr/>
            <p:nvPr/>
          </p:nvGrpSpPr>
          <p:grpSpPr>
            <a:xfrm>
              <a:off x="304920" y="1523880"/>
              <a:ext cx="8610480" cy="5334120"/>
              <a:chOff x="304920" y="1523880"/>
              <a:chExt cx="8610480" cy="5334120"/>
            </a:xfrm>
          </p:grpSpPr>
          <p:sp>
            <p:nvSpPr>
              <p:cNvPr id="141" name=""/>
              <p:cNvSpPr/>
              <p:nvPr/>
            </p:nvSpPr>
            <p:spPr>
              <a:xfrm>
                <a:off x="685800" y="1523880"/>
                <a:ext cx="8010360" cy="1859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19320" y="1554120"/>
                <a:ext cx="7162560" cy="65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54"/>
                    </a:solidFill>
                    <a:latin typeface="Arial Narrow"/>
                  </a:rPr>
                  <a:t>PENGELOLA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54"/>
                    </a:solidFill>
                    <a:latin typeface="Arial Narrow"/>
                  </a:rPr>
                  <a:t>SISTEM INFORMASI</a:t>
                </a:r>
                <a:endParaRPr b="0" lang="en-US" sz="2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10040" y="2438280"/>
                <a:ext cx="1257120" cy="57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Pelayanan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INTERNET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562720" y="2413080"/>
                <a:ext cx="1447560" cy="89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54"/>
                    </a:solidFill>
                    <a:latin typeface="Verdana"/>
                  </a:rPr>
                  <a:t>Sistem INFORMASI TERPADU</a:t>
                </a:r>
                <a:endParaRPr b="0" lang="en-US" sz="1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24560" y="2438280"/>
                <a:ext cx="125748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E-Learning </a:t>
                </a: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dan </a:t>
                </a: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Distance Learning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6040" y="220968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36600" y="2324160"/>
                <a:ext cx="681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1036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9584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4920" y="3086280"/>
                <a:ext cx="1846080" cy="12110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Sub-Bag Teknik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Teknisi Kepala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000054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54"/>
                    </a:solidFill>
                    <a:latin typeface="Verdana"/>
                  </a:rPr>
                  <a:t>Teknisi </a:t>
                </a:r>
                <a:r>
                  <a:rPr b="0" i="1" lang="en-US" sz="1000" spc="-1" strike="noStrike">
                    <a:solidFill>
                      <a:srgbClr val="000054"/>
                    </a:solidFill>
                    <a:latin typeface="Verdana"/>
                  </a:rPr>
                  <a:t>Hardwar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000054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54"/>
                    </a:solidFill>
                    <a:latin typeface="Verdana"/>
                  </a:rPr>
                  <a:t>Teknisi</a:t>
                </a:r>
                <a:r>
                  <a:rPr b="0" i="1" lang="en-US" sz="1000" spc="-1" strike="noStrike">
                    <a:solidFill>
                      <a:srgbClr val="000054"/>
                    </a:solidFill>
                    <a:latin typeface="Verdana"/>
                  </a:rPr>
                  <a:t> Softwar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lvl="1" marL="174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680" y="342900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51000" y="3086280"/>
                <a:ext cx="1714680" cy="1117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Sub-Bag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Adm. &amp; Keu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Ka-Sub-Bag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+STAF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51000" y="354348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3660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5128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2971800"/>
                <a:ext cx="2057400" cy="13716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86200" y="3200400"/>
                <a:ext cx="125748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Internet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&amp; 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54"/>
                    </a:solidFill>
                    <a:latin typeface="Verdana"/>
                  </a:rPr>
                  <a:t>Jaringan Kampus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5181480" y="3154320"/>
                <a:ext cx="2057400" cy="1371600"/>
                <a:chOff x="5181480" y="3154320"/>
                <a:chExt cx="2057400" cy="1371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181480" y="3154320"/>
                  <a:ext cx="2057400" cy="13716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38680" y="3497040"/>
                  <a:ext cx="1257120" cy="6858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54"/>
                      </a:solidFill>
                      <a:latin typeface="Verdana"/>
                    </a:rPr>
                    <a:t>Sistem Informasi Terpadu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1236600" y="5715000"/>
                <a:ext cx="7221600" cy="11430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81280" y="4525920"/>
                <a:ext cx="34290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DIGITAL LIBRARY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79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370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942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514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0086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65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77120" y="4906800"/>
                <a:ext cx="2036520" cy="292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54"/>
                    </a:solidFill>
                    <a:latin typeface="Verdana"/>
                  </a:rPr>
                  <a:t>Production House</a:t>
                </a:r>
                <a:endParaRPr b="0" lang="en-US" sz="12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6600" y="5364000"/>
                <a:ext cx="343080" cy="457200"/>
              </a:xfrm>
              <a:prstGeom prst="upArrow">
                <a:avLst>
                  <a:gd name="adj1" fmla="val 50000"/>
                  <a:gd name="adj2" fmla="val 333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7391520" y="3230640"/>
                <a:ext cx="1523880" cy="960480"/>
                <a:chOff x="7391520" y="3230640"/>
                <a:chExt cx="1523880" cy="9604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391520" y="3230640"/>
                  <a:ext cx="1523880" cy="96048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729920" y="3422520"/>
                  <a:ext cx="1072080" cy="511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54"/>
                      </a:solidFill>
                      <a:latin typeface="Arial Narrow"/>
                    </a:rPr>
                    <a:t>Self Learning Facilities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705720" y="3611520"/>
                <a:ext cx="1523880" cy="914400"/>
                <a:chOff x="6705720" y="3611520"/>
                <a:chExt cx="1523880" cy="9144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705720" y="3611520"/>
                  <a:ext cx="1523880" cy="9144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044120" y="3794400"/>
                  <a:ext cx="1072080" cy="4874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000054"/>
                      </a:solidFill>
                      <a:latin typeface="Verdana"/>
                    </a:rPr>
                    <a:t>Learning Management Systems</a:t>
                  </a:r>
                  <a:endParaRPr b="0" lang="en-US" sz="9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608880" y="4457880"/>
                <a:ext cx="1790640" cy="533160"/>
                <a:chOff x="6608880" y="4457880"/>
                <a:chExt cx="1790640" cy="5331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608880" y="4457880"/>
                  <a:ext cx="1790640" cy="53316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006680" y="4564440"/>
                  <a:ext cx="1260000" cy="2840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000054"/>
                      </a:solidFill>
                      <a:latin typeface="Verdana"/>
                    </a:rPr>
                    <a:t>MULTIMEDIA</a:t>
                  </a:r>
                  <a:endParaRPr b="0" lang="en-US" sz="10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2133720" y="6019920"/>
              <a:ext cx="5562360" cy="495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54"/>
                  </a:solidFill>
                  <a:latin typeface="Verdana"/>
                </a:rPr>
                <a:t>5C: Computer, Communication, Contents, ……………….COMMITMENT and CARE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431-2F2A-4461-9CDA-9900973AF84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C6810-3EA3-48FC-8E6E-300A56F062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6-11-21T00:43:53Z</dcterms:modified>
  <cp:revision>82</cp:revision>
  <dc:subject/>
  <dc:title>PowerPoint Presentation</dc:title>
</cp:coreProperties>
</file>