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E7C-209B-4AEE-BC8E-522B415B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8AE-F55B-4F3A-B9AB-566AC3E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63D-10E5-485E-AA7F-821E60DB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869-B9B3-4000-89F9-07A9D166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3CE8-EA9E-4650-9DFD-42141F64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DC3C-2584-4094-98FC-DE83E63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EA42-FFAE-442A-A891-A257242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1BB-1083-411B-9115-439A278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8D90-6E28-437A-9A54-4F6964F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255C-6267-4128-A8E3-54489BEA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9831-4DF2-4CBE-998C-3093890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07D-E301-405B-A940-A785715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95DF-4979-4E2B-958D-9E82708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9785-EDB7-46F2-B18B-02A61A74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7278-82AC-4382-A415-F6E5EAB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E141-51FF-4D74-AD28-738CFD9A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7386-C9BA-4662-8995-C115653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447-3341-4732-9A54-5F9A025E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BC3-9D13-438B-9C46-F0109EB4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F8F-5B32-4ADC-81B0-29AB9280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E5F-EE1A-47A5-B2BB-8B730A4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335-6548-44D9-B839-18F802A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7F0-EC45-4788-9A8F-E32F214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EAE-6CA2-44B8-87A5-8A9664B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3C51-CE43-4A61-B524-EE20A09282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867-08A5-4BE3-9318-51A0E1A5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CBC-9BA5-43B3-87C6-F3BD0536ECC3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CAE-F3B2-4A1E-8A17-9C61E53591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Selamat Datang 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hasiswa Baru </a:t>
            </a:r>
            <a:br>
              <a:rPr sz="3200"/>
            </a:br>
            <a:r>
              <a:rPr b="0" lang="en-US" sz="3600" spc="-1" strike="noStrike">
                <a:solidFill>
                  <a:srgbClr val="786950"/>
                </a:solidFill>
                <a:latin typeface="Verdana"/>
              </a:rPr>
              <a:t>Fakultas Teknik</a:t>
            </a: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Universitas Hasanuddin</a:t>
            </a:r>
            <a:br>
              <a:rPr sz="3200"/>
            </a:b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MAKASSAR</a:t>
            </a:r>
            <a:br>
              <a:rPr sz="32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Angkatan 2006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8DFB-7909-4EA1-8490-6A9FD06BE7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DB3CE2B-CF18-47EE-BA16-031BD665F70C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3049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irarkhi Akade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D6A-39F1-4ACC-BEDE-3E861E5AC7C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9B1EB-04AA-4565-93AD-026AACC5E9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PROGRAM STUD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Lunak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rikulum, Silabus, GBPP,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P 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 of Procedur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ja Praktek, Tugas Akhir, Seminar,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Prakti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iranti Keras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ang Kelas, Kantor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t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ngan seluruh peralata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ber Daya Manusia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UMANWAR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, Lektor Kepala, Lektor, Assisten Ahli, Assisten Dosen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en Laborato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ua Jurusan, Sekretaris Jurusan, Sekr. Bid. Kemahasiswaan, Ketua Konsentrasi, Kepala Lab,, Ketua Program 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ala Tata Usaha, staf administrasi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bo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naga har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3A4-6304-48D4-B36C-A92C24766E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95083-942B-4616-876F-BB8C221AEE2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203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uasi Hari Ini 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98A-375B-4047-B1D2-FE1A8BE5D1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BFB47-AA9B-4889-8C22-FC8DA85F7C6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Sekilas Sejarah Peradab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828800"/>
          <a:ext cx="8001000" cy="35784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ra Perada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ssue S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istiwa Dahsy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PERTAN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LAHAN TA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REVOLUSI SOSIAL dan KEMERDEK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DUS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ENER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HIROSHIMA NAGAS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INFORM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00"/>
                          </a:solidFill>
                          <a:latin typeface="Verdana"/>
                        </a:rPr>
                        <a:t>WTC 9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89C-FF1E-4741-A2B1-80FE15011A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66C2A-5486-4810-861A-AC081FC79F9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0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212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1BA-2427-4E91-B6B5-C1734545CD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6DA3-9E47-4D59-8592-8C6A94FCA6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214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215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TC 91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246-7F4D-476C-BEF9-FA12F7D9C5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91C0C-336A-4A99-A4FF-4B780BE1282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2A5-FCB9-4942-B9B9-59BCFE93BE7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CDB09-04F8-44C3-A2E9-03D2C2A498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7869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SISI TENAGA KERJ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02D-9E7C-423A-8FD1-809282F37E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F1D1F-A14B-4DD3-BD04-E3E0E4CEF3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4B1-3DE0-47EC-A1DE-D0C5132351B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BCC42-4E8C-4DAF-AC67-9412107E45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219320"/>
            <a:ext cx="6858000" cy="434340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5960" y="647640"/>
            <a:ext cx="0" cy="54864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AMCONFUS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8096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GA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80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 dan Dunia IP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LAM NY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510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A27-E270-4C1A-B537-6A54EE20F9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BB67E-A01E-41D9-ABCC-31E531071A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8840" y="609480"/>
            <a:ext cx="6730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Times New Roman"/>
              </a:rPr>
              <a:t>Pekerja informasi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F08-F3EF-406E-8F12-9E799F1CE6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5A5968-C656-4C3C-ABF9-78C5EC11D1D0}" type="datetime1">
              <a:rPr lang="en-US"/>
              <a:t>07/30/26</a:t>
            </a:fld>
          </a:p>
        </p:txBody>
      </p:sp>
    </p:spTree>
  </p:cSld>
  <p:transition spd="slow" advTm="3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93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DEF-9CF0-4406-8647-9FD18104656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65344-E9B1-4357-BEC2-FF08060231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4876920"/>
            <a:ext cx="152280" cy="304560"/>
          </a:xfrm>
          <a:prstGeom prst="ellipse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E1A-80A6-4CF7-AB8E-CFC6C99F3A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9ED3B-8BA3-4EB4-A6C5-3E1134838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57A-86AE-427D-802D-C37820034BC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127AB-FAA9-4B20-A958-7E2C37913B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37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aff1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AA1-2B09-4E6F-B8C7-8875F79B2C4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1C14-9D57-4EE8-A7B2-94D90FE0DF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5920" y="329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00"/>
                </a:solidFill>
                <a:latin typeface="Times New Roman"/>
              </a:rPr>
              <a:t>Engineering Education……………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2362320"/>
            <a:ext cx="21337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11960" y="1873080"/>
            <a:ext cx="0" cy="4734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481120"/>
            <a:ext cx="12189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057400"/>
            <a:ext cx="2082960" cy="62856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0760" y="2730600"/>
            <a:ext cx="126972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1960" y="2730600"/>
            <a:ext cx="1218960" cy="3999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65360" y="3191040"/>
            <a:ext cx="1930320" cy="35712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21440" y="3187800"/>
            <a:ext cx="152388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83160" y="3530520"/>
            <a:ext cx="111744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11960" y="3587760"/>
            <a:ext cx="1218960" cy="2286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95680" y="3301920"/>
            <a:ext cx="1625760" cy="792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902040"/>
            <a:ext cx="2539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273560"/>
            <a:ext cx="0" cy="28584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4613400"/>
            <a:ext cx="2286000" cy="3538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257720"/>
            <a:ext cx="2463840" cy="79704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99080" y="1530360"/>
            <a:ext cx="1828800" cy="355680"/>
          </a:xfrm>
          <a:prstGeom prst="rect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99080" y="1530360"/>
            <a:ext cx="1828800" cy="35568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394160" y="5302080"/>
            <a:ext cx="1828800" cy="355680"/>
            <a:chOff x="4394160" y="5302080"/>
            <a:chExt cx="1828800" cy="355680"/>
          </a:xfrm>
        </p:grpSpPr>
        <p:sp>
          <p:nvSpPr>
            <p:cNvPr id="167" name=""/>
            <p:cNvSpPr/>
            <p:nvPr/>
          </p:nvSpPr>
          <p:spPr>
            <a:xfrm>
              <a:off x="4394160" y="5302080"/>
              <a:ext cx="1828800" cy="35568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4160" y="5302080"/>
              <a:ext cx="1828800" cy="3556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410080" y="4959360"/>
            <a:ext cx="0" cy="342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6200000">
            <a:off x="5260320" y="1755720"/>
            <a:ext cx="4260960" cy="3352680"/>
          </a:xfrm>
          <a:custGeom>
            <a:avLst/>
            <a:gdLst>
              <a:gd name="textAreaLeft" fmla="*/ 0 w 4260960"/>
              <a:gd name="textAreaRight" fmla="*/ 4261320 w 426096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730760"/>
            <a:ext cx="152388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6B5-6686-44D1-9279-FF786250EA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851D5-571D-464B-B0D5-8FFBDCB970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Verdana"/>
              </a:rPr>
              <a:t>MANAJEME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dosen, mahasiswa, pegaw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CHIN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lat-alat lab, alat bantu pengajaran, komputer, d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mahasiswa b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anggaran, proyek,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lapangan ker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B9F-90E1-4B76-96E8-18A2EF7D4C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A487C-3474-49A4-B306-E20556177D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666880" y="7621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asana Aka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cademic Atmosp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905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9051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ruktural-birok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34290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Fak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4419720"/>
            <a:ext cx="35053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Jur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51460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mpinan Univers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4952880"/>
            <a:ext cx="350496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 Program St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54100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tua-Ketua Konsent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952880"/>
            <a:ext cx="3505320" cy="825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ala-Kepala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BAD-40A2-4E32-8D0F-E46C05192EB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97C99-15F4-418B-9D96-70159C0B92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08-23T16:05:46Z</dcterms:modified>
  <cp:revision>127</cp:revision>
  <dc:subject/>
  <dc:title>PowerPoint Presentation</dc:title>
</cp:coreProperties>
</file>