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16.jpeg" ContentType="image/jpe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7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5317-C9D5-4BB9-ABCD-97861D59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F50A-462E-4C6D-A773-4BCEBAC3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95C7-B0D8-4589-B628-98E9215D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89DB-FEB4-41E4-966A-45E9150B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077C-DA44-468B-B69D-521C6BCF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FAFC-2B98-49C4-B5E9-49740603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9991-A861-4844-8E47-B8987E27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43FF-0EC4-4751-9B63-82A5768A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1F4F-C960-4050-9DC6-7946BCA1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BC16-4550-4EBA-AFEE-5AEAE116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D7D4-9967-4689-B254-76519C04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E647-9A8E-4F93-B76F-225B430E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D51D-98DB-4331-9CAD-C170FDC4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E056-14CE-4F8E-B1D3-744A91FD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6716-31C9-4E38-8278-B8E09C07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5FCE-A964-4D93-9A9F-9088E8C8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D717-9C1C-443D-8735-E600E154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16B2-5913-43B2-8406-5BBB71AD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B56E-44FD-4723-8AD5-B53C45C3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2AD-A276-4C52-AC11-9801CED6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53F3-7230-4E21-99D8-CE3043FA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8C2C-46A0-49E7-8958-636EDEAD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EB57-6AF3-446B-994B-1473734E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6771-93EE-4527-BBC5-983DBA29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E22E-CCF8-4E45-9409-5D0FE2113FE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BCCB-93FF-4EBA-9184-828FCAEC1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EBDE-6E51-48AE-9259-88FA5B51C641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6108-80F3-4DB1-B9A9-B295E30C11E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Verdana"/>
              </a:rPr>
              <a:t>Selamat Datang </a:t>
            </a:r>
            <a:r>
              <a:rPr b="0" lang="en-US" sz="3200" spc="-1" strike="noStrike">
                <a:solidFill>
                  <a:srgbClr val="786950"/>
                </a:solidFill>
                <a:latin typeface="Verdana"/>
              </a:rPr>
              <a:t>Mahasiswa Baru </a:t>
            </a:r>
            <a:br>
              <a:rPr sz="3200"/>
            </a:br>
            <a:r>
              <a:rPr b="0" lang="en-US" sz="3600" spc="-1" strike="noStrike">
                <a:solidFill>
                  <a:srgbClr val="786950"/>
                </a:solidFill>
                <a:latin typeface="Verdana"/>
              </a:rPr>
              <a:t>Fakultas Teknik</a:t>
            </a:r>
            <a:r>
              <a:rPr b="0" lang="en-US" sz="3200" spc="-1" strike="noStrike">
                <a:solidFill>
                  <a:srgbClr val="78695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786950"/>
                </a:solidFill>
                <a:latin typeface="Verdana"/>
              </a:rPr>
              <a:t>Universitas Hasanuddin</a:t>
            </a:r>
            <a:br>
              <a:rPr sz="3200"/>
            </a:br>
            <a:r>
              <a:rPr b="0" lang="en-US" sz="3200" spc="-1" strike="noStrike">
                <a:solidFill>
                  <a:srgbClr val="786950"/>
                </a:solidFill>
                <a:latin typeface="Verdana"/>
              </a:rPr>
              <a:t>MAKASSAR</a:t>
            </a:r>
            <a:br>
              <a:rPr sz="3200"/>
            </a:br>
            <a:r>
              <a:rPr b="0" lang="en-US" sz="4400" spc="-1" strike="noStrike">
                <a:solidFill>
                  <a:srgbClr val="786950"/>
                </a:solidFill>
                <a:latin typeface="Verdana"/>
              </a:rPr>
              <a:t>Angkatan 2006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Rhiza  S. Sadjad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B4A0-2AAB-4933-A04E-4A2EE9316F5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1FE3C51-CA6D-40B6-B561-31B922597291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371600" y="304920"/>
            <a:ext cx="35053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irarkhi Akadem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828800" y="1295280"/>
            <a:ext cx="3200400" cy="449604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9200" y="1295280"/>
            <a:ext cx="3657600" cy="4572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1981080"/>
            <a:ext cx="114300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2666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3505320"/>
            <a:ext cx="3429000" cy="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4572000"/>
            <a:ext cx="4953240" cy="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19810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ektor Kepala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Associate Prof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95680" y="2895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ektor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Assistant Prof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38098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ssisten Ahli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Research Assistant, Teaching Assis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50292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ahasiswa S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Undergraduate Stu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22096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ahasiswa S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Doctorate Stu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30481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ahasiswa S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Graduate Stu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46483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ssisten Lab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Lab. Assistant, Gra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8AEF-FE92-46F8-8FFC-00BC4FF8942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0488B-74EE-457D-A44A-0778E65629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Verdana"/>
              </a:rPr>
              <a:t>PROGRAM STUDI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iranti Lunak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urikulum, Silabus, GBPP, S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P (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tandard of Procedure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rja Praktek, Tugas Akhir, Seminar,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Praktik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iranti Keras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ARDWAR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ang Kelas, Kantor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borator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ngan seluruh peralatann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mber Daya Manusia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UMANWAR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fessor, Lektor Kepala, Lektor, Assisten Ahli, Assisten Dosen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sisten Laborato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tua Jurusan, Sekretaris Jurusan, Sekr. Bid. Kemahasiswaan, Ketua Konsentrasi, Kepala Lab,, Ketua Program D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pala Tata Usaha, staf administrasi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bor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enaga hari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7E15-F9B2-44C4-8408-B10A23336A0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C63F8-DE3E-495F-B7CE-DB41462397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AMDISAST" descr=""/>
          <p:cNvPicPr/>
          <p:nvPr/>
        </p:nvPicPr>
        <p:blipFill>
          <a:blip r:embed="rId1"/>
          <a:stretch/>
        </p:blipFill>
        <p:spPr>
          <a:xfrm>
            <a:off x="2236680" y="1981080"/>
            <a:ext cx="6907320" cy="4876920"/>
          </a:xfrm>
          <a:prstGeom prst="rect">
            <a:avLst/>
          </a:prstGeom>
          <a:ln w="0">
            <a:noFill/>
          </a:ln>
        </p:spPr>
      </p:pic>
      <p:pic>
        <p:nvPicPr>
          <p:cNvPr id="201" name="AMCONFUS" descr=""/>
          <p:cNvPicPr/>
          <p:nvPr/>
        </p:nvPicPr>
        <p:blipFill>
          <a:blip r:embed="rId2"/>
          <a:stretch/>
        </p:blipFill>
        <p:spPr>
          <a:xfrm>
            <a:off x="0" y="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uasi Hari Ini ………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696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ri Hiroshima-Nagasak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 WTC 911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ai Bom di Bal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………………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dan Makassa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BOMB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159-78F8-4043-B4E1-E36D618B03F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8A14A-66E3-4404-8D58-81970427BEB3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8483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Sekilas Sejarah Peradaba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762120" y="1828800"/>
          <a:ext cx="8001000" cy="3578400"/>
        </p:xfrm>
        <a:graphic>
          <a:graphicData uri="http://schemas.openxmlformats.org/drawingml/2006/table">
            <a:tbl>
              <a:tblPr/>
              <a:tblGrid>
                <a:gridCol w="2619360"/>
                <a:gridCol w="2619360"/>
                <a:gridCol w="2762280"/>
              </a:tblGrid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Era Peradab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Issue Sen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Peristiwa Dahsy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PERTAN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LAHAN TAN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REVOLUSI SOSIAL dan KEMERDEKA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INDUST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ENER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HIROSHIMA NAGASA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INFORMA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INFORMA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WTC 9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3356-7A16-4A66-AA7A-98579E13DB9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923EC-3FF2-4093-AAD2-9FB49D35E45F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TC 91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08" name="attack01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attack10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210" name="attack12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0EDF-6F76-4CCE-9E89-5B9E2B1CF63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D1166-0377-415B-B22C-2BA2E83E50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attack03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212" name="wtc_collapse1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213" name="wtc_collapse2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TC 91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5186-1F21-4DD7-8743-C42C09D0B55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46256-8802-4746-B42B-D6F52C4986BA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wtc_collapse3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B92D-7B56-4992-A44F-5334BABD1BAD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886D3-1569-4EA2-98E0-7C5230D9E8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762120" y="1752480"/>
            <a:ext cx="3886200" cy="2971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281952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78695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762120"/>
            <a:ext cx="3810240" cy="33526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144792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9828800">
            <a:off x="3429000" y="19047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9544400">
            <a:off x="3352680" y="3504960"/>
            <a:ext cx="3299040" cy="709560"/>
          </a:xfrm>
          <a:custGeom>
            <a:avLst/>
            <a:gdLst>
              <a:gd name="textAreaLeft" fmla="*/ 515520 w 3299040"/>
              <a:gd name="textAreaRight" fmla="*/ 2886840 w 329904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00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SISI TENAGA KERJA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3DAC-C721-46A3-886B-0EA7E2D7920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42933-0AF9-472F-831E-508C7168C7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ahoma"/>
              </a:rPr>
              <a:t>DUNIA INDUST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stri J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k: Pelayan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o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Per-Bank-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Pariwis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Telekomunik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Jasa Transport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29200" y="1676520"/>
            <a:ext cx="380988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stri Manufa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k: Bar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o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S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Miny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Tamb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(peralatan) Telekomunik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6EA3-C36A-43C2-B307-C519BD3F773A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AC4E5-9248-49F6-ACC1-E1D1A7CB4C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28800" y="1219320"/>
            <a:ext cx="6858000" cy="434340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95960" y="647640"/>
            <a:ext cx="0" cy="548640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AMCONFUS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1380960" cy="2971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209680" y="2666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LAM GAI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380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usia dan Dunia IP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2666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LAM NY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5105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U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204-7AF4-4CB7-9D4D-A942BC0036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5B1D9-4F78-40DA-90CD-1F2268559F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486400"/>
            <a:ext cx="70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 sekretaris dan manajer ……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18840" y="609480"/>
            <a:ext cx="6730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00"/>
                </a:solidFill>
                <a:latin typeface="Times New Roman"/>
              </a:rPr>
              <a:t>Pekerja informasi: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5C65-55A4-4AED-BB6C-614DEA8A2BA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F629AC6-E0F9-4BEE-8B79-3818324CB759}" type="datetime1">
              <a:rPr lang="en-US"/>
              <a:t>07/30/26</a:t>
            </a:fld>
          </a:p>
        </p:txBody>
      </p:sp>
    </p:spTree>
  </p:cSld>
  <p:transition spd="slow" advTm="31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971800" y="3359160"/>
            <a:ext cx="3657600" cy="2743200"/>
            <a:chOff x="2971800" y="3359160"/>
            <a:chExt cx="3657600" cy="2743200"/>
          </a:xfrm>
        </p:grpSpPr>
        <p:pic>
          <p:nvPicPr>
            <p:cNvPr id="93" name="AMCONFUS" descr=""/>
            <p:cNvPicPr/>
            <p:nvPr/>
          </p:nvPicPr>
          <p:blipFill>
            <a:blip r:embed="rId1"/>
            <a:stretch/>
          </p:blipFill>
          <p:spPr>
            <a:xfrm>
              <a:off x="4425840" y="4609440"/>
              <a:ext cx="614160" cy="121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971800" y="3359160"/>
              <a:ext cx="3657600" cy="2743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8280" y="3399120"/>
              <a:ext cx="43920" cy="270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24240" y="4327200"/>
              <a:ext cx="1057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GAI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86080" y="4286160"/>
              <a:ext cx="105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NY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90920" y="380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ANG MAHA PENCIPTA (al-Khali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990720"/>
            <a:ext cx="838080" cy="3429000"/>
          </a:xfrm>
          <a:prstGeom prst="downArrow">
            <a:avLst>
              <a:gd name="adj1" fmla="val 50000"/>
              <a:gd name="adj2" fmla="val 102287"/>
            </a:avLst>
          </a:prstGeom>
          <a:solidFill>
            <a:srgbClr val="aff1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1430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FORM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ahy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ra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983D-6952-4E5E-B5F7-83D7B69E92F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EE160-806D-4412-9B4A-2385960FD7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438280" y="380880"/>
            <a:ext cx="11582280" cy="6248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AMCONFUS" descr=""/>
          <p:cNvPicPr/>
          <p:nvPr/>
        </p:nvPicPr>
        <p:blipFill>
          <a:blip r:embed="rId1"/>
          <a:stretch/>
        </p:blipFill>
        <p:spPr>
          <a:xfrm>
            <a:off x="0" y="1828800"/>
            <a:ext cx="1415880" cy="3048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9880" y="1295280"/>
            <a:ext cx="40579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ALAM NY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iptaan al-Khali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usia, makhluk hidup, benda-benda, zat-zat, langit dan b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3662280"/>
            <a:ext cx="17524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B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kn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mbela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el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gka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AMCONFUS" descr=""/>
          <p:cNvPicPr/>
          <p:nvPr/>
        </p:nvPicPr>
        <p:blipFill>
          <a:blip r:embed="rId2"/>
          <a:stretch/>
        </p:blipFill>
        <p:spPr>
          <a:xfrm>
            <a:off x="8001000" y="2362320"/>
            <a:ext cx="708120" cy="1523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71600" y="304812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16002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34290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immaterial: interaksi sosial, hubungan antar manusia, negara, ipoleksosbud, filsa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066680" y="0"/>
            <a:ext cx="91440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1219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TRANCENDENTAL: ma’rifatullah, d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5029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LAM REKAYASA (The artificial, man-made wor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3581280"/>
            <a:ext cx="4496040" cy="1676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4724280"/>
            <a:ext cx="3200400" cy="17528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CB5E-FE82-4091-A8DA-E9EE3B1942E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F3E58-E149-49F8-9550-F1BC12D9A7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438280" y="380880"/>
            <a:ext cx="11582280" cy="6248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AMCONFUS" descr=""/>
          <p:cNvPicPr/>
          <p:nvPr/>
        </p:nvPicPr>
        <p:blipFill>
          <a:blip r:embed="rId1"/>
          <a:stretch/>
        </p:blipFill>
        <p:spPr>
          <a:xfrm>
            <a:off x="0" y="1828800"/>
            <a:ext cx="1415880" cy="3048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14400" y="3886200"/>
            <a:ext cx="175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B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kn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mbela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el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gka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AMCONFUS" descr=""/>
          <p:cNvPicPr/>
          <p:nvPr/>
        </p:nvPicPr>
        <p:blipFill>
          <a:blip r:embed="rId2"/>
          <a:stretch/>
        </p:blipFill>
        <p:spPr>
          <a:xfrm>
            <a:off x="8001000" y="2362320"/>
            <a:ext cx="708120" cy="1523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71600" y="304812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16002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066680" y="0"/>
            <a:ext cx="91440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3581280"/>
            <a:ext cx="4496040" cy="1676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0"/>
            <a:ext cx="27432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’RIFATULLAH, THE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685800"/>
            <a:ext cx="27432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-ILMU AGAMA WAHYU/SAMA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1676520"/>
            <a:ext cx="3276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-ILMU HUKUM dan SOSIAL –BUDAYA KEMASYARAKAT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3200400"/>
            <a:ext cx="289584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 KESEHATAN dan PSIKOLO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4191120"/>
            <a:ext cx="31240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TEMATIK dan I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4724280"/>
            <a:ext cx="3200400" cy="17528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5029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LAM REKAYASA (The artificial, man-made wor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80060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ERING an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3124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37160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IGIOUS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7559-7531-4F1D-B7FF-B48D2E23F77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5CDC3-33CC-474E-8907-3A1C3BAC8C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1928880" y="3267000"/>
            <a:ext cx="3159000" cy="2448000"/>
            <a:chOff x="1928880" y="3267000"/>
            <a:chExt cx="3159000" cy="2448000"/>
          </a:xfrm>
        </p:grpSpPr>
        <p:pic>
          <p:nvPicPr>
            <p:cNvPr id="135" name="AMCONFUS" descr=""/>
            <p:cNvPicPr/>
            <p:nvPr/>
          </p:nvPicPr>
          <p:blipFill>
            <a:blip r:embed="rId1"/>
            <a:stretch/>
          </p:blipFill>
          <p:spPr>
            <a:xfrm>
              <a:off x="3184920" y="4382640"/>
              <a:ext cx="53028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928880" y="3267000"/>
              <a:ext cx="3159000" cy="2448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89120" y="3302640"/>
              <a:ext cx="37800" cy="24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33080" y="4131000"/>
              <a:ext cx="913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GAI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54080" y="4094280"/>
              <a:ext cx="915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NY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143000" y="609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ANG MAHA PENCIPTA (al-Khali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12920" y="1154160"/>
            <a:ext cx="723960" cy="3058920"/>
          </a:xfrm>
          <a:prstGeom prst="downArrow">
            <a:avLst>
              <a:gd name="adj1" fmla="val 50000"/>
              <a:gd name="adj2" fmla="val 105632"/>
            </a:avLst>
          </a:prstGeom>
          <a:solidFill>
            <a:srgbClr val="aff1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21080" y="1289160"/>
            <a:ext cx="177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FORM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ahy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ra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3886200"/>
            <a:ext cx="3124440" cy="1556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ERING an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2819520"/>
            <a:ext cx="3124440" cy="581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1295280"/>
            <a:ext cx="312444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IGIOUS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C18-B3C1-4383-BABF-F8069F81A78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F7D89-A5B7-4055-ABB7-76D18DD127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15920" y="3297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00"/>
                </a:solidFill>
                <a:latin typeface="Times New Roman"/>
              </a:rPr>
              <a:t>Engineering Education……………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2362320"/>
            <a:ext cx="2133720" cy="35712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MODE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11960" y="1873080"/>
            <a:ext cx="0" cy="47340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2481120"/>
            <a:ext cx="1218960" cy="0"/>
          </a:xfrm>
          <a:prstGeom prst="line">
            <a:avLst/>
          </a:prstGeom>
          <a:ln w="2844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2057400"/>
            <a:ext cx="2082960" cy="62856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MULA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190760" y="2730600"/>
            <a:ext cx="1269720" cy="3999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11960" y="2730600"/>
            <a:ext cx="1218960" cy="3999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65360" y="3191040"/>
            <a:ext cx="1930320" cy="35712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NAL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3187800"/>
            <a:ext cx="1523880" cy="35568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83160" y="3530520"/>
            <a:ext cx="1117440" cy="28584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511960" y="3587760"/>
            <a:ext cx="1218960" cy="22860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495680" y="3301920"/>
            <a:ext cx="1625760" cy="7920"/>
          </a:xfrm>
          <a:prstGeom prst="line">
            <a:avLst/>
          </a:prstGeom>
          <a:ln w="2844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902040"/>
            <a:ext cx="2539800" cy="35568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TO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10080" y="4273560"/>
            <a:ext cx="0" cy="28584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4613400"/>
            <a:ext cx="2286000" cy="35388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PTIMISA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4257720"/>
            <a:ext cx="2463840" cy="79704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aktor-faktor non-tek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99080" y="1530360"/>
            <a:ext cx="1828800" cy="35568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SAL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99080" y="1530360"/>
            <a:ext cx="1828800" cy="35568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394160" y="5302080"/>
            <a:ext cx="1828800" cy="355680"/>
            <a:chOff x="4394160" y="5302080"/>
            <a:chExt cx="1828800" cy="355680"/>
          </a:xfrm>
        </p:grpSpPr>
        <p:sp>
          <p:nvSpPr>
            <p:cNvPr id="165" name=""/>
            <p:cNvSpPr/>
            <p:nvPr/>
          </p:nvSpPr>
          <p:spPr>
            <a:xfrm>
              <a:off x="4394160" y="5302080"/>
              <a:ext cx="1828800" cy="355680"/>
            </a:xfrm>
            <a:prstGeom prst="rect">
              <a:avLst/>
            </a:prstGeom>
            <a:noFill/>
            <a:ln w="28440">
              <a:solidFill>
                <a:srgbClr val="9966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OLUS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4160" y="5302080"/>
              <a:ext cx="1828800" cy="355680"/>
            </a:xfrm>
            <a:prstGeom prst="ellipse">
              <a:avLst/>
            </a:prstGeom>
            <a:noFill/>
            <a:ln w="28440">
              <a:solidFill>
                <a:srgbClr val="9966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410080" y="4959360"/>
            <a:ext cx="0" cy="34272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 rot="16200000">
            <a:off x="5260320" y="1755720"/>
            <a:ext cx="4260960" cy="3352680"/>
          </a:xfrm>
          <a:custGeom>
            <a:avLst/>
            <a:gdLst>
              <a:gd name="textAreaLeft" fmla="*/ 0 w 4260960"/>
              <a:gd name="textAreaRight" fmla="*/ 4261320 w 4260960"/>
              <a:gd name="textAreaTop" fmla="*/ -360 h 3352680"/>
              <a:gd name="textAreaBottom" fmla="*/ 3352680 h 3352680"/>
            </a:gdLst>
            <a:ahLst/>
            <a:rect l="textAreaLeft" t="textAreaTop" r="textAreaRight" b="textAreaBottom"/>
            <a:pathLst>
              <a:path w="21600" h="21600">
                <a:moveTo>
                  <a:pt x="1660" y="8504"/>
                </a:moveTo>
                <a:arcTo wR="-9424" hR="-9424" stAng="-9954022" swAng="-12888934"/>
                <a:lnTo>
                  <a:pt x="698" y="14620"/>
                </a:lnTo>
                <a:arcTo wR="10800" hR="10800" stAng="9557044" swAng="12888934"/>
                <a:lnTo>
                  <a:pt x="23893" y="14089"/>
                </a:lnTo>
                <a:lnTo>
                  <a:pt x="19782" y="16549"/>
                </a:lnTo>
                <a:lnTo>
                  <a:pt x="17321" y="12438"/>
                </a:lnTo>
                <a:close/>
              </a:path>
            </a:pathLst>
          </a:custGeom>
          <a:noFill/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4724280"/>
            <a:ext cx="762120" cy="648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6CAB-7D7A-47DE-9EDF-AFC8B8E8E07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DDFD5-94DC-4D4E-AEFF-05D15A4C8D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6858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Verdana"/>
              </a:rPr>
              <a:t>MANAJEMEN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E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dosen, mahasiswa, pegaw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ACHIN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alat-alat lab, alat bantu pengajaran, komputer, ds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ATERIAL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mahasiswa ba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ON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anggaran, proyek, S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ARKE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lapangan ker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C2B-D8C4-4D51-9A0D-0BD4A702ACE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DEB55-917C-44F8-99BB-299D1BB204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666880" y="76212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uasana Aka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cademic Atmosphe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1905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05120"/>
            <a:ext cx="35053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ruktural-birokra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3429000"/>
            <a:ext cx="350496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mpinan Fakul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4419720"/>
            <a:ext cx="35053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mpinan Juru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396252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2514600"/>
            <a:ext cx="350496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mpinan Univers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2971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4952880"/>
            <a:ext cx="350496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tua Program Stu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5410080"/>
            <a:ext cx="3505320" cy="825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tua-Ketua Konsentr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81480" y="4952880"/>
            <a:ext cx="3505320" cy="825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pala-Kepala Laborato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504-FF12-4529-AE9B-F2AA99F2215F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20988-B0A7-445C-9431-5FA269B563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6-08-24T08:04:57Z</dcterms:modified>
  <cp:revision>131</cp:revision>
  <dc:subject/>
  <dc:title>PowerPoint Presentation</dc:title>
</cp:coreProperties>
</file>