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wmf" ContentType="image/x-wmf"/>
  <Override PartName="/ppt/media/image19.wmf" ContentType="image/x-wmf"/>
  <Override PartName="/ppt/media/image17.wmf" ContentType="image/x-wmf"/>
  <Override PartName="/ppt/media/DRIVEBY.WAV" ContentType="audio/x-wav"/>
  <Override PartName="/ppt/media/TYPE.WAV" ContentType="audio/x-wav"/>
  <Override PartName="/ppt/media/image5.wmf" ContentType="image/x-wmf"/>
  <Override PartName="/ppt/media/image14.wmf" ContentType="image/x-wmf"/>
  <Override PartName="/ppt/media/LASER.WAV" ContentType="audio/x-wav"/>
  <Override PartName="/ppt/media/DRUMROLL.WAV" ContentType="audio/x-wav"/>
  <Override PartName="/ppt/media/CAMERA.WAV" ContentType="audio/x-wav"/>
  <Override PartName="/ppt/media/CARBRAKE.WAV" ContentType="audio/x-wav"/>
  <Override PartName="/ppt/media/image16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22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EXPLODE.WAV" ContentType="audio/x-wav"/>
  <Override PartName="/ppt/media/applause.wav" ContentType="audio/x-wav"/>
  <Override PartName="/ppt/media/image28.png" ContentType="image/png"/>
  <Override PartName="/ppt/media/image7.jpeg" ContentType="image/jpeg"/>
  <Override PartName="/ppt/media/glass.wav" ContentType="audio/x-wav"/>
  <Override PartName="/ppt/media/image6.wmf" ContentType="image/x-wmf"/>
  <Override PartName="/ppt/media/image3.wmf" ContentType="image/x-wmf"/>
  <Override PartName="/ppt/media/RICOCHET.WAV" ContentType="audio/x-wav"/>
  <Override PartName="/ppt/media/image15.jpeg" ContentType="image/jpeg"/>
  <Override PartName="/ppt/media/image25.wmf" ContentType="image/x-wmf"/>
  <Override PartName="/ppt/media/image2.png" ContentType="image/png"/>
  <Override PartName="/ppt/media/WHOOSH.WAV" ContentType="audio/x-wav"/>
  <Override PartName="/ppt/media/image1.png" ContentType="image/png"/>
  <Override PartName="/ppt/media/CHIMES.WAV" ContentType="audio/x-wav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BA8-0F3E-4D46-9C0A-5A7847BB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ECE-797F-4A8A-A977-149251D0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8B4-B771-4FA4-9C44-2A9E034B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0E1-95D2-4241-B754-DFE71DBA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417E-B0DA-40ED-A256-4DC882EA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DA85-368B-4711-BF86-60F6E378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8A98-5B78-4157-95D9-026D9C2C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9502-76AA-4925-9045-54416550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A54B-7257-49DE-A3B1-B7CC0C30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A77A-CD29-4BA5-AF00-22D514FC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A2A3-0CE7-4092-851A-3CC3798E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04E-F38A-4653-A541-3BB9C7ED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A889-FC99-4749-9114-23FC77E7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2B4D-EBBC-4C37-84FF-F1AA52D2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AB5A-1E73-4D24-9FB1-2F0176EE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5AA4-83AD-4D88-84C7-7067761D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E095-C0B3-442C-97AD-731EC36B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76A-EE09-45B7-879B-3B0BFEA4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C64-21B9-42F8-A817-A61D099D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13E-0161-45C6-BA82-6F2253BC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279-3C22-4CC8-B5D8-978362E3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BECF-5CC0-4D3C-80AF-0F565687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276-1BF6-484B-90FD-93511C56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5F7-D1EA-464C-9E75-7697453A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17E5-2087-4817-B843-F74BDFDAB1C2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CC37-6B1E-47E3-9108-E26152C2C2ED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2267-260F-4FB9-82CF-441C4AF8675C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752B-94A0-40B3-A25E-B0AC590A83C7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DRIVEBY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DRIVEBY.WAV"/><Relationship Id="rId20" Type="http://schemas.openxmlformats.org/officeDocument/2006/relationships/audio" Target="../media/WHOOSH.WAV"/><Relationship Id="rId21" Type="http://schemas.openxmlformats.org/officeDocument/2006/relationships/audio" Target="../media/DRIVEBY.WAV"/><Relationship Id="rId22" Type="http://schemas.openxmlformats.org/officeDocument/2006/relationships/audio" Target="../media/CARBRAKE.WAV"/><Relationship Id="rId23" Type="http://schemas.openxmlformats.org/officeDocument/2006/relationships/audio" Target="../media/WHOOSH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good-governance/What%20is%20good%20governance.htm" TargetMode="External"/><Relationship Id="rId3" Type="http://schemas.openxmlformats.org/officeDocument/2006/relationships/hyperlink" Target="http://www.unescap.org/huset/gg/governance.htm" TargetMode="External"/><Relationship Id="rId4" Type="http://schemas.openxmlformats.org/officeDocument/2006/relationships/hyperlink" Target="http://www.unescap.org/huset/gg/governance.htm" TargetMode="External"/><Relationship Id="rId5" Type="http://schemas.openxmlformats.org/officeDocument/2006/relationships/hyperlink" Target="http://www.unescap.org/huset/gg/governance.htm" TargetMode="External"/><Relationship Id="rId6" Type="http://schemas.openxmlformats.org/officeDocument/2006/relationships/hyperlink" Target="http://www.unescap.org/huset/gg/governance.htm" TargetMode="External"/><Relationship Id="rId7" Type="http://schemas.openxmlformats.org/officeDocument/2006/relationships/hyperlink" Target="http://www.unescap.org/huset/gg/governance.htm" TargetMode="External"/><Relationship Id="rId8" Type="http://schemas.openxmlformats.org/officeDocument/2006/relationships/hyperlink" Target="http://www.unescap.org/huset/gg/governance.htm" TargetMode="External"/><Relationship Id="rId9" Type="http://schemas.openxmlformats.org/officeDocument/2006/relationships/hyperlink" Target="http://www.unescap.org/huset/gg/governance.htm" TargetMode="External"/><Relationship Id="rId10" Type="http://schemas.openxmlformats.org/officeDocument/2006/relationships/hyperlink" Target="http://www.unescap.org/huset/gg/governance.htm" TargetMode="External"/><Relationship Id="rId11" Type="http://schemas.openxmlformats.org/officeDocument/2006/relationships/hyperlink" Target="http://www.unescap.org/huset/gg/governance.htm" TargetMode="Externa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ood-governance/What%20is%20good%20governance.htm" TargetMode="External"/><Relationship Id="rId2" Type="http://schemas.openxmlformats.org/officeDocument/2006/relationships/hyperlink" Target="http://www.unescap.org/huset/gg/governance.htm" TargetMode="External"/><Relationship Id="rId3" Type="http://schemas.openxmlformats.org/officeDocument/2006/relationships/hyperlink" Target="http://www.unescap.org/huset/gg/governance.htm" TargetMode="External"/><Relationship Id="rId4" Type="http://schemas.openxmlformats.org/officeDocument/2006/relationships/hyperlink" Target="http://www.unescap.org/huset/gg/governance.htm" TargetMode="External"/><Relationship Id="rId5" Type="http://schemas.openxmlformats.org/officeDocument/2006/relationships/hyperlink" Target="http://www.unescap.org/huset/gg/governance.htm" TargetMode="External"/><Relationship Id="rId6" Type="http://schemas.openxmlformats.org/officeDocument/2006/relationships/hyperlink" Target="http://www.unescap.org/huset/gg/governance.htm" TargetMode="External"/><Relationship Id="rId7" Type="http://schemas.openxmlformats.org/officeDocument/2006/relationships/hyperlink" Target="http://www.unescap.org/huset/gg/governance.htm" TargetMode="External"/><Relationship Id="rId8" Type="http://schemas.openxmlformats.org/officeDocument/2006/relationships/hyperlink" Target="http://www.unescap.org/huset/gg/governance.htm" TargetMode="External"/><Relationship Id="rId9" Type="http://schemas.openxmlformats.org/officeDocument/2006/relationships/hyperlink" Target="http://www.unescap.org/huset/gg/governance.htm" TargetMode="External"/><Relationship Id="rId10" Type="http://schemas.openxmlformats.org/officeDocument/2006/relationships/hyperlink" Target="http://www.unescap.org/huset/gg/governance.htm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PERANAN TEKNOLOGI INFOKOM DALAM MENINGKATKAN TRANSPARANSI MENUJU </a:t>
            </a:r>
            <a:r>
              <a:rPr b="1" i="1" lang="en-US" sz="2800" spc="-1" strike="noStrike">
                <a:solidFill>
                  <a:srgbClr val="ebd189"/>
                </a:solidFill>
                <a:latin typeface="Arial"/>
              </a:rPr>
              <a:t>GOOD GOVERNANCE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311B-A181-482A-97A9-7C79FAC3201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7ED5A4E-8EC9-4E61-809A-4769429134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4E8-71A3-41BE-91FD-23E70B4292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BF862-6590-4CDA-BF1B-583DB110EF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55627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4F70F-68F2-436A-B98B-B8097719FE69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9AF-593C-454F-B4D5-C4141FD0C00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9DC8C-3931-480A-95A2-B51E458744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SIMTAP, SIMKEU, SIM ………dll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407-1FD8-4A2E-B845-8A371733E0A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49E56-909B-4404-9C5D-DD6AB1F15D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399-7EAD-4641-BF17-FF606E1F458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CD74F-52CD-4D66-A370-F57CD0B9A3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TARA KEBUTUHAN DAN KEMAMPU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895480" y="3733920"/>
            <a:ext cx="990720" cy="5814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733920"/>
            <a:ext cx="990720" cy="5814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733920"/>
            <a:ext cx="990360" cy="5814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45720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ingkatan Sistem Informas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2438280"/>
            <a:ext cx="1523880" cy="1067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5105520"/>
            <a:ext cx="1600200" cy="99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6019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KEMAMPU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1981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KEBUTUH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38862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388620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4267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Penawaran VENDO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4267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Penawaran VENDO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D25-BD49-4F9B-9599-B3466227C9B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D5526-55D1-48EC-A282-F876C224C32D}" type="datetime1">
              <a:rPr lang="en-US"/>
              <a:t>07/30/26</a:t>
            </a:fld>
          </a:p>
        </p:txBody>
      </p:sp>
    </p:spTree>
  </p:cSld>
  <p:transition spd="slow" advTm="89000">
    <p:wipe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971800" y="5029200"/>
            <a:ext cx="3352680" cy="1447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KEBUTUH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1523880"/>
            <a:ext cx="2514600" cy="5205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MANAJE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2362320"/>
            <a:ext cx="2514600" cy="5205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ADMINISTR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1981080"/>
            <a:ext cx="2514600" cy="5205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LAPO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3124080"/>
            <a:ext cx="2514600" cy="5205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NERA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1295280"/>
            <a:ext cx="2514600" cy="5205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ANGG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352680"/>
            <a:ext cx="2514600" cy="9471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PELAYANAN UMU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2743200"/>
            <a:ext cx="2514600" cy="5205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INVEST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514600" cy="21337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943600" y="1905120"/>
            <a:ext cx="2362320" cy="24382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685800"/>
            <a:ext cx="0" cy="35053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1295280"/>
            <a:ext cx="1752480" cy="28958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486400" y="1066680"/>
            <a:ext cx="1371600" cy="30481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900-CC3B-4A39-83C4-2CA533989A27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4DA5A-7764-4BAE-A037-4143308167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2743200" cy="2105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90920" y="1600200"/>
            <a:ext cx="3809880" cy="1676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8380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KEMAMPU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191120"/>
            <a:ext cx="3352680" cy="131292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MBER DAYA MANUSI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4267080"/>
            <a:ext cx="3352680" cy="131292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MBER DAYA FINANSIAL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055600">
            <a:off x="1295280" y="3352320"/>
            <a:ext cx="2108160" cy="685800"/>
          </a:xfrm>
          <a:prstGeom prst="rightArrow">
            <a:avLst>
              <a:gd name="adj1" fmla="val 50000"/>
              <a:gd name="adj2" fmla="val 7685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2142200">
            <a:off x="5638680" y="3351960"/>
            <a:ext cx="2108160" cy="685800"/>
          </a:xfrm>
          <a:prstGeom prst="rightArrow">
            <a:avLst>
              <a:gd name="adj1" fmla="val 50000"/>
              <a:gd name="adj2" fmla="val 7685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562720" y="5486400"/>
          <a:ext cx="123804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5486400"/>
                    <a:ext cx="12380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781680" y="5562720"/>
          <a:ext cx="1884600" cy="97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1680" y="556272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026-FDEF-40E1-B0FF-BFDD190B252B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B30B1-65C0-4B9A-9DEA-6617229A87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848720" cy="467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66680" y="5791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Arial Narrow"/>
              </a:rPr>
              <a:t>“</a:t>
            </a: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Transparency </a:t>
            </a:r>
            <a:r>
              <a:rPr b="0" i="1" lang="en-US" sz="3600" spc="-1" strike="noStrike">
                <a:solidFill>
                  <a:srgbClr val="eaeaea"/>
                </a:solidFill>
                <a:latin typeface="Arial Narrow"/>
              </a:rPr>
              <a:t>means ………............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257800"/>
            <a:ext cx="79246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 Narrow"/>
              </a:rPr>
              <a:t>(</a:t>
            </a:r>
            <a:r>
              <a:rPr b="0" i="1" lang="es-ES" sz="1800" spc="-1" strike="noStrike">
                <a:solidFill>
                  <a:srgbClr val="00007a"/>
                </a:solidFill>
                <a:latin typeface="Arial Narrow"/>
              </a:rPr>
              <a:t>Dikutip dari 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2"/>
              </a:rPr>
              <a:t>situs</a:t>
            </a:r>
            <a:r>
              <a:rPr b="0" i="1" lang="es-ES" sz="1800" spc="-1" strike="noStrike">
                <a:solidFill>
                  <a:srgbClr val="00007a"/>
                </a:solidFill>
                <a:latin typeface="Arial Narrow"/>
              </a:rPr>
              <a:t>: 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3"/>
              </a:rPr>
              <a:t>http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4"/>
              </a:rPr>
              <a:t>:/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5"/>
              </a:rPr>
              <a:t>www.unescap.org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6"/>
              </a:rPr>
              <a:t>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7"/>
              </a:rPr>
              <a:t>huset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8"/>
              </a:rPr>
              <a:t>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9"/>
              </a:rPr>
              <a:t>gg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10"/>
              </a:rPr>
              <a:t>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11"/>
              </a:rPr>
              <a:t>governance.htm</a:t>
            </a:r>
            <a:r>
              <a:rPr b="0" i="1" lang="es-ES" sz="1800" spc="-1" strike="noStrike">
                <a:solidFill>
                  <a:srgbClr val="00007a"/>
                </a:solidFill>
                <a:latin typeface="Arial Narrow"/>
              </a:rPr>
              <a:t> pada tgl. 19 Juli 2006)</a:t>
            </a:r>
            <a:r>
              <a:rPr b="0" lang="en-US" sz="1800" spc="-1" strike="noStrike">
                <a:solidFill>
                  <a:srgbClr val="00007a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AD4-DA30-4DAA-9A7D-247DA1C47D09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D6197-C9BA-4449-8909-2D09D6AB34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KOMENDAS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Perlu diingat bahwa setiap sistem informasi itu tidak saling  men-substitusi satu sama lai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Penentu kebijakan mesti cermat dan pandai-pandai memilah-milah pekerjaa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Teknologi memang mestilah diterapkan secara tepat-guna (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appropriate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Kecanggihan bukanlah jaminan beresnya urusan, demikian pula sebaliknya, kesederhanaan malah mungkin bisa menyelesaikan masalah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Tidaklah bijaksana untuk menerapkan teknologi canggih untuk sekedar latah dan ikut-ikutan, atau hanya karena sedang “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nge-trend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” saj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E14-C287-4E8E-8481-0C99C28087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A2458-7B8B-4C88-8D37-33AB0A817589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D48C-1F7B-43B6-BBF0-01D29C8986C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0AF032D-1EE4-484F-9623-8A71EDBB56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eaeaea"/>
                </a:solidFill>
                <a:latin typeface="Arial"/>
              </a:rPr>
              <a:t>Transparency </a:t>
            </a:r>
            <a:r>
              <a:rPr b="0" i="1" lang="en-US" sz="4000" spc="-1" strike="noStrike">
                <a:solidFill>
                  <a:srgbClr val="eaeaea"/>
                </a:solidFill>
                <a:latin typeface="Arial"/>
              </a:rPr>
              <a:t>means ………...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ransparency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means that decisions taken and their enforcement are done in a manner that follows rules and regulations. It also means that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tion is freely available and directly accessible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to those who will be affected by such decisions and their enforcement. It also means that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enough information is provided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and that it is provided in easily understandable forms and med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5638680"/>
            <a:ext cx="79246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 Narrow"/>
              </a:rPr>
              <a:t>(</a:t>
            </a:r>
            <a:r>
              <a:rPr b="0" i="1" lang="es-ES" sz="1800" spc="-1" strike="noStrike">
                <a:solidFill>
                  <a:srgbClr val="00007a"/>
                </a:solidFill>
                <a:latin typeface="Arial Narrow"/>
              </a:rPr>
              <a:t>Dikutip dari 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1"/>
              </a:rPr>
              <a:t>situs</a:t>
            </a:r>
            <a:r>
              <a:rPr b="0" i="1" lang="es-ES" sz="1800" spc="-1" strike="noStrike">
                <a:solidFill>
                  <a:srgbClr val="00007a"/>
                </a:solidFill>
                <a:latin typeface="Arial Narrow"/>
              </a:rPr>
              <a:t>: 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3"/>
              </a:rPr>
              <a:t>:/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4"/>
              </a:rPr>
              <a:t>www.unescap.org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5"/>
              </a:rPr>
              <a:t>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6"/>
              </a:rPr>
              <a:t>huset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8"/>
              </a:rPr>
              <a:t>gg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10"/>
              </a:rPr>
              <a:t>governance.htm</a:t>
            </a:r>
            <a:r>
              <a:rPr b="0" i="1" lang="es-ES" sz="1800" spc="-1" strike="noStrike">
                <a:solidFill>
                  <a:srgbClr val="00007a"/>
                </a:solidFill>
                <a:latin typeface="Arial Narrow"/>
              </a:rPr>
              <a:t> pada tgl. 19 Juli 2006)</a:t>
            </a:r>
            <a:r>
              <a:rPr b="0" lang="en-US" sz="1800" spc="-1" strike="noStrike">
                <a:solidFill>
                  <a:srgbClr val="00007a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4E2-6093-49CC-97B9-B63999C8631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CF140-5CB9-435A-AD71-A859A998DB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B66A-B54B-4BAA-ADBB-5886CE224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27B2-4C58-41AF-9993-1A33429A9D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TAR BELAKANG MASALAH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dak terintegrasiny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(tiga) h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kerj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angkat (khususnya: KOMPUTE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ber Daya Manus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857240" cy="399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86400" y="4267080"/>
            <a:ext cx="2438280" cy="18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010280" y="2971800"/>
          <a:ext cx="155124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971800"/>
                    <a:ext cx="155124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334120" y="1828800"/>
            <a:ext cx="1630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Banyak bencana alam mau pun sos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C99-7D6B-41E0-B618-AB90CE2161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09490-D8AB-4F6C-ADBA-9C92599950A3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4F3-093E-44A8-BFFD-65DBA3D6DE5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98554-832F-486B-BF05-F31880198B08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D5B-A0EF-4F0B-AEB6-E26DDD6DFA9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0E055-6805-42EE-A958-6E8942F09C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F82-A732-4D49-BAF5-6574E631DBB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F2345-B5B5-47A0-BE89-45F4479EED25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4C8-1914-4F1E-91F3-1CEDB3CD38F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0C7C2-6B56-45AB-87D8-B813BB7C21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7-08-14T11:32:45Z</dcterms:modified>
  <cp:revision>81</cp:revision>
  <dc:subject/>
  <dc:title>PowerPoint Presentation</dc:title>
</cp:coreProperties>
</file>