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240-E1A3-4908-901C-EF045DEC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4C30-28E7-4D32-9A78-FF326476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9EDE-02FA-4241-845D-2349D929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1921-423A-48E9-948B-2F333286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1AB14-6549-4C5C-9795-9D17E650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2A4B4-40AE-4945-9133-217F9B8F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D7A0B-5A22-4E42-892A-53A18D9E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5B6F8-A6FC-4077-A2F7-893DEBDC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64B93-624D-4998-8912-51C69405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BD5F2-CC01-4741-BD5A-5A6D4957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53CEE-9174-4B1D-BC67-CF19F604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CFC-7D31-40AB-92B7-85C96A90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32F7D-4F6D-4F4F-9303-DC78CB75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7E33C-55B8-4A78-B597-14667AA6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E0C4C-84A9-4F1D-86CD-970B42A6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B0CCA-BB49-4D07-8AC1-F082A9F4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25209-077E-436F-8276-970AF31C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2C2-46C5-486F-8BEE-AF8193A5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A15F-81DC-49B0-8F94-705C9B58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12B-2411-4C5C-BB65-ED1D8D16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8DA-9718-4C57-874E-04C43750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2878-70A2-47BC-8F1C-D9585B17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928-6C8A-4323-8A91-95379494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0EEE-72BD-4AEF-B9D1-34783DC5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4499-678C-4582-854E-41853D671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5AB3-4FE7-4DA6-8C72-82E860B023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33720" y="762120"/>
            <a:ext cx="46479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REKT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1371600"/>
            <a:ext cx="46479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AKIL DIREKT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1981080"/>
            <a:ext cx="0" cy="2514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2819520"/>
            <a:ext cx="2895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2590920"/>
            <a:ext cx="2361960" cy="3988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KRETA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2590920"/>
            <a:ext cx="2361960" cy="3988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KNISI KEPA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352680"/>
            <a:ext cx="2133720" cy="368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M TEKNI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3048120"/>
            <a:ext cx="2133360" cy="6426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AF SEKRETARI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495680"/>
            <a:ext cx="6019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952880"/>
            <a:ext cx="228600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VISI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523880" y="4495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4952880"/>
            <a:ext cx="228600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VISI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343400" y="4495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4952880"/>
            <a:ext cx="266688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VISI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7543800" y="4495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762120"/>
            <a:ext cx="7848360" cy="2354760"/>
          </a:xfrm>
          <a:prstGeom prst="rect">
            <a:avLst/>
          </a:prstGeom>
          <a:solidFill>
            <a:srgbClr val="00c6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IVISI I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ENGEMBANG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SISTEM INFORMASI TERPADU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1" i="1" lang="en-US" sz="2800" spc="-1" strike="noStrike">
                <a:solidFill>
                  <a:srgbClr val="000099"/>
                </a:solidFill>
                <a:latin typeface="Verdana"/>
              </a:rPr>
              <a:t>Integrated Information System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429000"/>
            <a:ext cx="7848360" cy="1818000"/>
          </a:xfrm>
          <a:prstGeom prst="rect">
            <a:avLst/>
          </a:prstGeom>
          <a:solidFill>
            <a:srgbClr val="953165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stem Informasi Akadem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stem Informasi Keuan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stem Informasi ……… d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762120"/>
            <a:ext cx="7848360" cy="2634840"/>
          </a:xfrm>
          <a:prstGeom prst="rect">
            <a:avLst/>
          </a:prstGeom>
          <a:solidFill>
            <a:srgbClr val="00c6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IVISI II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PELAYANAN INTERN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JARINGAN KAMP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Verdana"/>
              </a:rPr>
              <a:t>Internet Services and  Campus Network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429000"/>
            <a:ext cx="7848360" cy="2893320"/>
          </a:xfrm>
          <a:prstGeom prst="rect">
            <a:avLst/>
          </a:prstGeom>
          <a:solidFill>
            <a:srgbClr val="953165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engelolaan Situs UN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emeliharaan Jaringan Internal Kampus dan Link ke lu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Mailing-list and Public Re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POP Server, Proxy Server, d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457200"/>
            <a:ext cx="7848360" cy="2634840"/>
          </a:xfrm>
          <a:prstGeom prst="rect">
            <a:avLst/>
          </a:prstGeom>
          <a:solidFill>
            <a:srgbClr val="00c6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IVISI III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PENGEMBANGAN </a:t>
            </a:r>
            <a:r>
              <a:rPr b="1" i="1" lang="en-US" sz="2800" spc="-1" strike="noStrike">
                <a:solidFill>
                  <a:srgbClr val="000099"/>
                </a:solidFill>
                <a:latin typeface="Verdana"/>
              </a:rPr>
              <a:t>E-LEARNING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d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MULTI MED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Verdana"/>
              </a:rPr>
              <a:t>E-Learning and Multi Media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124080"/>
            <a:ext cx="7848360" cy="3327120"/>
          </a:xfrm>
          <a:prstGeom prst="rect">
            <a:avLst/>
          </a:prstGeom>
          <a:solidFill>
            <a:srgbClr val="953165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ngelolaan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Production Hou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manfaatan fasilitas “gratis”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4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GDL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4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SO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4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INHE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(Kerjasama dengan lembaga-lembaga internal/eksternal: LP3AI, Konsorsium, Perpustakaan UNHAS, dll. untuk pengembangan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tent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358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TATA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rektur/Wakil Direktu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rtanggungjawab ke Rektor melalui PR-PR (tergantung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ontex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 keduanya musti kompak, saling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ack-u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atu sama l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knisi Kepal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i orang yang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dic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punya tim teknisi yang menangani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ardwa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minimal 1 orang) dan yang menangani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oftw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inimal 1 orang lagi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kretar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i yang cantik (dan/atau ganteng), cerdas, dan ramah-tamah (kalo’ ada yang datang “marah-matah” baru ngelihat sudah langsung reda marahny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visi-divi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i kerjasama erat dengan unit-unit kerja existing, misalnya Divisi I dengan Biro-biro terkait, di level UNHAS mau pun Fakultas, Divisi II dengan HUMAS, LP, LPPM, dll., d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02:21:41Z</dcterms:created>
  <dc:creator>WinXp</dc:creator>
  <dc:description/>
  <dc:language>en-US</dc:language>
  <cp:lastModifiedBy>WinXp</cp:lastModifiedBy>
  <dcterms:modified xsi:type="dcterms:W3CDTF">2006-08-04T03:21:09Z</dcterms:modified>
  <cp:revision>8</cp:revision>
  <dc:subject/>
  <dc:title>Slide 1</dc:title>
</cp:coreProperties>
</file>