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DD50-036A-42CE-9BE4-38BD7CD76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8F7E-698A-433C-A6C1-4B87AE10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3B12-3D7E-41BD-9FC3-F2982C151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C705-24EF-44CC-856F-60A59BB88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DE83-66CF-4057-B748-AE5129692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158E-E201-4F8D-9E3A-A755466D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E9B5-4413-4F42-BC5C-F2673CEA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F1DC9-A042-45AD-B19D-721F5CF8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5D6F-BBF8-44BB-BFD6-EE194EA4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530A-E70C-45AE-9CC0-16D57884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97031-3BD0-4A6E-87C8-39DBA315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636B-F617-40F2-B958-66C26DB7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3A87-AA62-4ECA-8208-F3904AF3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C6534-1DC1-4097-BE18-2E6E6735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1350-FC70-4A57-9B64-96DA28CA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548C-A73B-4581-BE2D-B50AC9EF6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98F4-E6D7-4B6B-970E-FFCD15915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D070-5215-43DD-A57F-6FBEDBAF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117C-48C6-41B1-B4B0-AE6BBA68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48C5-DB8B-44FC-A730-81446F40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53F5-4618-42CA-85A3-77FDD00B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88B8-CCC8-4A25-8BFC-DFE41752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72F3-F76E-4C31-BF72-7685781E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73A1-0E49-4672-89DF-B51FE602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B423-9EDA-4B1E-9946-2742E7E4916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C3D2-D102-4C35-B6CD-EFDA4FB0579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600" spc="-1" strike="noStrike">
                <a:solidFill>
                  <a:srgbClr val="006633"/>
                </a:solidFill>
                <a:latin typeface="Garamond"/>
              </a:rPr>
              <a:t>Hasanuddin University Engineering Faculty Department Project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03280" y="3933360"/>
            <a:ext cx="655344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Equipment Discussion 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July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SAPROF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846E-7CA7-4B6E-9A79-6A986D60013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curement Polic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ckage for Bidding (by ICB, LC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CB: International Competitive Bid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CB: Local Competitive Bid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curement schedule by Package (By yea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5A0A-EEFA-4443-A644-C3538AACC9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quipment discussion procedu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reparation and confirmation of Equipment list (Draft)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arget schedule: By July 17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Discussion based on “Equipment reference sheet” with Department,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3b812f"/>
                </a:solidFill>
                <a:latin typeface="Arial"/>
              </a:rPr>
              <a:t>format is prepared by SAPROF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b812f"/>
                </a:solidFill>
                <a:latin typeface="Arial"/>
              </a:rPr>
              <a:t>       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arget schedule: By August 12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ost estimation (SAPROF team in cha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arget schedule: By Middle of September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2CA3-BCE1-4585-8ECC-FD0F3F18D3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Necessary information on Equipment Discussion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lease provide information as belo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quipment list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,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Major Existing Equipment to be move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boratory list (new campu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rriculum </a:t>
            </a:r>
            <a:r>
              <a:rPr b="0" i="1" lang="en-US" sz="2000" spc="-1" strike="noStrike">
                <a:solidFill>
                  <a:srgbClr val="3b812f"/>
                </a:solidFill>
                <a:latin typeface="Arial"/>
              </a:rPr>
              <a:t>(It is necessary to finish discussion about curriculum with SAPROF team in advanc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earch topics </a:t>
            </a:r>
            <a:r>
              <a:rPr b="0" i="1" lang="en-US" sz="2000" spc="-1" strike="noStrike">
                <a:solidFill>
                  <a:srgbClr val="3b812f"/>
                </a:solidFill>
                <a:latin typeface="Arial"/>
              </a:rPr>
              <a:t>(It is necessary to finish discussion about research topics with SAPROF team in advanc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om assignment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eration and maintenance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3B98-9470-47DC-B5C1-260EE0CC0D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Basic Policy on Equipment Selection-1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1. Planned Equipment shall be based on Research and education curriculu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equipme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be evaluated and examined linkage with research and education curricul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 of linkage between equipment and curriculum will be summarized into “Equipment reference sheet”. </a:t>
            </a:r>
            <a:r>
              <a:rPr b="0" lang="en-US" sz="2000" spc="-1" strike="noStrike">
                <a:solidFill>
                  <a:srgbClr val="3b812f"/>
                </a:solidFill>
                <a:latin typeface="Arial"/>
              </a:rPr>
              <a:t>(SAPROF team support to prepare this shee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4653000"/>
            <a:ext cx="1944720" cy="158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cessity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19640" y="5229360"/>
            <a:ext cx="792000" cy="431640"/>
          </a:xfrm>
          <a:prstGeom prst="rightArrow">
            <a:avLst>
              <a:gd name="adj1" fmla="val 50000"/>
              <a:gd name="adj2" fmla="val 45872"/>
            </a:avLst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3280" y="4869000"/>
            <a:ext cx="309744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ed items and Quant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ment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20CC-F65E-4FF0-A867-61E29A1073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Basic Policy on Equipment Selection-2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2. Planned Equipment shall be secured necessary installation spa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ed laboratory and/or room shall be specified.  </a:t>
            </a:r>
            <a:r>
              <a:rPr b="1" i="1" lang="en-US" sz="2000" spc="-1" strike="noStrike">
                <a:solidFill>
                  <a:srgbClr val="3b812f"/>
                </a:solidFill>
                <a:latin typeface="Arial"/>
              </a:rPr>
              <a:t>It will be link with facility pla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 of linkage between equipment and laboratory and/or room will be summarized into “Equipment reference sheet”. </a:t>
            </a:r>
            <a:r>
              <a:rPr b="0" lang="en-US" sz="2000" spc="-1" strike="noStrike">
                <a:solidFill>
                  <a:srgbClr val="3b812f"/>
                </a:solidFill>
                <a:latin typeface="Arial"/>
              </a:rPr>
              <a:t>(SAPROF team support to prepare this matrix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4653000"/>
            <a:ext cx="1513080" cy="151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ce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71640" y="5229360"/>
            <a:ext cx="432000" cy="431640"/>
          </a:xfrm>
          <a:prstGeom prst="rightArrow">
            <a:avLst>
              <a:gd name="adj1" fmla="val 50000"/>
              <a:gd name="adj2" fmla="val 2502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80000" y="4724280"/>
            <a:ext cx="432108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ment and room assignmen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ment layou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2426-C9DF-4B39-91E8-EF55BA7C4B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quipment Selection Criteri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Inclusion Crite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cessary for research and education curriculum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cessary for administrative activ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cessary for University capacity enhanc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xclusion Crite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necessary for University’s activ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age/purpose not clearly define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mall items, such as glass wa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ly consumables and spare pa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FD8C-33CF-4647-955D-DFE28081C8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quipment Planning Strateg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ivision on Category of equipment into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55640" y="2349360"/>
          <a:ext cx="7427880" cy="3165480"/>
        </p:xfrm>
        <a:graphic>
          <a:graphicData uri="http://schemas.openxmlformats.org/drawingml/2006/table">
            <a:tbl>
              <a:tblPr/>
              <a:tblGrid>
                <a:gridCol w="1800360"/>
                <a:gridCol w="5627520"/>
              </a:tblGrid>
              <a:tr h="205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Major Equip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Obviously necessary to implement research and education (with curriculum evidenc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Large equipment, which is necessary to secure installation spac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Expensive equipment and high priority for research and educati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Minor Equip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Necessary in the 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Detailed specifications are not specif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Not specif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8B7B-9179-4487-A200-B74B0FECB2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quipment list prepar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"/>
          <p:cNvSpPr/>
          <p:nvPr/>
        </p:nvSpPr>
        <p:spPr>
          <a:xfrm>
            <a:off x="826920" y="1844640"/>
            <a:ext cx="1800360" cy="151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jor 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3932280"/>
            <a:ext cx="1800360" cy="151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or 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71640" y="2349360"/>
            <a:ext cx="505080" cy="503280"/>
          </a:xfrm>
          <a:prstGeom prst="rightArrow">
            <a:avLst>
              <a:gd name="adj1" fmla="val 50000"/>
              <a:gd name="adj2" fmla="val 25089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1640" y="4508640"/>
            <a:ext cx="505080" cy="502920"/>
          </a:xfrm>
          <a:prstGeom prst="rightArrow">
            <a:avLst>
              <a:gd name="adj1" fmla="val 50000"/>
              <a:gd name="adj2" fmla="val 2510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4000" y="1844640"/>
            <a:ext cx="489564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cluding “Equipment Reference shee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s a “</a:t>
            </a:r>
            <a:r>
              <a:rPr b="1" i="1" lang="en-US" sz="2000" spc="-1" strike="noStrike" u="sng">
                <a:solidFill>
                  <a:srgbClr val="3333ff"/>
                </a:solidFill>
                <a:uFillTx/>
                <a:latin typeface="Arial"/>
              </a:rPr>
              <a:t>item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”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ment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lled room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64000" y="4005360"/>
            <a:ext cx="4895640" cy="14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cluding “Equipment Reference shee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s a “</a:t>
            </a:r>
            <a:r>
              <a:rPr b="1" i="1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general description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”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making a pile of equipment such 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ment for Civil engineering A laborator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ment for Energy engineering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0" y="5491080"/>
            <a:ext cx="43164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64000" y="5805360"/>
            <a:ext cx="489564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o be specified in the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EF31-1558-458F-822A-33215E8592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Equipment reference sheet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496360" cy="438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47A1-4220-4753-8A8D-76FDA94841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01:48:27Z</dcterms:created>
  <dc:creator>インテムコンサルティング株式会社自然環境部</dc:creator>
  <dc:description/>
  <dc:language>en-US</dc:language>
  <cp:lastModifiedBy>tk</cp:lastModifiedBy>
  <dcterms:modified xsi:type="dcterms:W3CDTF">2006-08-01T05:02:48Z</dcterms:modified>
  <cp:revision>9</cp:revision>
  <dc:subject/>
  <dc:title>Hasanuddin University Engineering Faculty Department Project</dc:title>
</cp:coreProperties>
</file>