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EB4-7070-4F26-B163-7D60DEEF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353-91ED-4F4B-85A2-202FE4E2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26B-EE18-4548-8FAE-ED772C11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827-B285-49E4-8436-4BA56615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7416-DFD4-414F-B943-EB669ED7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336-BC1E-482F-A5FF-95959DAE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D6F-DBD0-4295-A0A1-FE290B2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F36-373A-4AE3-92E0-BE213B73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735E-9AF4-4325-B978-61D87672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7A03-9CFA-4129-927C-3D67769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7000-8633-4400-9E14-01FAB81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CD8-46BA-49E9-81BE-2A192EF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7BC2-AB03-4CA2-8909-8544136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1063-F9F9-44EC-87FE-E656C12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FCC-2AB0-4884-A525-E52A4A39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D4FA-14C6-48A6-89BC-E16DCF15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BDA-FBBB-4E75-B5C2-16A42510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25D-00F4-43A7-BC89-F3FFA5D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F4A-586B-4F77-8E6B-D04313F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00D-E6E7-475B-9653-A09E7CD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2A8-7D23-4EE9-99FC-4DEB1A3F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F86-CDDC-492C-B533-8DC94D7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489-51A7-4F61-9430-E1E919C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573-3BCF-41DA-877D-E757A9A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479-2B19-4BFF-B887-5549BEE1B8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27A0-33F2-408E-A4CE-930E21CF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B57-81C1-4CAE-85F9-5F7A4DCF70B2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5C4C-AE14-40BC-B00F-04A5D857A5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hiza@unhas.ac.id" TargetMode="External"/><Relationship Id="rId3" Type="http://schemas.openxmlformats.org/officeDocument/2006/relationships/hyperlink" Target="http://www.unhas.ac.id/~rhiza/" TargetMode="External"/><Relationship Id="rId4" Type="http://schemas.openxmlformats.org/officeDocument/2006/relationships/hyperlink" Target="http://www.unhas.ac.id/~rhiza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Verdana"/>
              </a:rPr>
              <a:t>PROPOSAL PENELITIAN</a:t>
            </a:r>
            <a:br>
              <a:rPr sz="24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Latar Belakang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Rumusan Masalah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Tujuan Penelitian</a:t>
            </a:r>
            <a:br>
              <a:rPr sz="2000"/>
            </a:br>
            <a:r>
              <a:rPr b="0" lang="en-US" sz="2000" spc="-1" strike="noStrike">
                <a:solidFill>
                  <a:srgbClr val="786950"/>
                </a:solidFill>
                <a:latin typeface="Verdana"/>
              </a:rPr>
              <a:t>Manfaat Penelitian</a:t>
            </a:r>
            <a:endParaRPr b="0" lang="en-US" sz="2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04960" y="4038480"/>
            <a:ext cx="5637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6950"/>
                </a:solidFill>
                <a:latin typeface="Verdana"/>
              </a:rPr>
              <a:t>Rhiza  S. Sadjad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2"/>
              </a:rPr>
              <a:t>rhiza@unhas.ac.id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3"/>
              </a:rPr>
              <a:t>http://www.unhas.ac.id/~rhiza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  <a:hlinkClick r:id="rId4"/>
              </a:rPr>
              <a:t>/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302-9C74-4314-A268-BB13B11738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113E29-006B-464E-A52B-96D43B3A4F60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0F6-359C-43D9-97A1-072265207E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B85808-C076-4A7C-A876-24E79A0EA9FD}" type="datetime1">
              <a:rPr lang="en-US"/>
              <a:t>07/30/26</a:t>
            </a:fld>
          </a:p>
        </p:txBody>
      </p:sp>
    </p:spTree>
  </p:cSld>
  <p:transition spd="slow" advTm="31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1828800" y="1295280"/>
            <a:ext cx="3200400" cy="44960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1295280"/>
            <a:ext cx="3657600" cy="4572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981080"/>
            <a:ext cx="1143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666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5053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57200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 Kepal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ociate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ekto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Assistant Prof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809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Ahli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Research Assistant, Teaching Assi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02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Under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Doctor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0481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hasiswa S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Graduate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sten Lab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(Lab. Assistant, Gr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irarkhi Akademi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C44-3118-4F12-9436-18155FF8D9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0832A-7C57-446D-A127-D9F399A522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56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86950"/>
                </a:solidFill>
                <a:latin typeface="Verdana"/>
              </a:rPr>
              <a:t>PUBLISH !!!</a:t>
            </a:r>
            <a:br>
              <a:rPr sz="4400"/>
            </a:b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(</a:t>
            </a:r>
            <a:r>
              <a:rPr b="0" i="1" lang="en-US" sz="4400" spc="-1" strike="noStrike">
                <a:solidFill>
                  <a:srgbClr val="786950"/>
                </a:solidFill>
                <a:latin typeface="Verdana"/>
              </a:rPr>
              <a:t>or …………perish!</a:t>
            </a:r>
            <a:r>
              <a:rPr b="0" lang="en-US" sz="4400" spc="-1" strike="noStrike">
                <a:solidFill>
                  <a:srgbClr val="78695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2286000"/>
            <a:ext cx="68565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kasi ilmiah yang  ditulis berdasarka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ASIL PENELITIA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952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nya kennn……napa 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D1D-1ED6-4A2E-8F5F-84CAD26C9D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927C42F-BCD8-4EC6-A8E1-4DFD00F4B7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295280" y="304920"/>
            <a:ext cx="7479000" cy="5486400"/>
            <a:chOff x="1295280" y="304920"/>
            <a:chExt cx="7479000" cy="5486400"/>
          </a:xfrm>
        </p:grpSpPr>
        <p:sp>
          <p:nvSpPr>
            <p:cNvPr id="104" name=""/>
            <p:cNvSpPr/>
            <p:nvPr/>
          </p:nvSpPr>
          <p:spPr>
            <a:xfrm>
              <a:off x="1295280" y="304920"/>
              <a:ext cx="7467840" cy="5486400"/>
            </a:xfrm>
            <a:prstGeom prst="ellipse">
              <a:avLst/>
            </a:prstGeom>
            <a:solidFill>
              <a:srgbClr val="aff1ef"/>
            </a:solidFill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838080"/>
              <a:ext cx="2438280" cy="16765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259092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3505320"/>
              <a:ext cx="2438280" cy="1752480"/>
            </a:xfrm>
            <a:prstGeom prst="downArrowCallout">
              <a:avLst>
                <a:gd name="adj1" fmla="val 34786"/>
                <a:gd name="adj2" fmla="val 34783"/>
                <a:gd name="adj3" fmla="val 16667"/>
                <a:gd name="adj4" fmla="val 66667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2971800"/>
              <a:ext cx="4800600" cy="25146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2913000">
              <a:off x="6400800" y="2665800"/>
              <a:ext cx="685800" cy="762480"/>
            </a:xfrm>
            <a:prstGeom prst="downArrow">
              <a:avLst>
                <a:gd name="adj1" fmla="val 50000"/>
                <a:gd name="adj2" fmla="val 27795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923000">
              <a:off x="2971440" y="2742120"/>
              <a:ext cx="685800" cy="762120"/>
            </a:xfrm>
            <a:prstGeom prst="downArrow">
              <a:avLst>
                <a:gd name="adj1" fmla="val 50000"/>
                <a:gd name="adj2" fmla="val 27782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7124760" y="3771360"/>
              <a:ext cx="685800" cy="762120"/>
            </a:xfrm>
            <a:prstGeom prst="downArrow">
              <a:avLst>
                <a:gd name="adj1" fmla="val 50000"/>
                <a:gd name="adj2" fmla="val 27782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5400000">
              <a:off x="2400120" y="361908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11430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129528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tar Belaka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1219320"/>
              <a:ext cx="1904760" cy="82548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umusan Masala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36576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ujuan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055200">
              <a:off x="7053480" y="278244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32400">
              <a:off x="1449000" y="236124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90D-76C9-4D64-B1EA-5D164668783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31C1-66B7-45FE-9F88-BB724B6DF4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3880" y="228600"/>
            <a:ext cx="6910920" cy="5867280"/>
            <a:chOff x="1523880" y="228600"/>
            <a:chExt cx="6910920" cy="5867280"/>
          </a:xfrm>
        </p:grpSpPr>
        <p:sp>
          <p:nvSpPr>
            <p:cNvPr id="120" name=""/>
            <p:cNvSpPr/>
            <p:nvPr/>
          </p:nvSpPr>
          <p:spPr>
            <a:xfrm>
              <a:off x="4572000" y="228600"/>
              <a:ext cx="838080" cy="7621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99072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1752480"/>
              <a:ext cx="1752480" cy="990720"/>
            </a:xfrm>
            <a:prstGeom prst="downArrowCallout">
              <a:avLst>
                <a:gd name="adj1" fmla="val 44226"/>
                <a:gd name="adj2" fmla="val 44222"/>
                <a:gd name="adj3" fmla="val 16667"/>
                <a:gd name="adj4" fmla="val 66667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8120" y="4038480"/>
              <a:ext cx="3962160" cy="19051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2913000">
              <a:off x="5981760" y="3618360"/>
              <a:ext cx="685800" cy="762480"/>
            </a:xfrm>
            <a:prstGeom prst="downArrow">
              <a:avLst>
                <a:gd name="adj1" fmla="val 50000"/>
                <a:gd name="adj2" fmla="val 27795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743520" y="4457160"/>
              <a:ext cx="685800" cy="761760"/>
            </a:xfrm>
            <a:prstGeom prst="downArrow">
              <a:avLst>
                <a:gd name="adj1" fmla="val 50000"/>
                <a:gd name="adj2" fmla="val 27769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228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57200"/>
              <a:ext cx="1524240" cy="64260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umusan Masal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17524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ujuan Peneli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3055200">
              <a:off x="6714000" y="3418920"/>
              <a:ext cx="171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faat Penelit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2743200"/>
              <a:ext cx="990720" cy="9144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3733920"/>
              <a:ext cx="838080" cy="761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727de0"/>
            </a:solidFill>
            <a:ln cap="sq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2971800"/>
              <a:ext cx="8380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647960" y="2895480"/>
              <a:ext cx="685800" cy="609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486400"/>
              <a:ext cx="1676160" cy="533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23880" y="2514240"/>
              <a:ext cx="2819520" cy="3581280"/>
            </a:xfrm>
            <a:custGeom>
              <a:avLst/>
              <a:gdLst>
                <a:gd name="textAreaLeft" fmla="*/ 377640 w 2819520"/>
                <a:gd name="textAreaRight" fmla="*/ 2441880 w 2819520"/>
                <a:gd name="textAreaTop" fmla="*/ 626760 h 3581280"/>
                <a:gd name="textAreaBottom" fmla="*/ 259668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715000"/>
              <a:ext cx="1752480" cy="368280"/>
            </a:xfrm>
            <a:prstGeom prst="rect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simpu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4648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GIATAN PENELI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5909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2819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971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EMBA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A0C-9922-4106-A8F7-CE5525FC9E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D5CFF-D37B-4C11-A19E-8BCBBFDBD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Latar Belaka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aian kontekstual dari permasalahan yang ditel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bersinambungan dengan hasil penelitian sebelumn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rent issues, iss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temporer yang terk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ad Ma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ulasan masa depan peneli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gensi, motivasi, pentingnya masalah yang ditel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5F5-23EF-412E-9CC0-7DCA929FF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FD4D1-EE9D-4AFD-B858-8CA1BF22C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Rumusan Masala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39068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rai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tanya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nelitian yang harus dicari jawabannya melalui proses penelitian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berapa jauh UNHAS mampu menerapkan TIK dalam menunjang penyelenggaraan [program] pengajaran dan pembelajara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066-44D1-4857-948B-BF7FA434AA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45B33-0B69-4445-A4AE-36076A167D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Tujuan Peneli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99072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.sesuatu yang ingin dicapai oleh peneliti [dengan penelitiannya]….berupa keinginan realistis ….. Harus mempunyai kaitan atau hubungan ya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lev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ng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al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ang diteliti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gungkapkan kemampuan UNHAS dalam menerapkan TIK [yang] menunjang  penyelenggaraan [program] pengajaran dan pembelajaran ………………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502-9BB7-4051-972D-7CA228ECB5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198A-C20E-4DCC-8919-467D3D57BD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Manfaat Peneli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990720"/>
            <a:ext cx="762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.menggambarkan manfaat dan pentingnya hasil penelitian bagi pengembangan ilmu mau pun pembangunan yang lebih luas… manfaat dari diperolehnya hasil penelitian [dicapainya tujuan penelitian]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doman Penulisan Tesis dan Disertasi Edisi 4, PPS-UNHAS 200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il penelitian ini dapat dimanfaatkan oleh para pimpinan universitas, fakultas dan bagian-bagian yang terkait…… untuk membuat kebijakan dalam penerapan TI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ri naskah proposal disertasi oleh Muhammad Nadjib, 200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B3C-BB6D-49A1-B94C-6A2B5845F31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40B52-02D4-454D-A921-7FF1AD5F66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6-12-26T12:36:31Z</dcterms:modified>
  <cp:revision>143</cp:revision>
  <dc:subject/>
  <dc:title>PowerPoint Presentation</dc:title>
</cp:coreProperties>
</file>