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89592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456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036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056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036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056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C907-EE66-461A-A445-0F02988D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D00E-8F25-4D2D-8005-C193CE23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C80-A314-42CB-8885-50E2F267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F013-F549-42F1-8507-99F3B269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969-6357-40AC-AD97-506D0DF5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460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C21B-6F2D-4781-8CF4-AC9E64B6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EE16-A47C-44F9-9B97-894D35CB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64E-3709-4B4D-8D40-78DB2ADA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1CB1-72FE-4E94-9196-E13BCC0B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89592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E52D-6876-4B47-BB9D-276CDF19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639B-819A-4176-849B-CC373C56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990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89592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5E85-A085-488F-8E85-439630FB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460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4560" y="389592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4560" y="990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89592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304560"/>
            <a:ext cx="846000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9097-D2F7-47FA-AF25-B0321AD6D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150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76120" y="1219320"/>
            <a:ext cx="86108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6120" y="3505320"/>
            <a:ext cx="861084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28760" y="351324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ll G Hopki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ckland University of Technolog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ckland NZ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"/>
          <p:cNvSpPr/>
          <p:nvPr/>
        </p:nvSpPr>
        <p:spPr>
          <a:xfrm>
            <a:off x="276120" y="762120"/>
            <a:ext cx="8610840" cy="78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28400" y="8380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Narrow"/>
              </a:rPr>
              <a:t>Quantitative Data Analysi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"/>
          <p:cNvSpPr/>
          <p:nvPr/>
        </p:nvSpPr>
        <p:spPr>
          <a:xfrm>
            <a:off x="428760" y="1622520"/>
            <a:ext cx="815328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 Narrow"/>
              </a:rPr>
              <a:t>Summarizing Data: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variables; simple statistics; effect statistics and statistical models; complex mode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 Narrow"/>
              </a:rPr>
              <a:t>Generalizing from Sample to Population: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precision of estimate, confidence limits, statistical significance, p value, erro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4800600"/>
            <a:ext cx="841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ference:  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Hopkins WG (2002).  Quantitative data analysis (Slideshow).  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 Narrow"/>
              </a:rPr>
              <a:t>Sportscience 6, sportsci.org/jour/0201/Quantitative_analysis.ppt (2046 wor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686800" cy="652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ominal vs nomin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sport vs se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chi-squared test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r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contingency table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Relative frequencie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, expressed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as a difference in frequencies,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ratio of frequencies (relative risk),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or ratio of odds (odds ratio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Relative risk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is appropriate for cross-sectional or prospective designs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150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isk of having rugby disease for males relative to females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75/100)/(30/100) = 2.5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Odds ratio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is appropriate for case-control designs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150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lculated as (75/25)/(30/70) = 7.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"/>
          <p:cNvSpPr/>
          <p:nvPr/>
        </p:nvSpPr>
        <p:spPr>
          <a:xfrm>
            <a:off x="5305320" y="304920"/>
            <a:ext cx="3457800" cy="28051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560920" y="863640"/>
            <a:ext cx="1288440" cy="1266120"/>
            <a:chOff x="5560920" y="863640"/>
            <a:chExt cx="1288440" cy="1266120"/>
          </a:xfrm>
        </p:grpSpPr>
        <p:sp>
          <p:nvSpPr>
            <p:cNvPr id="341" name=""/>
            <p:cNvSpPr/>
            <p:nvPr/>
          </p:nvSpPr>
          <p:spPr>
            <a:xfrm>
              <a:off x="5560920" y="871200"/>
              <a:ext cx="1288440" cy="125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74" y="14130"/>
                  </a:moveTo>
                  <a:arcTo wR="10800" hR="10800" stAng="1077420" swAng="151142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74" y="14130"/>
                  </a:moveTo>
                  <a:arcTo wR="10800" hR="10800" stAng="1077420" swAng="15114217"/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95240" y="863640"/>
              <a:ext cx="613440" cy="817200"/>
            </a:xfrm>
            <a:custGeom>
              <a:avLst/>
              <a:gdLst/>
              <a:ahLst/>
              <a:rect l="l" t="t" r="r" b="b"/>
              <a:pathLst>
                <a:path w="391" h="520">
                  <a:moveTo>
                    <a:pt x="390" y="519"/>
                  </a:moveTo>
                  <a:lnTo>
                    <a:pt x="0" y="399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262640" y="863640"/>
            <a:ext cx="1295280" cy="1266120"/>
            <a:chOff x="7262640" y="863640"/>
            <a:chExt cx="1295280" cy="1266120"/>
          </a:xfrm>
        </p:grpSpPr>
        <p:sp>
          <p:nvSpPr>
            <p:cNvPr id="344" name=""/>
            <p:cNvSpPr/>
            <p:nvPr/>
          </p:nvSpPr>
          <p:spPr>
            <a:xfrm>
              <a:off x="7271640" y="873000"/>
              <a:ext cx="1286280" cy="125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3"/>
                  </a:moveTo>
                  <a:arcTo wR="10800" hR="10800" stAng="-10791426" swAng="5383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3"/>
                  </a:moveTo>
                  <a:arcTo wR="10800" hR="10800" stAng="-10791426" swAng="5383063"/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62640" y="863640"/>
              <a:ext cx="644760" cy="630360"/>
            </a:xfrm>
            <a:custGeom>
              <a:avLst/>
              <a:gdLst/>
              <a:ahLst/>
              <a:rect l="l" t="t" r="r" b="b"/>
              <a:pathLst>
                <a:path w="411" h="401">
                  <a:moveTo>
                    <a:pt x="0" y="400"/>
                  </a:moveTo>
                  <a:lnTo>
                    <a:pt x="410" y="400"/>
                  </a:lnTo>
                  <a:lnTo>
                    <a:pt x="41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5781600" y="374760"/>
            <a:ext cx="9255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497720" y="374760"/>
            <a:ext cx="8780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563440" y="863640"/>
            <a:ext cx="1285920" cy="1266840"/>
            <a:chOff x="5563440" y="863640"/>
            <a:chExt cx="1285920" cy="1266840"/>
          </a:xfrm>
        </p:grpSpPr>
        <p:sp>
          <p:nvSpPr>
            <p:cNvPr id="349" name=""/>
            <p:cNvSpPr/>
            <p:nvPr/>
          </p:nvSpPr>
          <p:spPr>
            <a:xfrm>
              <a:off x="5563440" y="871200"/>
              <a:ext cx="1285920" cy="125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4" y="0"/>
                  </a:moveTo>
                  <a:arcTo wR="10800" hR="10800" stAng="-5408363" swAng="6485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4" y="0"/>
                  </a:moveTo>
                  <a:arcTo wR="10800" hR="10800" stAng="-5408363" swAng="6485783"/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95960" y="863640"/>
              <a:ext cx="613080" cy="817560"/>
            </a:xfrm>
            <a:custGeom>
              <a:avLst/>
              <a:gdLst/>
              <a:ahLst/>
              <a:rect l="l" t="t" r="r" b="b"/>
              <a:pathLst>
                <a:path w="391" h="520">
                  <a:moveTo>
                    <a:pt x="0" y="0"/>
                  </a:moveTo>
                  <a:lnTo>
                    <a:pt x="0" y="399"/>
                  </a:lnTo>
                  <a:lnTo>
                    <a:pt x="390" y="5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210360" y="1173240"/>
            <a:ext cx="720720" cy="40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398"/>
              </a:lnSpc>
              <a:spcAft>
                <a:spcPts val="901"/>
              </a:spcAft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262640" y="863640"/>
            <a:ext cx="1296360" cy="1266120"/>
            <a:chOff x="7262640" y="863640"/>
            <a:chExt cx="1296360" cy="1266120"/>
          </a:xfrm>
        </p:grpSpPr>
        <p:sp>
          <p:nvSpPr>
            <p:cNvPr id="353" name=""/>
            <p:cNvSpPr/>
            <p:nvPr/>
          </p:nvSpPr>
          <p:spPr>
            <a:xfrm>
              <a:off x="7270200" y="871200"/>
              <a:ext cx="1288800" cy="125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4" y="0"/>
                  </a:moveTo>
                  <a:arcTo wR="10800" hR="10800" stAng="-5408363" swAng="16216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4" y="0"/>
                  </a:moveTo>
                  <a:arcTo wR="10800" hR="10800" stAng="-5408363" swAng="16216937"/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62640" y="863640"/>
              <a:ext cx="645120" cy="630000"/>
            </a:xfrm>
            <a:custGeom>
              <a:avLst/>
              <a:gdLst/>
              <a:ahLst/>
              <a:rect l="l" t="t" r="r" b="b"/>
              <a:pathLst>
                <a:path w="411" h="401">
                  <a:moveTo>
                    <a:pt x="410" y="0"/>
                  </a:moveTo>
                  <a:lnTo>
                    <a:pt x="410" y="400"/>
                  </a:lnTo>
                  <a:lnTo>
                    <a:pt x="0" y="40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7858080" y="1519200"/>
            <a:ext cx="760320" cy="43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398"/>
              </a:lnSpc>
              <a:spcAft>
                <a:spcPts val="901"/>
              </a:spcAft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32480" y="2367000"/>
            <a:ext cx="214200" cy="2142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02200" y="2249640"/>
            <a:ext cx="1886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y y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32480" y="2746440"/>
            <a:ext cx="214200" cy="2109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902200" y="2625840"/>
            <a:ext cx="1886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y 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53416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ominal vs numer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heart disease vs ag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categorical modeling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relative risk or odds ratio</a:t>
            </a:r>
            <a:br>
              <a:rPr sz="2500"/>
            </a:b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per unit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f the numeric variable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(e.g., 2.3 per decade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ordinal or counts vs whatev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an sometimes be analyzed as numeric variables using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egression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r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 t test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therwis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logistic regressio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generalized linear modeling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Comple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model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st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educibl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to t tests, regression, or relative frequenci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Example…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330120"/>
            <a:ext cx="3505320" cy="2946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02320" y="455760"/>
            <a:ext cx="2030400" cy="18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02520" y="2705040"/>
            <a:ext cx="81756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ge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6280" y="812880"/>
            <a:ext cx="898560" cy="115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a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ea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72320" y="993600"/>
            <a:ext cx="1657440" cy="1171800"/>
          </a:xfrm>
          <a:custGeom>
            <a:avLst/>
            <a:gdLst/>
            <a:ahLst/>
            <a:rect l="l" t="t" r="r" b="b"/>
            <a:pathLst>
              <a:path w="1044" h="738">
                <a:moveTo>
                  <a:pt x="0" y="738"/>
                </a:moveTo>
                <a:cubicBezTo>
                  <a:pt x="53" y="729"/>
                  <a:pt x="207" y="732"/>
                  <a:pt x="318" y="684"/>
                </a:cubicBezTo>
                <a:cubicBezTo>
                  <a:pt x="450" y="636"/>
                  <a:pt x="557" y="541"/>
                  <a:pt x="666" y="450"/>
                </a:cubicBezTo>
                <a:cubicBezTo>
                  <a:pt x="775" y="359"/>
                  <a:pt x="965" y="94"/>
                  <a:pt x="1044" y="0"/>
                </a:cubicBezTo>
              </a:path>
            </a:pathLst>
          </a:custGeom>
          <a:noFill/>
          <a:ln w="25560">
            <a:solidFill>
              <a:srgbClr val="f76681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85944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7002360" y="214164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693108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7319160" y="56988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735732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728676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806940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927920" y="214164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778428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713720" y="56916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42968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1688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944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02360" y="214164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778428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714384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728676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 rot="16200000">
            <a:off x="7405200" y="21412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rot="16200000">
            <a:off x="8210880" y="56988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rot="16200000">
            <a:off x="8386560" y="56988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rot="16200000">
            <a:off x="831060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 rot="16200000">
            <a:off x="7854480" y="21412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 rot="16200000">
            <a:off x="7996680" y="569880"/>
            <a:ext cx="7164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 rot="16200000">
            <a:off x="7857360" y="214236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7143840" y="2143080"/>
            <a:ext cx="7128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764136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8140680" y="5698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7997040" y="56988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7547760" y="56916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07220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78428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814068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7856640" y="56916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7357320" y="2143080"/>
            <a:ext cx="7164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7641360" y="2143080"/>
            <a:ext cx="7164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8083440" y="569160"/>
            <a:ext cx="698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741600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7858080" y="569160"/>
            <a:ext cx="698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0396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flipV="1" rot="5400000">
            <a:off x="762480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 flipV="1" rot="5400000">
            <a:off x="7701840" y="214236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 rot="5400000">
            <a:off x="770112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5400000">
            <a:off x="7343280" y="21412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7858080" y="569160"/>
            <a:ext cx="698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754380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366960" y="2184480"/>
            <a:ext cx="81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66960" y="1792440"/>
            <a:ext cx="81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366960" y="1400040"/>
            <a:ext cx="81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366960" y="1008000"/>
            <a:ext cx="81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366960" y="617400"/>
            <a:ext cx="81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6448320" y="617040"/>
            <a:ext cx="1800" cy="156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6502320" y="2360160"/>
            <a:ext cx="2031840" cy="81360"/>
            <a:chOff x="6502320" y="2360160"/>
            <a:chExt cx="2031840" cy="81360"/>
          </a:xfrm>
        </p:grpSpPr>
        <p:sp>
          <p:nvSpPr>
            <p:cNvPr id="418" name=""/>
            <p:cNvSpPr/>
            <p:nvPr/>
          </p:nvSpPr>
          <p:spPr>
            <a:xfrm>
              <a:off x="8403840" y="23605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09640" y="23605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94920" y="23605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01080" y="23605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86000" y="23605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6502320" y="2360160"/>
              <a:ext cx="2031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6162840" y="1974960"/>
            <a:ext cx="17748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84200" y="403200"/>
            <a:ext cx="45504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8133480" y="21416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7993080" y="214164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8375760" y="21416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 rot="16200000">
            <a:off x="7919640" y="21412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 rot="16200000">
            <a:off x="7922520" y="214236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8305920" y="5698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636600" y="2400480"/>
            <a:ext cx="31608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443000" y="2400480"/>
            <a:ext cx="31608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236800" y="2400480"/>
            <a:ext cx="31608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04920" y="127080"/>
            <a:ext cx="8534160" cy="671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controlled tria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(numeric vs 2 nominal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strength vs trial vs grou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unpaired t test of </a:t>
            </a:r>
            <a:br>
              <a:rPr sz="2500"/>
            </a:b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change score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(2 trials, 2 group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repeated-measures ANOVA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with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within- and between-subject factors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(&gt;2 trials or group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Note: use line diagram, not bar graph, for repeated measures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difference in change in mean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expressed as raw difference, percent difference, or fraction of the pre standard deviation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ther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tandard deviation representing </a:t>
            </a: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individual response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(derived from within-subject standard deviations in the two group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"/>
          <p:cNvSpPr/>
          <p:nvPr/>
        </p:nvSpPr>
        <p:spPr>
          <a:xfrm>
            <a:off x="5791320" y="279360"/>
            <a:ext cx="2895480" cy="27003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316640" y="449280"/>
            <a:ext cx="1168560" cy="169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237800" y="2233440"/>
            <a:ext cx="510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24760" y="2233440"/>
            <a:ext cx="61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7323120" y="2216160"/>
            <a:ext cx="1171440" cy="74160"/>
            <a:chOff x="7323120" y="2216160"/>
            <a:chExt cx="1171440" cy="74160"/>
          </a:xfrm>
        </p:grpSpPr>
        <p:sp>
          <p:nvSpPr>
            <p:cNvPr id="441" name=""/>
            <p:cNvSpPr/>
            <p:nvPr/>
          </p:nvSpPr>
          <p:spPr>
            <a:xfrm>
              <a:off x="7323120" y="2224440"/>
              <a:ext cx="1171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7484760" y="2216160"/>
              <a:ext cx="0" cy="7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8322840" y="2216160"/>
              <a:ext cx="0" cy="7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7485120" y="1690560"/>
            <a:ext cx="0" cy="33192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493040" y="1045800"/>
            <a:ext cx="825480" cy="514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7485120" y="1225080"/>
            <a:ext cx="0" cy="352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435800" y="2023920"/>
            <a:ext cx="9864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435800" y="1225440"/>
            <a:ext cx="98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8325000" y="54576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25000" y="1514520"/>
            <a:ext cx="0" cy="33192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272440" y="546120"/>
            <a:ext cx="106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271000" y="1846440"/>
            <a:ext cx="10620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7493040" y="1517760"/>
            <a:ext cx="825480" cy="1728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973080"/>
            <a:ext cx="181080" cy="174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234280" y="1419120"/>
            <a:ext cx="179640" cy="150840"/>
          </a:xfrm>
          <a:prstGeom prst="triangle">
            <a:avLst>
              <a:gd name="adj" fmla="val 49995"/>
            </a:avLst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1469880"/>
            <a:ext cx="180720" cy="174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396200" y="1614600"/>
            <a:ext cx="179280" cy="150840"/>
          </a:xfrm>
          <a:prstGeom prst="triangle">
            <a:avLst>
              <a:gd name="adj" fmla="val 49995"/>
            </a:avLst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5880" y="1117440"/>
            <a:ext cx="806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7156080" y="431280"/>
            <a:ext cx="81360" cy="1703160"/>
            <a:chOff x="7156080" y="431280"/>
            <a:chExt cx="81360" cy="1703160"/>
          </a:xfrm>
        </p:grpSpPr>
        <p:sp>
          <p:nvSpPr>
            <p:cNvPr id="460" name=""/>
            <p:cNvSpPr/>
            <p:nvPr/>
          </p:nvSpPr>
          <p:spPr>
            <a:xfrm flipH="1">
              <a:off x="7156080" y="202536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156080" y="169524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156080" y="134748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7156080" y="101736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7156080" y="66960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237440" y="431280"/>
              <a:ext cx="0" cy="170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7570800" y="2522520"/>
            <a:ext cx="583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510680" y="663480"/>
            <a:ext cx="637200" cy="424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Narrow"/>
              </a:rPr>
              <a:t>dru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516440" y="1731960"/>
            <a:ext cx="978480" cy="424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ff"/>
                </a:solidFill>
                <a:latin typeface="Arial Narrow"/>
              </a:rPr>
              <a:t>placeb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62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extra predictor variable to "control for something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heart disease vs physical activity vs ag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an't reduce to anything simpler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multiple linear regression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analysis of covariance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(ANCOVA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Equivalent to the effect of physical activity with everyone at the </a:t>
            </a: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same age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Reduction in the effect of physical activity on disease when age is included implies age is at least partly the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reason</a:t>
            </a:r>
            <a:r>
              <a:rPr b="0" lang="en-US" sz="2500" spc="-1" strike="noStrike">
                <a:solidFill>
                  <a:srgbClr val="009900"/>
                </a:solidFill>
                <a:latin typeface="Arial Narrow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or</a:t>
            </a:r>
            <a:r>
              <a:rPr b="0" lang="en-US" sz="2500" spc="-1" strike="noStrike">
                <a:solidFill>
                  <a:srgbClr val="009900"/>
                </a:solidFill>
                <a:latin typeface="Arial Narrow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mechanism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for the effect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ame analysis gives the effect of age with everyone at same level of physical activity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an use special analysis (mixed modeling) to include a mechanism variable in a repeated-measures model.  See separate presentation at newstats.org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blem: some models don't fit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uniforml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or different subject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at is,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between- or within-subject standard deviations differ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between some subject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quivalently,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esiduals are non-uniform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have different standard deviations for different subjects)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Determine by examining standard deviations or plots of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esiduals vs predicted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Non-uniformity makes p values and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confidence limits wrong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How to fix…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Use unpaired t test for groups with </a:t>
            </a: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unequal variance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, or…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Try taking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log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f dependent variable before analyzing, or…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Find some other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transformation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.  As a last resort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Use </a:t>
            </a:r>
            <a:r>
              <a:rPr b="1" lang="en-AU" sz="2500" spc="-1" strike="noStrike">
                <a:solidFill>
                  <a:srgbClr val="009900"/>
                </a:solidFill>
                <a:latin typeface="Arial Narrow"/>
              </a:rPr>
              <a:t>rank transformation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: 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convert dependent variable to ranks before analyzing (=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non-parametric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analysis–same as Wilcoxon, Kruskal-Wallis and other tests)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64600" y="101160"/>
            <a:ext cx="869004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eneralizing from a Sample to a Popul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66760" y="786960"/>
            <a:ext cx="8686800" cy="599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You study a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find out about the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value of a statistic for a sample is only an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estimat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f the true (population) valu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press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precisio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uncertaint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n true value using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95% confidence limit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nfidence limits represent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likely range of the true valu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y do NOT represent a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ange of value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in different subject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re's a 5% chance the true value is outside the 95% confidence interval: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ype 0 error rat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erpret the observed value and the confidence limits as clinically or practically beneficial, trivial, or harmful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ven better, work out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robability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that the effect is clinically or practically beneficial/trivial/harmful. See sportsci.org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34160" cy="641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Statistical significanc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an old-fashioned way of generalizing, based on testing whether the true value could be zero or null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Assume the </a:t>
            </a:r>
            <a:r>
              <a:rPr b="0" lang="en-US" sz="2700" spc="-1" strike="noStrike">
                <a:solidFill>
                  <a:srgbClr val="cc0066"/>
                </a:solidFill>
                <a:latin typeface="Arial Narrow"/>
              </a:rPr>
              <a:t>null hypothesi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 that the true value is zero (null)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f your observed value falls in a region of extreme values that would occur only 5% of the time, you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eject the null hypothesi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at is, you decide that the true value is unlikely to be zero; you can state that the result is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tatistically significant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at the 5% level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f the observed value does not fall in the 5% unlikely region, most peopl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mistakenly accept the null hypothesi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 they conclude that the true value is zero or null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 valu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helps you decide whether your result falls in the unlikely region. 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If</a:t>
            </a: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 p&lt;0.05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, your result is in the unlikely region. 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3416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ne meaning of the p value: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robability of a more extreme observed valu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positive or negative) when true value is zero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Better meaning of the p value: if you observe a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ositiv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effect,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1 - p/2</a:t>
            </a:r>
            <a:r>
              <a:rPr b="0" lang="en-US" sz="2600" spc="-1" strike="noStrike">
                <a:solidFill>
                  <a:srgbClr val="009900"/>
                </a:solidFill>
                <a:latin typeface="Arial Narrow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s the chance the true value is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ositiv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and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p/2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is the chance the true value is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negativ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  Ditto for a negative effect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Example:  you observe a 1.5% enhancement of performance (p=0.08).  Therefore there is a 96% chance that the true effect is any "enhancement" and a 4% chance that the true effect is any "impairment"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This interpretation does not take into account trivial enhancements and impairments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refore, if you must use p values, show exact values, not p&lt;0.05 or p&gt;0.05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Meta-analyst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also need the exact p value (or confidence limits)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7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 fontScale="99000"/>
          </a:bodyPr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f the true value is zero, there's a 5% chance of getting statistical significance: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ype I error rat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ate of false positives or false alarm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ere's also a chance that the smallest worthwhile true value will produce an observed value that is not statistically significant: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ype II error rat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rate of false negatives or failed alarm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In the old-fashioned approach to research design, you are supposed to have enough subjects to make a Type II error rate of 20%:  that is, your study is supposed to have a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power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f 80% to detect the smallest worthwhile effect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f you look at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lots of effect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in a study, there's an increased chance being wrong about at least one of them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Old-fashioned statisticians like to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control this inflation of </a:t>
            </a:r>
            <a:br>
              <a:rPr sz="2500"/>
            </a:b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the Type I error rate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within an ANOVA to make sure the increased chance is kept to 5%. This approach is misguided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85840" y="76320"/>
            <a:ext cx="8610480" cy="67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 standard error of the mea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typical variation in the mean from sample to sample) can convey statistical significance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Non-overlap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f the error bars of two groups implies a statistically significant difference, but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only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for groups of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equal siz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e.g. males vs females)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n particular, non-overlap does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convey statistical significance in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experiment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871560" y="3227400"/>
            <a:ext cx="7467480" cy="3402000"/>
            <a:chOff x="871560" y="3227400"/>
            <a:chExt cx="7467480" cy="3402000"/>
          </a:xfrm>
        </p:grpSpPr>
        <p:sp>
          <p:nvSpPr>
            <p:cNvPr id="478" name=""/>
            <p:cNvSpPr/>
            <p:nvPr/>
          </p:nvSpPr>
          <p:spPr>
            <a:xfrm>
              <a:off x="871560" y="3227400"/>
              <a:ext cx="7467480" cy="3402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881360" y="4040280"/>
              <a:ext cx="1927080" cy="192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55720" y="5964120"/>
              <a:ext cx="41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55720" y="5008680"/>
              <a:ext cx="41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755720" y="4025880"/>
              <a:ext cx="41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1797120" y="4025520"/>
              <a:ext cx="0" cy="194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881360" y="6048360"/>
              <a:ext cx="192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30600" y="4584600"/>
              <a:ext cx="7927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what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e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230508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339084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64680" y="6062760"/>
              <a:ext cx="653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35080" y="6062760"/>
              <a:ext cx="54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311560" y="4525560"/>
              <a:ext cx="1090440" cy="2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305080" y="4122360"/>
              <a:ext cx="1109520" cy="88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2305080" y="4382640"/>
              <a:ext cx="110952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305080" y="4133520"/>
              <a:ext cx="1096920" cy="11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2305080" y="4738680"/>
              <a:ext cx="1109520" cy="65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305080" y="4595400"/>
              <a:ext cx="1109520" cy="9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2305080" y="5118120"/>
              <a:ext cx="1096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2305080" y="4929120"/>
              <a:ext cx="1096920" cy="88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23400" y="3241800"/>
              <a:ext cx="1733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High reli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 = 0.00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27320" y="530856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27320" y="557064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27320" y="54514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27320" y="57484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27320" y="4727520"/>
              <a:ext cx="133200" cy="133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27320" y="494172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27320" y="516744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341520" y="452772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341520" y="48466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341520" y="466884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41520" y="50482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41520" y="431316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341520" y="41590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41520" y="44560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27320" y="509580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41520" y="40528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023160" y="3241800"/>
            <a:ext cx="1989000" cy="3275640"/>
            <a:chOff x="6023160" y="3241800"/>
            <a:chExt cx="1989000" cy="3275640"/>
          </a:xfrm>
        </p:grpSpPr>
        <p:sp>
          <p:nvSpPr>
            <p:cNvPr id="516" name=""/>
            <p:cNvSpPr/>
            <p:nvPr/>
          </p:nvSpPr>
          <p:spPr>
            <a:xfrm>
              <a:off x="6083280" y="4040280"/>
              <a:ext cx="1928880" cy="192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83280" y="6048360"/>
              <a:ext cx="1928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650880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59456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268400" y="6062760"/>
              <a:ext cx="653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38800" y="6062760"/>
              <a:ext cx="54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515280" y="4584600"/>
              <a:ext cx="1066680" cy="78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6510240" y="5141880"/>
              <a:ext cx="0" cy="22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77120" y="5141880"/>
              <a:ext cx="6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10240" y="5380200"/>
              <a:ext cx="0" cy="19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77120" y="5587920"/>
              <a:ext cx="6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23160" y="3241800"/>
              <a:ext cx="1725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Mean ± SE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in both c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594560" y="4363920"/>
              <a:ext cx="0" cy="22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61440" y="4363920"/>
              <a:ext cx="6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594560" y="4597560"/>
              <a:ext cx="0" cy="19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61440" y="4800600"/>
              <a:ext cx="6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19880" y="5273640"/>
              <a:ext cx="177840" cy="176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505640" y="4491000"/>
              <a:ext cx="177840" cy="176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933000" y="3241800"/>
            <a:ext cx="1985040" cy="3275640"/>
            <a:chOff x="3933000" y="3241800"/>
            <a:chExt cx="1985040" cy="3275640"/>
          </a:xfrm>
        </p:grpSpPr>
        <p:sp>
          <p:nvSpPr>
            <p:cNvPr id="535" name=""/>
            <p:cNvSpPr/>
            <p:nvPr/>
          </p:nvSpPr>
          <p:spPr>
            <a:xfrm>
              <a:off x="3990960" y="4040280"/>
              <a:ext cx="1927080" cy="192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90960" y="6048360"/>
              <a:ext cx="192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441648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5500800" y="6048360"/>
              <a:ext cx="0" cy="5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72840" y="6062760"/>
              <a:ext cx="653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45040" y="6062760"/>
              <a:ext cx="54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4410000" y="4738320"/>
              <a:ext cx="110196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410000" y="5118120"/>
              <a:ext cx="109080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416480" y="4382640"/>
              <a:ext cx="110808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421160" y="4133520"/>
              <a:ext cx="1090800" cy="12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410000" y="4792680"/>
              <a:ext cx="110196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4416480" y="4595400"/>
              <a:ext cx="1108080" cy="9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416480" y="4239720"/>
              <a:ext cx="1084320" cy="141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416480" y="4525920"/>
              <a:ext cx="1084320" cy="129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33000" y="3241800"/>
              <a:ext cx="1677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Low reli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 = 0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36920" y="530856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36920" y="557064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36920" y="54514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36920" y="574848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36920" y="4727520"/>
              <a:ext cx="133560" cy="133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36920" y="494172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36920" y="516744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51480" y="452772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51480" y="48466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51480" y="466884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51480" y="50482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451480" y="431316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451480" y="41590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51480" y="44560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36920" y="5095800"/>
              <a:ext cx="13356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51480" y="4052880"/>
              <a:ext cx="133200" cy="13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920" y="151920"/>
            <a:ext cx="866448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txBody>
          <a:bodyPr lIns="126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ummarizing Dat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9360" y="837720"/>
            <a:ext cx="86616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ata are a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bunch of value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f one or more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variable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something that has different valu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Values can b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number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name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depending on the variable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62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Numeric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e.g. weight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62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Counting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e.g. number of injurie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62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Ordinal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e.g. competitive level (values are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numbers/names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62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Nominal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e.g. sex (values are name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When values are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number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,  visualize the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distribution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of all values in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stem and leaf plot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or in a frequency histogram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Can also use </a:t>
            </a:r>
            <a:r>
              <a:rPr b="1" lang="en-AU" sz="2600" spc="-1" strike="noStrike">
                <a:solidFill>
                  <a:srgbClr val="009900"/>
                </a:solidFill>
                <a:latin typeface="Arial Narrow"/>
              </a:rPr>
              <a:t>normal probability plots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 to visualize how well the values fit a normal distribution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When values are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name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, visualize the frequency of each value with a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pie chart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or a just a list of values and frequenci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285840" y="75960"/>
            <a:ext cx="861048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summa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f you must 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use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tatistical significance, show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exact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p value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Better still, show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confidence limit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instead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NEVER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show the standard error of the mean!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how the usual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between-subject standard deviatio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to convey the spread between subject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In population studies, this standard deviation helps convey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magnitude of differences or changes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in the mean.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n 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interventions, 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how also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within-subject standard deviatio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the typical error)  to convey precision of measurement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In athlete studies, this standard deviation helps convey magnitude of differences or changes in mean </a:t>
            </a:r>
            <a:r>
              <a:rPr b="1" lang="en-US" sz="2500" spc="-1" strike="noStrike">
                <a:solidFill>
                  <a:srgbClr val="009900"/>
                </a:solidFill>
                <a:latin typeface="Arial Narrow"/>
              </a:rPr>
              <a:t>performance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03040" y="76320"/>
            <a:ext cx="8737920" cy="660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statisti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a number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summarizin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 bunch of valu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impl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univariat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statistics summarize values of one variable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Effect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outcom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statistics summarize the relationship between values of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wo or more variabl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 statistics for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umeri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variables…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Mea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 the average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tandard deviatio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 the typical variation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tandard error of the mea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 the typical variation in the mean with repeated sampling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99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Multiply by </a:t>
            </a:r>
            <a:r>
              <a:rPr b="1" lang="en-US" sz="2600" spc="-1" strike="noStrike">
                <a:solidFill>
                  <a:srgbClr val="009900"/>
                </a:solidFill>
                <a:latin typeface="Symbol"/>
                <a:ea typeface="Symbol"/>
              </a:rPr>
              <a:t></a:t>
            </a:r>
            <a:r>
              <a:rPr b="1" lang="en-US" sz="2600" spc="-1" strike="noStrike">
                <a:solidFill>
                  <a:srgbClr val="009900"/>
                </a:solidFill>
                <a:latin typeface="Arial Narrow"/>
              </a:rPr>
              <a:t>(sample size)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to convert to standard deviation.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Use these also f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counting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and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 ordinal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variabl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Use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median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(middle value or 50th percentile) and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quartile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 (25th and 75th percentiles) for grossly non-normally distributed data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Summarize these and other simple statistics visually with </a:t>
            </a:r>
            <a:r>
              <a:rPr b="0" lang="en-AU" sz="2600" spc="-1" strike="noStrike">
                <a:solidFill>
                  <a:srgbClr val="cc0066"/>
                </a:solidFill>
                <a:latin typeface="Arial Narrow"/>
              </a:rPr>
              <a:t>box and whisker plots</a:t>
            </a:r>
            <a:r>
              <a:rPr b="0" lang="en-AU" sz="2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396360"/>
            <a:ext cx="8534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e statistics for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omina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variabl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cc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Frequencie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, proportions, or odd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an also use these for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ordinal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variabl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Effe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statistics…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Derived from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tatistical model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equation) of the form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  Y (dependent) vs X (predictor or independent)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Depend on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ype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of Y and X .  Main one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3759120"/>
            <a:ext cx="8534160" cy="473040"/>
            <a:chOff x="304920" y="3759120"/>
            <a:chExt cx="8534160" cy="473040"/>
          </a:xfrm>
        </p:grpSpPr>
        <p:sp>
          <p:nvSpPr>
            <p:cNvPr id="91" name=""/>
            <p:cNvSpPr/>
            <p:nvPr/>
          </p:nvSpPr>
          <p:spPr>
            <a:xfrm>
              <a:off x="304920" y="3759120"/>
              <a:ext cx="1427040" cy="473040"/>
            </a:xfrm>
            <a:prstGeom prst="rect">
              <a:avLst/>
            </a:prstGeom>
            <a:solidFill>
              <a:srgbClr val="ffff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36640" y="3759120"/>
              <a:ext cx="1230480" cy="473040"/>
            </a:xfrm>
            <a:prstGeom prst="rect">
              <a:avLst/>
            </a:prstGeom>
            <a:solidFill>
              <a:srgbClr val="99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35600" y="3759120"/>
              <a:ext cx="3903480" cy="473040"/>
            </a:xfrm>
            <a:prstGeom prst="rect">
              <a:avLst/>
            </a:prstGeom>
            <a:solidFill>
              <a:srgbClr val="ff99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Effect statistic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59200" y="3759120"/>
              <a:ext cx="1976400" cy="473040"/>
            </a:xfrm>
            <a:prstGeom prst="rect">
              <a:avLst/>
            </a:prstGeom>
            <a:solidFill>
              <a:srgbClr val="99ff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Model/Tes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04920" y="4219560"/>
            <a:ext cx="8534160" cy="473040"/>
            <a:chOff x="304920" y="4219560"/>
            <a:chExt cx="8534160" cy="473040"/>
          </a:xfrm>
        </p:grpSpPr>
        <p:sp>
          <p:nvSpPr>
            <p:cNvPr id="96" name=""/>
            <p:cNvSpPr/>
            <p:nvPr/>
          </p:nvSpPr>
          <p:spPr>
            <a:xfrm>
              <a:off x="304920" y="4219560"/>
              <a:ext cx="1427040" cy="47304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umeri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36640" y="4219560"/>
              <a:ext cx="1230480" cy="4730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umeri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35600" y="4219560"/>
              <a:ext cx="3903480" cy="47304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slope, intercept, correlation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59200" y="4219560"/>
              <a:ext cx="1976400" cy="473040"/>
            </a:xfrm>
            <a:prstGeom prst="rect">
              <a:avLst/>
            </a:prstGeom>
            <a:solidFill>
              <a:srgbClr val="cc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regress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04920" y="4689360"/>
            <a:ext cx="8534160" cy="1406520"/>
            <a:chOff x="304920" y="4689360"/>
            <a:chExt cx="8534160" cy="1406520"/>
          </a:xfrm>
        </p:grpSpPr>
        <p:sp>
          <p:nvSpPr>
            <p:cNvPr id="101" name=""/>
            <p:cNvSpPr/>
            <p:nvPr/>
          </p:nvSpPr>
          <p:spPr>
            <a:xfrm>
              <a:off x="304920" y="4689360"/>
              <a:ext cx="1427040" cy="47304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umeri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36640" y="4689360"/>
              <a:ext cx="1230480" cy="4730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omin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920" y="5156280"/>
              <a:ext cx="1427040" cy="47304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omin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36640" y="5156280"/>
              <a:ext cx="1230480" cy="4730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omin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4920" y="5622840"/>
              <a:ext cx="1427040" cy="47304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omin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36640" y="5622840"/>
              <a:ext cx="1230480" cy="47304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numeri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35600" y="4689360"/>
              <a:ext cx="3903480" cy="47304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mean differe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35600" y="5156280"/>
              <a:ext cx="3903480" cy="47304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frequency difference or rati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35600" y="5622840"/>
              <a:ext cx="3903480" cy="47304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frequency ratio per…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59200" y="4689360"/>
              <a:ext cx="1976400" cy="473040"/>
            </a:xfrm>
            <a:prstGeom prst="rect">
              <a:avLst/>
            </a:prstGeom>
            <a:solidFill>
              <a:srgbClr val="cc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t test, ANOVA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59200" y="5156280"/>
              <a:ext cx="1976400" cy="473040"/>
            </a:xfrm>
            <a:prstGeom prst="rect">
              <a:avLst/>
            </a:prstGeom>
            <a:solidFill>
              <a:srgbClr val="cc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chi-squar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59200" y="5622840"/>
              <a:ext cx="1976400" cy="473040"/>
            </a:xfrm>
            <a:prstGeom prst="rect">
              <a:avLst/>
            </a:prstGeom>
            <a:solidFill>
              <a:srgbClr val="cc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categoric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umeric vs numer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body fat vs sum of skinfol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linear regression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slope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and intercept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parameters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correlation coefficient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or variance explained (= 100·correlation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)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measures of goodness of fit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ther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typical or standard error of the estimate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residual error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best measure of </a:t>
            </a: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validity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(with criterion variable on the Y axi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304920"/>
            <a:ext cx="3429000" cy="26161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02320" y="430200"/>
            <a:ext cx="2030400" cy="18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32840" y="2425680"/>
            <a:ext cx="2207520" cy="4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m skinfolds 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560" y="874800"/>
            <a:ext cx="928800" cy="78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dy f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%B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532560" y="496800"/>
            <a:ext cx="1963800" cy="1648080"/>
          </a:xfrm>
          <a:prstGeom prst="line">
            <a:avLst/>
          </a:prstGeom>
          <a:ln w="255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59440" y="158184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002360" y="149400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931080" y="170820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214400" y="124452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357320" y="170820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286760" y="156528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8069400" y="9730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927920" y="111600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784280" y="111600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713720" y="75960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429680" y="113832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16880" y="173520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9440" y="199224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02360" y="1892160"/>
            <a:ext cx="698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784280" y="99540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7143840" y="185112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286760" y="185112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 rot="16200000">
            <a:off x="7405200" y="163584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rot="16200000">
            <a:off x="8210880" y="54432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rot="16200000">
            <a:off x="8209440" y="68724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rot="16200000">
            <a:off x="8310600" y="90180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 rot="16200000">
            <a:off x="7854480" y="85320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 rot="16200000">
            <a:off x="7997040" y="592920"/>
            <a:ext cx="7128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 rot="16200000">
            <a:off x="7857360" y="142344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143840" y="1625760"/>
            <a:ext cx="7128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641360" y="104472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8140680" y="61740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997040" y="76032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143840" y="12812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072200" y="156528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784280" y="111600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8140680" y="90180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856640" y="68904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7357320" y="1424160"/>
            <a:ext cx="7164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7641360" y="1424160"/>
            <a:ext cx="71640" cy="698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7500960" y="853200"/>
            <a:ext cx="698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416000" y="972360"/>
            <a:ext cx="7164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7275600" y="101772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03960" y="137484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 rot="5400000">
            <a:off x="7624440" y="1588320"/>
            <a:ext cx="716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 rot="5400000">
            <a:off x="7701840" y="144720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 rot="5400000">
            <a:off x="7701120" y="1305000"/>
            <a:ext cx="7128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7343280" y="12808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7275600" y="1017720"/>
            <a:ext cx="69840" cy="71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7631280" y="1302480"/>
            <a:ext cx="71280" cy="716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934920"/>
            <a:ext cx="0" cy="68580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366960" y="430200"/>
            <a:ext cx="81360" cy="1847520"/>
            <a:chOff x="6366960" y="430200"/>
            <a:chExt cx="81360" cy="1847520"/>
          </a:xfrm>
        </p:grpSpPr>
        <p:sp>
          <p:nvSpPr>
            <p:cNvPr id="166" name=""/>
            <p:cNvSpPr/>
            <p:nvPr/>
          </p:nvSpPr>
          <p:spPr>
            <a:xfrm flipH="1">
              <a:off x="6366960" y="215928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366960" y="180108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366960" y="142380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366960" y="106560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366960" y="68832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448320" y="430200"/>
              <a:ext cx="0" cy="184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502320" y="2334960"/>
            <a:ext cx="2031840" cy="81360"/>
            <a:chOff x="6502320" y="2334960"/>
            <a:chExt cx="2031840" cy="81360"/>
          </a:xfrm>
        </p:grpSpPr>
        <p:sp>
          <p:nvSpPr>
            <p:cNvPr id="173" name=""/>
            <p:cNvSpPr/>
            <p:nvPr/>
          </p:nvSpPr>
          <p:spPr>
            <a:xfrm>
              <a:off x="8403840" y="23353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09640" y="23353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94920" y="23353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01080" y="23353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6000" y="2335320"/>
              <a:ext cx="0" cy="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502320" y="2334960"/>
              <a:ext cx="2031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umeric vs nomin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strength vs se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t test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(2 group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1-way ANOVA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(&gt;2 group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difference between means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expressed as raw difference, percent difference, or fraction of the root mean square error (Cohen's effect-size statistic)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00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variance explained or better </a:t>
            </a:r>
            <a:r>
              <a:rPr b="0" lang="en-US" sz="2500" spc="-1" strike="noStrike">
                <a:solidFill>
                  <a:srgbClr val="cc0066"/>
                </a:solidFill>
                <a:latin typeface="Symbol"/>
                <a:ea typeface="Symbol"/>
              </a:rPr>
              <a:t></a:t>
            </a: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(variance explained/100)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measures of goodness of fit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ther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root mean square error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average standard deviation of the two groups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533520"/>
            <a:ext cx="3429000" cy="25905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56240" y="2438280"/>
            <a:ext cx="1192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em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85040" y="2438280"/>
            <a:ext cx="1130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46720" y="1197000"/>
            <a:ext cx="806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69200" y="674640"/>
            <a:ext cx="199368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330600" y="657000"/>
            <a:ext cx="81360" cy="1703160"/>
            <a:chOff x="6330600" y="657000"/>
            <a:chExt cx="81360" cy="1703160"/>
          </a:xfrm>
        </p:grpSpPr>
        <p:sp>
          <p:nvSpPr>
            <p:cNvPr id="186" name=""/>
            <p:cNvSpPr/>
            <p:nvPr/>
          </p:nvSpPr>
          <p:spPr>
            <a:xfrm flipH="1">
              <a:off x="6330600" y="225108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330600" y="192096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330600" y="157320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330600" y="124308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30600" y="89532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411960" y="657000"/>
              <a:ext cx="0" cy="170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772320" y="1571760"/>
            <a:ext cx="560520" cy="779400"/>
          </a:xfrm>
          <a:prstGeom prst="rect">
            <a:avLst/>
          </a:prstGeom>
          <a:solidFill>
            <a:srgbClr val="cc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61160" y="1241280"/>
            <a:ext cx="559080" cy="1109880"/>
          </a:xfrm>
          <a:prstGeom prst="rect">
            <a:avLst/>
          </a:prstGeom>
          <a:solidFill>
            <a:srgbClr val="cc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042320" y="126360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53400" y="1257480"/>
            <a:ext cx="17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950240" y="91260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867800" y="912960"/>
            <a:ext cx="17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13440" y="2720880"/>
            <a:ext cx="1192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032600" y="2357280"/>
            <a:ext cx="0" cy="7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937640" y="2357280"/>
            <a:ext cx="0" cy="7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on expressing the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magnitud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f the effec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What often matters is the difference between means relative to the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standard deviation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989640" y="1752480"/>
            <a:ext cx="3048840" cy="4191120"/>
            <a:chOff x="989640" y="1752480"/>
            <a:chExt cx="3048840" cy="4191120"/>
          </a:xfrm>
        </p:grpSpPr>
        <p:sp>
          <p:nvSpPr>
            <p:cNvPr id="203" name=""/>
            <p:cNvSpPr/>
            <p:nvPr/>
          </p:nvSpPr>
          <p:spPr>
            <a:xfrm>
              <a:off x="990720" y="2209680"/>
              <a:ext cx="3047760" cy="3733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31920" y="3657600"/>
              <a:ext cx="2577960" cy="163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36440" y="5356080"/>
              <a:ext cx="128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85920" y="3762360"/>
              <a:ext cx="2400120" cy="1542960"/>
            </a:xfrm>
            <a:custGeom>
              <a:avLst/>
              <a:gdLst/>
              <a:ahLst/>
              <a:rect l="l" t="t" r="r" b="b"/>
              <a:pathLst>
                <a:path w="1512" h="972">
                  <a:moveTo>
                    <a:pt x="0" y="969"/>
                  </a:moveTo>
                  <a:cubicBezTo>
                    <a:pt x="24" y="969"/>
                    <a:pt x="97" y="972"/>
                    <a:pt x="147" y="966"/>
                  </a:cubicBezTo>
                  <a:cubicBezTo>
                    <a:pt x="197" y="960"/>
                    <a:pt x="259" y="955"/>
                    <a:pt x="300" y="933"/>
                  </a:cubicBezTo>
                  <a:cubicBezTo>
                    <a:pt x="341" y="911"/>
                    <a:pt x="358" y="889"/>
                    <a:pt x="393" y="831"/>
                  </a:cubicBezTo>
                  <a:cubicBezTo>
                    <a:pt x="428" y="773"/>
                    <a:pt x="462" y="707"/>
                    <a:pt x="510" y="585"/>
                  </a:cubicBezTo>
                  <a:cubicBezTo>
                    <a:pt x="558" y="463"/>
                    <a:pt x="648" y="193"/>
                    <a:pt x="684" y="99"/>
                  </a:cubicBezTo>
                  <a:cubicBezTo>
                    <a:pt x="720" y="5"/>
                    <a:pt x="713" y="37"/>
                    <a:pt x="726" y="21"/>
                  </a:cubicBezTo>
                  <a:cubicBezTo>
                    <a:pt x="739" y="5"/>
                    <a:pt x="751" y="0"/>
                    <a:pt x="765" y="3"/>
                  </a:cubicBezTo>
                  <a:cubicBezTo>
                    <a:pt x="779" y="6"/>
                    <a:pt x="790" y="9"/>
                    <a:pt x="810" y="39"/>
                  </a:cubicBezTo>
                  <a:cubicBezTo>
                    <a:pt x="830" y="69"/>
                    <a:pt x="858" y="113"/>
                    <a:pt x="888" y="183"/>
                  </a:cubicBezTo>
                  <a:cubicBezTo>
                    <a:pt x="918" y="253"/>
                    <a:pt x="956" y="365"/>
                    <a:pt x="993" y="462"/>
                  </a:cubicBezTo>
                  <a:cubicBezTo>
                    <a:pt x="1030" y="559"/>
                    <a:pt x="1075" y="692"/>
                    <a:pt x="1113" y="765"/>
                  </a:cubicBezTo>
                  <a:cubicBezTo>
                    <a:pt x="1151" y="838"/>
                    <a:pt x="1190" y="869"/>
                    <a:pt x="1224" y="900"/>
                  </a:cubicBezTo>
                  <a:cubicBezTo>
                    <a:pt x="1258" y="931"/>
                    <a:pt x="1285" y="944"/>
                    <a:pt x="1320" y="954"/>
                  </a:cubicBezTo>
                  <a:cubicBezTo>
                    <a:pt x="1355" y="964"/>
                    <a:pt x="1402" y="962"/>
                    <a:pt x="1434" y="963"/>
                  </a:cubicBezTo>
                  <a:cubicBezTo>
                    <a:pt x="1466" y="964"/>
                    <a:pt x="1489" y="963"/>
                    <a:pt x="1512" y="963"/>
                  </a:cubicBezTo>
                </a:path>
              </a:pathLst>
            </a:custGeom>
            <a:noFill/>
            <a:ln w="284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46040" y="3762360"/>
              <a:ext cx="2400480" cy="1542960"/>
            </a:xfrm>
            <a:custGeom>
              <a:avLst/>
              <a:gdLst/>
              <a:ahLst/>
              <a:rect l="l" t="t" r="r" b="b"/>
              <a:pathLst>
                <a:path w="1512" h="972">
                  <a:moveTo>
                    <a:pt x="0" y="969"/>
                  </a:moveTo>
                  <a:cubicBezTo>
                    <a:pt x="24" y="969"/>
                    <a:pt x="97" y="972"/>
                    <a:pt x="147" y="966"/>
                  </a:cubicBezTo>
                  <a:cubicBezTo>
                    <a:pt x="197" y="960"/>
                    <a:pt x="259" y="955"/>
                    <a:pt x="300" y="933"/>
                  </a:cubicBezTo>
                  <a:cubicBezTo>
                    <a:pt x="341" y="911"/>
                    <a:pt x="358" y="889"/>
                    <a:pt x="393" y="831"/>
                  </a:cubicBezTo>
                  <a:cubicBezTo>
                    <a:pt x="428" y="773"/>
                    <a:pt x="462" y="707"/>
                    <a:pt x="510" y="585"/>
                  </a:cubicBezTo>
                  <a:cubicBezTo>
                    <a:pt x="558" y="463"/>
                    <a:pt x="648" y="193"/>
                    <a:pt x="684" y="99"/>
                  </a:cubicBezTo>
                  <a:cubicBezTo>
                    <a:pt x="720" y="5"/>
                    <a:pt x="713" y="37"/>
                    <a:pt x="726" y="21"/>
                  </a:cubicBezTo>
                  <a:cubicBezTo>
                    <a:pt x="739" y="5"/>
                    <a:pt x="751" y="0"/>
                    <a:pt x="765" y="3"/>
                  </a:cubicBezTo>
                  <a:cubicBezTo>
                    <a:pt x="779" y="6"/>
                    <a:pt x="790" y="9"/>
                    <a:pt x="810" y="39"/>
                  </a:cubicBezTo>
                  <a:cubicBezTo>
                    <a:pt x="830" y="69"/>
                    <a:pt x="858" y="113"/>
                    <a:pt x="888" y="183"/>
                  </a:cubicBezTo>
                  <a:cubicBezTo>
                    <a:pt x="918" y="253"/>
                    <a:pt x="956" y="365"/>
                    <a:pt x="993" y="462"/>
                  </a:cubicBezTo>
                  <a:cubicBezTo>
                    <a:pt x="1030" y="559"/>
                    <a:pt x="1075" y="692"/>
                    <a:pt x="1113" y="765"/>
                  </a:cubicBezTo>
                  <a:cubicBezTo>
                    <a:pt x="1151" y="838"/>
                    <a:pt x="1190" y="869"/>
                    <a:pt x="1224" y="900"/>
                  </a:cubicBezTo>
                  <a:cubicBezTo>
                    <a:pt x="1258" y="931"/>
                    <a:pt x="1285" y="944"/>
                    <a:pt x="1320" y="954"/>
                  </a:cubicBezTo>
                  <a:cubicBezTo>
                    <a:pt x="1355" y="964"/>
                    <a:pt x="1402" y="962"/>
                    <a:pt x="1434" y="963"/>
                  </a:cubicBezTo>
                  <a:cubicBezTo>
                    <a:pt x="1466" y="964"/>
                    <a:pt x="1489" y="963"/>
                    <a:pt x="1512" y="96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2400480" y="3162240"/>
              <a:ext cx="352080" cy="152640"/>
              <a:chOff x="2400480" y="3162240"/>
              <a:chExt cx="352080" cy="152640"/>
            </a:xfrm>
          </p:grpSpPr>
          <p:sp>
            <p:nvSpPr>
              <p:cNvPr id="209" name=""/>
              <p:cNvSpPr/>
              <p:nvPr/>
            </p:nvSpPr>
            <p:spPr>
              <a:xfrm>
                <a:off x="2400480" y="3238560"/>
                <a:ext cx="35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749680" y="316224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1219320" y="3022560"/>
              <a:ext cx="1282680" cy="432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448000" y="2577960"/>
              <a:ext cx="352440" cy="152640"/>
              <a:chOff x="2448000" y="2577960"/>
              <a:chExt cx="352440" cy="152640"/>
            </a:xfrm>
          </p:grpSpPr>
          <p:sp>
            <p:nvSpPr>
              <p:cNvPr id="213" name=""/>
              <p:cNvSpPr/>
              <p:nvPr/>
            </p:nvSpPr>
            <p:spPr>
              <a:xfrm>
                <a:off x="2448000" y="2654280"/>
                <a:ext cx="35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97560" y="257796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219320" y="2438280"/>
              <a:ext cx="1336680" cy="432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19320" y="5305320"/>
              <a:ext cx="2585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43000" y="2451240"/>
              <a:ext cx="304920" cy="4158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11120" y="2438280"/>
              <a:ext cx="122220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fema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43000" y="3032280"/>
              <a:ext cx="304920" cy="41904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11120" y="3009960"/>
              <a:ext cx="97380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a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89640" y="1752480"/>
              <a:ext cx="174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Trivial effec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416480" y="1752480"/>
            <a:ext cx="3736800" cy="4191120"/>
            <a:chOff x="4416480" y="1752480"/>
            <a:chExt cx="3736800" cy="4191120"/>
          </a:xfrm>
        </p:grpSpPr>
        <p:sp>
          <p:nvSpPr>
            <p:cNvPr id="223" name=""/>
            <p:cNvSpPr/>
            <p:nvPr/>
          </p:nvSpPr>
          <p:spPr>
            <a:xfrm>
              <a:off x="4419720" y="2209680"/>
              <a:ext cx="3733560" cy="3733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60920" y="3657600"/>
              <a:ext cx="3276720" cy="163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27520" y="5356080"/>
              <a:ext cx="128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14920" y="3762360"/>
              <a:ext cx="2400120" cy="1542960"/>
            </a:xfrm>
            <a:custGeom>
              <a:avLst/>
              <a:gdLst/>
              <a:ahLst/>
              <a:rect l="l" t="t" r="r" b="b"/>
              <a:pathLst>
                <a:path w="1512" h="972">
                  <a:moveTo>
                    <a:pt x="0" y="969"/>
                  </a:moveTo>
                  <a:cubicBezTo>
                    <a:pt x="24" y="969"/>
                    <a:pt x="97" y="972"/>
                    <a:pt x="147" y="966"/>
                  </a:cubicBezTo>
                  <a:cubicBezTo>
                    <a:pt x="197" y="960"/>
                    <a:pt x="259" y="955"/>
                    <a:pt x="300" y="933"/>
                  </a:cubicBezTo>
                  <a:cubicBezTo>
                    <a:pt x="341" y="911"/>
                    <a:pt x="358" y="889"/>
                    <a:pt x="393" y="831"/>
                  </a:cubicBezTo>
                  <a:cubicBezTo>
                    <a:pt x="428" y="773"/>
                    <a:pt x="462" y="707"/>
                    <a:pt x="510" y="585"/>
                  </a:cubicBezTo>
                  <a:cubicBezTo>
                    <a:pt x="558" y="463"/>
                    <a:pt x="648" y="193"/>
                    <a:pt x="684" y="99"/>
                  </a:cubicBezTo>
                  <a:cubicBezTo>
                    <a:pt x="720" y="5"/>
                    <a:pt x="713" y="37"/>
                    <a:pt x="726" y="21"/>
                  </a:cubicBezTo>
                  <a:cubicBezTo>
                    <a:pt x="739" y="5"/>
                    <a:pt x="751" y="0"/>
                    <a:pt x="765" y="3"/>
                  </a:cubicBezTo>
                  <a:cubicBezTo>
                    <a:pt x="779" y="6"/>
                    <a:pt x="790" y="9"/>
                    <a:pt x="810" y="39"/>
                  </a:cubicBezTo>
                  <a:cubicBezTo>
                    <a:pt x="830" y="69"/>
                    <a:pt x="858" y="113"/>
                    <a:pt x="888" y="183"/>
                  </a:cubicBezTo>
                  <a:cubicBezTo>
                    <a:pt x="918" y="253"/>
                    <a:pt x="956" y="365"/>
                    <a:pt x="993" y="462"/>
                  </a:cubicBezTo>
                  <a:cubicBezTo>
                    <a:pt x="1030" y="559"/>
                    <a:pt x="1075" y="692"/>
                    <a:pt x="1113" y="765"/>
                  </a:cubicBezTo>
                  <a:cubicBezTo>
                    <a:pt x="1151" y="838"/>
                    <a:pt x="1190" y="869"/>
                    <a:pt x="1224" y="900"/>
                  </a:cubicBezTo>
                  <a:cubicBezTo>
                    <a:pt x="1258" y="931"/>
                    <a:pt x="1285" y="944"/>
                    <a:pt x="1320" y="954"/>
                  </a:cubicBezTo>
                  <a:cubicBezTo>
                    <a:pt x="1355" y="964"/>
                    <a:pt x="1402" y="962"/>
                    <a:pt x="1434" y="963"/>
                  </a:cubicBezTo>
                  <a:cubicBezTo>
                    <a:pt x="1466" y="964"/>
                    <a:pt x="1489" y="963"/>
                    <a:pt x="1512" y="963"/>
                  </a:cubicBezTo>
                </a:path>
              </a:pathLst>
            </a:custGeom>
            <a:noFill/>
            <a:ln w="2844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72000" y="3762360"/>
              <a:ext cx="2400480" cy="1542960"/>
            </a:xfrm>
            <a:custGeom>
              <a:avLst/>
              <a:gdLst/>
              <a:ahLst/>
              <a:rect l="l" t="t" r="r" b="b"/>
              <a:pathLst>
                <a:path w="1512" h="972">
                  <a:moveTo>
                    <a:pt x="0" y="969"/>
                  </a:moveTo>
                  <a:cubicBezTo>
                    <a:pt x="24" y="969"/>
                    <a:pt x="97" y="972"/>
                    <a:pt x="147" y="966"/>
                  </a:cubicBezTo>
                  <a:cubicBezTo>
                    <a:pt x="197" y="960"/>
                    <a:pt x="259" y="955"/>
                    <a:pt x="300" y="933"/>
                  </a:cubicBezTo>
                  <a:cubicBezTo>
                    <a:pt x="341" y="911"/>
                    <a:pt x="358" y="889"/>
                    <a:pt x="393" y="831"/>
                  </a:cubicBezTo>
                  <a:cubicBezTo>
                    <a:pt x="428" y="773"/>
                    <a:pt x="462" y="707"/>
                    <a:pt x="510" y="585"/>
                  </a:cubicBezTo>
                  <a:cubicBezTo>
                    <a:pt x="558" y="463"/>
                    <a:pt x="648" y="193"/>
                    <a:pt x="684" y="99"/>
                  </a:cubicBezTo>
                  <a:cubicBezTo>
                    <a:pt x="720" y="5"/>
                    <a:pt x="713" y="37"/>
                    <a:pt x="726" y="21"/>
                  </a:cubicBezTo>
                  <a:cubicBezTo>
                    <a:pt x="739" y="5"/>
                    <a:pt x="751" y="0"/>
                    <a:pt x="765" y="3"/>
                  </a:cubicBezTo>
                  <a:cubicBezTo>
                    <a:pt x="779" y="6"/>
                    <a:pt x="790" y="9"/>
                    <a:pt x="810" y="39"/>
                  </a:cubicBezTo>
                  <a:cubicBezTo>
                    <a:pt x="830" y="69"/>
                    <a:pt x="858" y="113"/>
                    <a:pt x="888" y="183"/>
                  </a:cubicBezTo>
                  <a:cubicBezTo>
                    <a:pt x="918" y="253"/>
                    <a:pt x="956" y="365"/>
                    <a:pt x="993" y="462"/>
                  </a:cubicBezTo>
                  <a:cubicBezTo>
                    <a:pt x="1030" y="559"/>
                    <a:pt x="1075" y="692"/>
                    <a:pt x="1113" y="765"/>
                  </a:cubicBezTo>
                  <a:cubicBezTo>
                    <a:pt x="1151" y="838"/>
                    <a:pt x="1190" y="869"/>
                    <a:pt x="1224" y="900"/>
                  </a:cubicBezTo>
                  <a:cubicBezTo>
                    <a:pt x="1258" y="931"/>
                    <a:pt x="1285" y="944"/>
                    <a:pt x="1320" y="954"/>
                  </a:cubicBezTo>
                  <a:cubicBezTo>
                    <a:pt x="1355" y="964"/>
                    <a:pt x="1402" y="962"/>
                    <a:pt x="1434" y="963"/>
                  </a:cubicBezTo>
                  <a:cubicBezTo>
                    <a:pt x="1466" y="964"/>
                    <a:pt x="1489" y="963"/>
                    <a:pt x="1512" y="96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5829480" y="3162240"/>
              <a:ext cx="352080" cy="152640"/>
              <a:chOff x="5829480" y="3162240"/>
              <a:chExt cx="352080" cy="152640"/>
            </a:xfrm>
          </p:grpSpPr>
          <p:sp>
            <p:nvSpPr>
              <p:cNvPr id="229" name=""/>
              <p:cNvSpPr/>
              <p:nvPr/>
            </p:nvSpPr>
            <p:spPr>
              <a:xfrm>
                <a:off x="5829480" y="3238560"/>
                <a:ext cx="35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178680" y="316224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4648320" y="3022560"/>
              <a:ext cx="1282680" cy="432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578640" y="2577960"/>
              <a:ext cx="352440" cy="152640"/>
              <a:chOff x="6578640" y="2577960"/>
              <a:chExt cx="352440" cy="152640"/>
            </a:xfrm>
          </p:grpSpPr>
          <p:sp>
            <p:nvSpPr>
              <p:cNvPr id="233" name=""/>
              <p:cNvSpPr/>
              <p:nvPr/>
            </p:nvSpPr>
            <p:spPr>
              <a:xfrm>
                <a:off x="6578640" y="2654280"/>
                <a:ext cx="35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28200" y="257796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4648320" y="2438280"/>
              <a:ext cx="2031840" cy="432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8320" y="5305320"/>
              <a:ext cx="328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72000" y="2451240"/>
              <a:ext cx="304920" cy="4158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40120" y="2438280"/>
              <a:ext cx="122220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fema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032280"/>
              <a:ext cx="304920" cy="41904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40120" y="3009960"/>
              <a:ext cx="97380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a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16480" y="1752480"/>
              <a:ext cx="2211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Very large effec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04920" y="75960"/>
            <a:ext cx="8610480" cy="65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raction or multiple of a standard deviation is known as th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effect-size statistic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(or Cohen's "d")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hen suggested </a:t>
            </a:r>
            <a:r>
              <a:rPr b="0" lang="en-US" sz="2600" spc="-1" strike="noStrike">
                <a:solidFill>
                  <a:srgbClr val="cc0066"/>
                </a:solidFill>
                <a:latin typeface="Arial Narrow"/>
              </a:rPr>
              <a:t>thresholds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for correlations and effect siz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Hopkins agrees with the thresholds for correlations but suggests others for the effect size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81240" y="2362320"/>
            <a:ext cx="8382240" cy="1756800"/>
            <a:chOff x="381240" y="2362320"/>
            <a:chExt cx="8382240" cy="1756800"/>
          </a:xfrm>
        </p:grpSpPr>
        <p:sp>
          <p:nvSpPr>
            <p:cNvPr id="244" name=""/>
            <p:cNvSpPr/>
            <p:nvPr/>
          </p:nvSpPr>
          <p:spPr>
            <a:xfrm>
              <a:off x="838080" y="3674880"/>
              <a:ext cx="373320" cy="44424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16000" y="3674880"/>
              <a:ext cx="1374840" cy="44424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19120" y="3684240"/>
              <a:ext cx="7909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trivi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90840" y="3674880"/>
              <a:ext cx="1373040" cy="444240"/>
            </a:xfrm>
            <a:prstGeom prst="rect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95760" y="3684240"/>
              <a:ext cx="765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sm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52720" y="3674880"/>
              <a:ext cx="1373400" cy="44424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34440" y="3684240"/>
              <a:ext cx="12085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mode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4960" y="3674880"/>
              <a:ext cx="1374840" cy="44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37160" y="3684240"/>
              <a:ext cx="7272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larg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76840" y="3674880"/>
              <a:ext cx="1374840" cy="4442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34800" y="3684240"/>
              <a:ext cx="12589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very larg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39080" y="3674880"/>
              <a:ext cx="669960" cy="4442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05760" y="3684240"/>
              <a:ext cx="4100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 Narrow"/>
                </a:rPr>
                <a:t>!!!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25160" y="307332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.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6880" y="307332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.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27320" y="307332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.5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87760" y="307332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.7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39800" y="3073320"/>
              <a:ext cx="3322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48200" y="307332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0.9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31200" y="3073320"/>
              <a:ext cx="3322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4720" y="3071520"/>
              <a:ext cx="12358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d60093"/>
                  </a:solidFill>
                  <a:latin typeface="Arial Narrow"/>
                </a:rPr>
                <a:t>Hopkins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1240" y="2362320"/>
              <a:ext cx="1653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orrel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5080" y="2750760"/>
              <a:ext cx="10548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33cc"/>
                  </a:solidFill>
                  <a:latin typeface="Arial Narrow"/>
                </a:rPr>
                <a:t>Cohe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26960" y="275076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33cc"/>
                  </a:solidFill>
                  <a:latin typeface="Arial Narrow"/>
                </a:rPr>
                <a:t>0.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68320" y="275076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33cc"/>
                  </a:solidFill>
                  <a:latin typeface="Arial Narrow"/>
                </a:rPr>
                <a:t>0.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928760" y="2750760"/>
              <a:ext cx="558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33cc"/>
                  </a:solidFill>
                  <a:latin typeface="Arial Narrow"/>
                </a:rPr>
                <a:t>0.5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41240" y="2750760"/>
              <a:ext cx="3322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33cc"/>
                  </a:solidFill>
                  <a:latin typeface="Arial Narrow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66960" y="3555720"/>
              <a:ext cx="765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181296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249228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85452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21496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57540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93764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8618400" y="3497040"/>
              <a:ext cx="0" cy="5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440" y="3674880"/>
              <a:ext cx="372960" cy="44424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81240" y="4232160"/>
            <a:ext cx="8390160" cy="1234080"/>
            <a:chOff x="381240" y="4232160"/>
            <a:chExt cx="8390160" cy="1234080"/>
          </a:xfrm>
        </p:grpSpPr>
        <p:sp>
          <p:nvSpPr>
            <p:cNvPr id="281" name=""/>
            <p:cNvSpPr/>
            <p:nvPr/>
          </p:nvSpPr>
          <p:spPr>
            <a:xfrm>
              <a:off x="961920" y="4232160"/>
              <a:ext cx="7655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0828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8760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4984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1028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7072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3260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13720" y="4232160"/>
              <a:ext cx="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381240" y="4316040"/>
              <a:ext cx="8390160" cy="1150200"/>
              <a:chOff x="381240" y="4316040"/>
              <a:chExt cx="8390160" cy="1150200"/>
            </a:xfrm>
          </p:grpSpPr>
          <p:sp>
            <p:nvSpPr>
              <p:cNvPr id="290" name=""/>
              <p:cNvSpPr/>
              <p:nvPr/>
            </p:nvSpPr>
            <p:spPr>
              <a:xfrm>
                <a:off x="2214360" y="498132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0.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14720" y="4981320"/>
                <a:ext cx="123588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Hopkins: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555720" y="498132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0.6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916160" y="498132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1.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287760" y="498132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2.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628640" y="4981320"/>
                <a:ext cx="33228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48200" y="498132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d60093"/>
                    </a:solidFill>
                    <a:latin typeface="Arial Narrow"/>
                  </a:rPr>
                  <a:t>4.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83600" y="4889160"/>
                <a:ext cx="4878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d60093"/>
                    </a:solidFill>
                    <a:latin typeface="Symbol"/>
                    <a:ea typeface="Symbol"/>
                  </a:rPr>
                  <a:t>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81240" y="4316040"/>
                <a:ext cx="15850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Effect Siz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214360" y="464328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33cc"/>
                    </a:solidFill>
                    <a:latin typeface="Arial Narrow"/>
                  </a:rPr>
                  <a:t>0.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95080" y="4643280"/>
                <a:ext cx="10548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33cc"/>
                    </a:solidFill>
                    <a:latin typeface="Arial Narrow"/>
                  </a:rPr>
                  <a:t>Cohen: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555720" y="464328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33cc"/>
                    </a:solidFill>
                    <a:latin typeface="Arial Narrow"/>
                  </a:rPr>
                  <a:t>0.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916160" y="4643280"/>
                <a:ext cx="5580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33cc"/>
                    </a:solidFill>
                    <a:latin typeface="Arial Narrow"/>
                  </a:rPr>
                  <a:t>0.8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28640" y="4643280"/>
                <a:ext cx="33228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33cc"/>
                    </a:solidFill>
                    <a:latin typeface="Arial Narrow"/>
                  </a:rPr>
                  <a:t>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>
            <a:off x="317520" y="56386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or studies of athletic performance, percent differences or changes in the mean are better than Cohen effect siz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82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del: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numeric vs nomina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(repeated measure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.g. strength vs tria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del or test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paired t test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(2 trial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repeated-measures ANOVA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with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one within-subject factor (&gt;2 trials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ffect statistics: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change in mean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expressed as raw change, percent change, or fraction of the pre standard deviation 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26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ther statistics: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"/>
              </a:spcBef>
              <a:buClr>
                <a:srgbClr val="cc0066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66"/>
                </a:solidFill>
                <a:latin typeface="Arial Narrow"/>
              </a:rPr>
              <a:t>within-subject standard deviation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(not visible on above plot)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= ty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pical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erro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r: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conve</a:t>
            </a:r>
            <a:r>
              <a:rPr b="0" lang="en-AU" sz="2500" spc="-1" strike="noStrike">
                <a:solidFill>
                  <a:srgbClr val="000000"/>
                </a:solidFill>
                <a:latin typeface="Arial Narrow"/>
              </a:rPr>
              <a:t>ys error of measurement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150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useful to gauge reliability, individual responses, and magnitude of effects (for measures of athletic performance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"/>
          <p:cNvSpPr/>
          <p:nvPr/>
        </p:nvSpPr>
        <p:spPr>
          <a:xfrm>
            <a:off x="5816520" y="533520"/>
            <a:ext cx="2895840" cy="2743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42200" y="703440"/>
            <a:ext cx="1168560" cy="169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63000" y="2487600"/>
            <a:ext cx="510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50320" y="2487600"/>
            <a:ext cx="61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7348680" y="2470320"/>
            <a:ext cx="1171440" cy="74160"/>
            <a:chOff x="7348680" y="2470320"/>
            <a:chExt cx="1171440" cy="74160"/>
          </a:xfrm>
        </p:grpSpPr>
        <p:sp>
          <p:nvSpPr>
            <p:cNvPr id="311" name=""/>
            <p:cNvSpPr/>
            <p:nvPr/>
          </p:nvSpPr>
          <p:spPr>
            <a:xfrm>
              <a:off x="7348680" y="2478600"/>
              <a:ext cx="1171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7510320" y="2470320"/>
              <a:ext cx="0" cy="7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8348400" y="2470320"/>
              <a:ext cx="0" cy="7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 flipV="1">
            <a:off x="7518240" y="1300320"/>
            <a:ext cx="825840" cy="514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7458120" y="1479240"/>
            <a:ext cx="98280" cy="352440"/>
            <a:chOff x="7458120" y="1479240"/>
            <a:chExt cx="98280" cy="352440"/>
          </a:xfrm>
        </p:grpSpPr>
        <p:sp>
          <p:nvSpPr>
            <p:cNvPr id="316" name=""/>
            <p:cNvSpPr/>
            <p:nvPr/>
          </p:nvSpPr>
          <p:spPr>
            <a:xfrm flipV="1">
              <a:off x="7507080" y="1479240"/>
              <a:ext cx="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58120" y="1479600"/>
              <a:ext cx="98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292960" y="799920"/>
            <a:ext cx="106560" cy="431640"/>
            <a:chOff x="8292960" y="799920"/>
            <a:chExt cx="106560" cy="431640"/>
          </a:xfrm>
        </p:grpSpPr>
        <p:sp>
          <p:nvSpPr>
            <p:cNvPr id="319" name=""/>
            <p:cNvSpPr/>
            <p:nvPr/>
          </p:nvSpPr>
          <p:spPr>
            <a:xfrm flipV="1">
              <a:off x="8345520" y="799920"/>
              <a:ext cx="0" cy="43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92960" y="800280"/>
              <a:ext cx="106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8255160" y="1227240"/>
            <a:ext cx="180720" cy="174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16720" y="1724040"/>
            <a:ext cx="181080" cy="174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21440" y="1371600"/>
            <a:ext cx="806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355680"/>
                <a:tab algn="l" pos="711360"/>
                <a:tab algn="l" pos="10796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182000" y="685440"/>
            <a:ext cx="80640" cy="1703160"/>
            <a:chOff x="7182000" y="685440"/>
            <a:chExt cx="80640" cy="1703160"/>
          </a:xfrm>
        </p:grpSpPr>
        <p:sp>
          <p:nvSpPr>
            <p:cNvPr id="325" name=""/>
            <p:cNvSpPr/>
            <p:nvPr/>
          </p:nvSpPr>
          <p:spPr>
            <a:xfrm flipH="1">
              <a:off x="7182000" y="2279520"/>
              <a:ext cx="8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7182000" y="1949400"/>
              <a:ext cx="8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182000" y="1601640"/>
              <a:ext cx="8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182000" y="1271520"/>
              <a:ext cx="8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182000" y="923760"/>
              <a:ext cx="8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7262640" y="685440"/>
              <a:ext cx="0" cy="170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7596360" y="2776680"/>
            <a:ext cx="583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458120" y="1822320"/>
            <a:ext cx="98280" cy="352440"/>
            <a:chOff x="7458120" y="1822320"/>
            <a:chExt cx="98280" cy="352440"/>
          </a:xfrm>
        </p:grpSpPr>
        <p:sp>
          <p:nvSpPr>
            <p:cNvPr id="333" name=""/>
            <p:cNvSpPr/>
            <p:nvPr/>
          </p:nvSpPr>
          <p:spPr>
            <a:xfrm>
              <a:off x="7507080" y="1822320"/>
              <a:ext cx="0" cy="35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458120" y="2174400"/>
              <a:ext cx="98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292960" y="1363680"/>
            <a:ext cx="106560" cy="431640"/>
            <a:chOff x="8292960" y="1363680"/>
            <a:chExt cx="106560" cy="431640"/>
          </a:xfrm>
        </p:grpSpPr>
        <p:sp>
          <p:nvSpPr>
            <p:cNvPr id="336" name=""/>
            <p:cNvSpPr/>
            <p:nvPr/>
          </p:nvSpPr>
          <p:spPr>
            <a:xfrm>
              <a:off x="8345520" y="1363680"/>
              <a:ext cx="0" cy="43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92960" y="1794960"/>
              <a:ext cx="106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9:26:03Z</dcterms:created>
  <dc:creator>Will Hopkins</dc:creator>
  <dc:description/>
  <dc:language>en-US</dc:language>
  <cp:lastModifiedBy>Reviewer Q</cp:lastModifiedBy>
  <cp:lastPrinted>2001-02-09T23:28:35Z</cp:lastPrinted>
  <dcterms:modified xsi:type="dcterms:W3CDTF">2002-10-27T20:44:50Z</dcterms:modified>
  <cp:revision>75</cp:revision>
  <dc:subject/>
  <dc:title>Quantitative data analysis</dc:title>
</cp:coreProperties>
</file>