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93D-6D3B-4362-812A-F44ED6E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382-1286-4950-BFEE-7F7AC7FB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C54-D1FD-42EA-8101-6A0A9920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1D1-8BB7-4E95-A993-186CA955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4229-A952-4CE8-A707-3F414B6E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3A14-AE33-4629-8268-5A37C02C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3C0-C48F-453C-AC9B-DC44619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6AFE-60DD-4CED-A77B-C8A930F7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8E90-B441-463F-BC8D-D8E66397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0CA8-94CC-43F0-8669-17C9FB7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FA2E-29A3-49F1-ACDD-D792D20B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0A9-E44E-49EE-9CD3-7FD2387A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BF88-8BA1-40EB-BAA1-26ADD23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6D13-9AF2-4873-BADB-CCEBC6B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0DB4-9C91-4575-A7A4-43131024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F515-5BEC-4BCB-8668-EC95AD01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F42B-8244-45ED-B40F-8812BD75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506-B499-470F-9EFD-E2387CC9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062-4216-4558-9D66-F4785B8C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6F0-87AC-4CA4-8686-A1A0142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D21-25D0-46C9-A3D1-4C71A7FE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B38-B1E9-4114-9E2C-A75DB0B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FB7-0F60-40A2-9CD6-2FB66C8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2B5-C699-4C69-8683-A4B7E1B3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9094-E3DB-4182-8E1E-016F14C60F16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1855-7A29-46A8-8D9A-BA00CA6EF25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8B64-D10A-49B2-A141-F58A9D486F40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5C6F-AF55-410A-A0DC-514FE6E40AA7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4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4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10.wmf"/><Relationship Id="rId3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4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0.wmf"/><Relationship Id="rId33" Type="http://schemas.openxmlformats.org/officeDocument/2006/relationships/image" Target="../media/image9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4.wmf"/><Relationship Id="rId3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DARI WARNET KE PUSAT PELAYANAN INFORMASI TERPADU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@unhas.ac.id     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18E8-47BC-4F0C-9A23-86EA62F4184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71F6CB1-D9DB-485F-B9AA-CC3D77D25E76}" type="datetime1">
              <a:rPr lang="en-US"/>
              <a:t>07/30/26</a:t>
            </a:fld>
          </a:p>
        </p:txBody>
      </p:sp>
    </p:spTree>
  </p:cSld>
  <p:transition spd="slow" advTm="3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4A15-7673-4B63-AAA4-73D5E5A1F2B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913ED4-A4CF-443B-9F0B-1FAE1EE90908}" type="datetime1">
              <a:rPr lang="en-US"/>
              <a:t>07/30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AD6-3588-42CA-AF93-A819B0A280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39E3A-E2B0-425C-BEB8-6AF1A57CC80F}" type="datetime1">
              <a:rPr lang="en-US"/>
              <a:t>07/30/26</a:t>
            </a:fld>
          </a:p>
        </p:txBody>
      </p:sp>
    </p:spTree>
  </p:cSld>
  <p:transition spd="slow" advTm="6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slow" advTm="6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43000" y="6840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40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493-0505-4BE3-B16F-DAB21D41366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5B33E-A6D6-44F2-9A90-9341BBAC89D8}" type="datetime1">
              <a:rPr lang="en-US"/>
              <a:t>07/30/26</a:t>
            </a:fld>
          </a:p>
        </p:txBody>
      </p:sp>
    </p:spTree>
  </p:cSld>
  <p:transition spd="slow" advTm="6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3660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5608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6792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791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Contoh: sekretaris, manajer, 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2438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755880"/>
            <a:ext cx="132264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Pengguna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990720"/>
            <a:ext cx="8305560" cy="4952520"/>
            <a:chOff x="838080" y="990720"/>
            <a:chExt cx="8305560" cy="4952520"/>
          </a:xfrm>
        </p:grpSpPr>
        <p:sp>
          <p:nvSpPr>
            <p:cNvPr id="133" name=""/>
            <p:cNvSpPr/>
            <p:nvPr/>
          </p:nvSpPr>
          <p:spPr>
            <a:xfrm>
              <a:off x="838080" y="990720"/>
              <a:ext cx="8305560" cy="49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1921320" y="4009680"/>
            <a:ext cx="542160" cy="71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1320" y="400968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4630320" y="2752560"/>
            <a:ext cx="1443960" cy="79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30320" y="2752560"/>
                      <a:ext cx="144396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2463480" y="4512960"/>
            <a:ext cx="721080" cy="30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63480" y="4512960"/>
                      <a:ext cx="72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6074280" y="990720"/>
            <a:ext cx="3008880" cy="1904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74280" y="990720"/>
                      <a:ext cx="3008880" cy="190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4991040" y="1493640"/>
            <a:ext cx="1979280" cy="185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91040" y="1493640"/>
                      <a:ext cx="197928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11"/>
            <a:stretch/>
          </p:blipFill>
          <p:spPr>
            <a:xfrm>
              <a:off x="3366720" y="1242360"/>
              <a:ext cx="885240" cy="23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2"/>
            <a:stretch/>
          </p:blipFill>
          <p:spPr>
            <a:xfrm>
              <a:off x="4268160" y="1998360"/>
              <a:ext cx="599760" cy="1576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6" name=""/>
            <p:cNvGraphicFramePr/>
            <p:nvPr/>
          </p:nvGraphicFramePr>
          <p:xfrm>
            <a:off x="2704680" y="4848840"/>
            <a:ext cx="721080" cy="304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04680" y="4848840"/>
                      <a:ext cx="72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6647760" y="4233600"/>
            <a:ext cx="722520" cy="304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47760" y="4233600"/>
                      <a:ext cx="7225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6814440" y="4566240"/>
            <a:ext cx="722520" cy="303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14440" y="4566240"/>
                      <a:ext cx="7225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1380240" y="4512960"/>
            <a:ext cx="540720" cy="71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380240" y="4512960"/>
                      <a:ext cx="540720" cy="71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101680" y="4658400"/>
            <a:ext cx="542160" cy="71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01680" y="465840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7480080" y="4233600"/>
            <a:ext cx="542160" cy="710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480080" y="423360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7063920" y="4899240"/>
            <a:ext cx="542160" cy="710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063920" y="4899240"/>
                      <a:ext cx="542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"/>
            <p:cNvGraphicFramePr/>
            <p:nvPr/>
          </p:nvGraphicFramePr>
          <p:xfrm>
            <a:off x="7729560" y="4982760"/>
            <a:ext cx="540720" cy="7106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729560" y="4982760"/>
                      <a:ext cx="54072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8312040" y="4399920"/>
            <a:ext cx="540720" cy="710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312040" y="4399920"/>
                      <a:ext cx="54072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1988640" y="3151440"/>
            <a:ext cx="1979280" cy="1858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988640" y="3151440"/>
                      <a:ext cx="1979280" cy="18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1156680" y="3900600"/>
              <a:ext cx="2495880" cy="199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98280" y="3817080"/>
              <a:ext cx="2745360" cy="2080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5649480" y="2818440"/>
            <a:ext cx="1979280" cy="18590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649480" y="2818440"/>
                      <a:ext cx="197928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403080" y="4566240"/>
              <a:ext cx="39103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WARNET-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02400" y="1236960"/>
              <a:ext cx="166392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Arial"/>
                </a:rPr>
                <a:t>ISP</a:t>
              </a:r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98280" y="1653120"/>
              <a:ext cx="266256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aeaea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 spd="slow" advTm="7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, masalah ketidak-seimbangan aliran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755880"/>
            <a:ext cx="132264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Pengguna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219320"/>
            <a:ext cx="830592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20960" y="4010040"/>
          <a:ext cx="5428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4010040"/>
                    <a:ext cx="542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63840" y="4513320"/>
          <a:ext cx="7207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4513320"/>
                    <a:ext cx="720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76720" y="1219320"/>
          <a:ext cx="3009960" cy="19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219320"/>
                    <a:ext cx="30099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705040" y="4849920"/>
          <a:ext cx="72072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5040" y="4849920"/>
                    <a:ext cx="7207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648480" y="4233960"/>
          <a:ext cx="72216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48480" y="4233960"/>
                    <a:ext cx="7221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15160" y="4567320"/>
          <a:ext cx="722160" cy="30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15160" y="4567320"/>
                    <a:ext cx="722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380960" y="4513320"/>
          <a:ext cx="540000" cy="71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80960" y="4513320"/>
                    <a:ext cx="540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101680" y="4659480"/>
          <a:ext cx="543240" cy="709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01680" y="4659480"/>
                    <a:ext cx="5432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7480440" y="4233960"/>
          <a:ext cx="542880" cy="71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80440" y="4233960"/>
                    <a:ext cx="542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064280" y="4898880"/>
          <a:ext cx="542880" cy="71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4280" y="4898880"/>
                    <a:ext cx="542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729560" y="4983120"/>
          <a:ext cx="541440" cy="71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29560" y="4983120"/>
                    <a:ext cx="5414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8312040" y="4400640"/>
          <a:ext cx="541440" cy="711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12040" y="4400640"/>
                    <a:ext cx="541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157400" y="3900600"/>
            <a:ext cx="2495520" cy="199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99360" y="3817800"/>
            <a:ext cx="2744640" cy="208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03440" y="4567320"/>
            <a:ext cx="39103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WARNET-WARN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828800"/>
            <a:ext cx="26622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7410000">
            <a:off x="2894760" y="2590560"/>
            <a:ext cx="1752840" cy="190476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476280 h 1904760"/>
              <a:gd name="textAreaBottom" fmla="*/ 1428840 h 1904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rot="13242000">
            <a:off x="5694120" y="2183760"/>
            <a:ext cx="1914480" cy="1904760"/>
          </a:xfrm>
          <a:custGeom>
            <a:avLst/>
            <a:gdLst>
              <a:gd name="textAreaLeft" fmla="*/ 299520 w 1914480"/>
              <a:gd name="textAreaRight" fmla="*/ 1675800 w 1914480"/>
              <a:gd name="textAreaTop" fmla="*/ 476280 h 1904760"/>
              <a:gd name="textAreaBottom" fmla="*/ 1428840 h 1904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38280" y="2362320"/>
            <a:ext cx="1067040" cy="1371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105160" y="2895480"/>
            <a:ext cx="1904760" cy="1371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RNET: http://www.nama_warnet.or.id/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73920" y="990720"/>
          <a:ext cx="300960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3920" y="990720"/>
                    <a:ext cx="30096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838080" y="1236600"/>
            <a:ext cx="8305920" cy="5011920"/>
            <a:chOff x="838080" y="1236600"/>
            <a:chExt cx="8305920" cy="5011920"/>
          </a:xfrm>
        </p:grpSpPr>
        <p:sp>
          <p:nvSpPr>
            <p:cNvPr id="216" name=""/>
            <p:cNvSpPr/>
            <p:nvPr/>
          </p:nvSpPr>
          <p:spPr>
            <a:xfrm>
              <a:off x="1066680" y="3755880"/>
              <a:ext cx="132264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Times New Roman"/>
                </a:rPr>
                <a:t>Pengguna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295280"/>
              <a:ext cx="8305920" cy="495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1920960" y="4010040"/>
            <a:ext cx="542880" cy="7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4010040"/>
                      <a:ext cx="542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4630680" y="2752560"/>
            <a:ext cx="1443240" cy="79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30680" y="2752560"/>
                      <a:ext cx="144324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2463840" y="4513320"/>
            <a:ext cx="720720" cy="30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63840" y="4513320"/>
                      <a:ext cx="7207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4991040" y="1494000"/>
            <a:ext cx="1979640" cy="18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91040" y="1494000"/>
                      <a:ext cx="1979640" cy="18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1371600" y="3048120"/>
              <a:ext cx="82404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4268880" y="1998720"/>
              <a:ext cx="598320" cy="1576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8" name=""/>
            <p:cNvGraphicFramePr/>
            <p:nvPr/>
          </p:nvGraphicFramePr>
          <p:xfrm>
            <a:off x="2705040" y="4849920"/>
            <a:ext cx="720720" cy="304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05040" y="4849920"/>
                      <a:ext cx="72072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6648480" y="4233960"/>
            <a:ext cx="722160" cy="304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48480" y="4233960"/>
                      <a:ext cx="7221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"/>
            <p:cNvGraphicFramePr/>
            <p:nvPr/>
          </p:nvGraphicFramePr>
          <p:xfrm>
            <a:off x="6815160" y="4567320"/>
            <a:ext cx="722160" cy="303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15160" y="4567320"/>
                      <a:ext cx="72216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"/>
            <p:cNvGraphicFramePr/>
            <p:nvPr/>
          </p:nvGraphicFramePr>
          <p:xfrm>
            <a:off x="1380960" y="4513320"/>
            <a:ext cx="540000" cy="712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380960" y="4513320"/>
                      <a:ext cx="54000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2101680" y="4659480"/>
            <a:ext cx="543240" cy="709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01680" y="4659480"/>
                      <a:ext cx="54324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7064280" y="4898880"/>
            <a:ext cx="542880" cy="711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64280" y="4898880"/>
                      <a:ext cx="542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7729560" y="4983120"/>
            <a:ext cx="541440" cy="7113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729560" y="4983120"/>
                      <a:ext cx="54144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312040" y="4400640"/>
            <a:ext cx="541440" cy="7110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8312040" y="4400640"/>
                      <a:ext cx="54144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1989000" y="2655720"/>
            <a:ext cx="2506680" cy="23544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989000" y="2655720"/>
                      <a:ext cx="2506680" cy="23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1157400" y="3900600"/>
              <a:ext cx="2495520" cy="199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47" name=""/>
            <p:cNvGraphicFramePr/>
            <p:nvPr/>
          </p:nvGraphicFramePr>
          <p:xfrm>
            <a:off x="5649840" y="2817720"/>
            <a:ext cx="1979640" cy="1860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649840" y="2817720"/>
                      <a:ext cx="1979640" cy="18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3403440" y="4191120"/>
              <a:ext cx="200664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-WARNET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02040" y="1236600"/>
              <a:ext cx="166356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Arial"/>
                </a:rPr>
                <a:t>ISP</a:t>
              </a:r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99360" y="1652760"/>
              <a:ext cx="26622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eaeaea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3"/>
            <a:stretch/>
          </p:blipFill>
          <p:spPr>
            <a:xfrm>
              <a:off x="7391520" y="3048120"/>
              <a:ext cx="8236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219320" y="1600200"/>
              <a:ext cx="228600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web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mail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proxy 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file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4038480"/>
              <a:ext cx="228600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web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mail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proxy 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marL="349200" indent="-349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ahoma"/>
                </a:rPr>
                <a:t>file-server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99360" y="3817800"/>
              <a:ext cx="2744640" cy="208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56" name=""/>
            <p:cNvGraphicFramePr/>
            <p:nvPr/>
          </p:nvGraphicFramePr>
          <p:xfrm>
            <a:off x="7480440" y="4233960"/>
            <a:ext cx="542880" cy="71100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480440" y="4233960"/>
                      <a:ext cx="54288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 advTm="7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sat Pelayanan Informasi Terpadu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bayaran telepon, listrik, air minum, PBB, perpanjangan STNK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aksi per-bank-an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lsa isi ulang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, SMS, MM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untuk yang tidak bawa HP,misalnya)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perjalanan pesawat, kapal laut, bus, kereta api,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ticketing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ervasi hotel, penginapan restoran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atkabar, Radio, Televisi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ko Buku dan Perpustakaan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, e-boo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olah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D, SMP, SMU, Universitas Terbuka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on-line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e-learning………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DCE-F58C-46BC-9232-3B4BFA6FBA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72FC2-ADD6-48C0-A506-CA3AF11F7E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6-12T15:27:27Z</dcterms:modified>
  <cp:revision>93</cp:revision>
  <dc:subject/>
  <dc:title>PowerPoint Presentation</dc:title>
</cp:coreProperties>
</file>